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61.xml" ContentType="application/vnd.openxmlformats-officedocument.theme+xml"/>
  <Override PartName="/ppt/theme/theme19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type.wav" ContentType="audio/x-wav"/>
  <Override PartName="/ppt/media/image6.jpeg" ContentType="image/jpeg"/>
  <Override PartName="/ppt/media/image19.jpeg" ContentType="image/jpeg"/>
  <Override PartName="/ppt/media/image17.wmf" ContentType="image/x-wmf"/>
  <Override PartName="/ppt/media/image14.wmf" ContentType="image/x-wmf"/>
  <Override PartName="/ppt/media/image53.png" ContentType="image/png"/>
  <Override PartName="/ppt/media/image23.wmf" ContentType="image/x-wmf"/>
  <Override PartName="/ppt/media/image9.jpeg" ContentType="image/jpeg"/>
  <Override PartName="/ppt/media/image5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38.wmf" ContentType="image/x-wmf"/>
  <Override PartName="/ppt/media/image20.wmf" ContentType="image/x-wmf"/>
  <Override PartName="/ppt/media/image18.wmf" ContentType="image/x-wmf"/>
  <Override PartName="/ppt/media/image5.jpeg" ContentType="image/jpeg"/>
  <Override PartName="/ppt/media/image48.wmf" ContentType="image/x-wmf"/>
  <Override PartName="/ppt/media/image11.gif" ContentType="image/gif"/>
  <Override PartName="/ppt/media/image44.wmf" ContentType="image/x-wmf"/>
  <Override PartName="/ppt/media/image16.jpeg" ContentType="image/jpeg"/>
  <Override PartName="/ppt/media/image35.wmf" ContentType="image/x-wmf"/>
  <Override PartName="/ppt/media/TYPE.WAV" ContentType="audio/x-wav"/>
  <Override PartName="/ppt/media/image13.gif" ContentType="image/gif"/>
  <Override PartName="/ppt/media/image34.wmf" ContentType="image/x-wmf"/>
  <Override PartName="/ppt/media/image36.wmf" ContentType="image/x-wmf"/>
  <Override PartName="/ppt/media/image39.wmf" ContentType="image/x-wmf"/>
  <Override PartName="/ppt/media/image42.png" ContentType="image/png"/>
  <Override PartName="/ppt/media/image33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29.wmf" ContentType="image/x-wmf"/>
  <Override PartName="/ppt/media/image47.wmf" ContentType="image/x-wmf"/>
  <Override PartName="/ppt/media/image37.wmf" ContentType="image/x-wmf"/>
  <Override PartName="/ppt/media/image49.wmf" ContentType="image/x-wmf"/>
  <Override PartName="/ppt/media/image52.png" ContentType="image/png"/>
  <Override PartName="/ppt/media/image43.png" ContentType="image/png"/>
  <Override PartName="/ppt/media/image55.png" ContentType="image/png"/>
  <Override PartName="/ppt/media/image30.wmf" ContentType="image/x-wmf"/>
  <Override PartName="/ppt/media/image28.wmf" ContentType="image/x-wmf"/>
  <Override PartName="/ppt/media/image41.wmf" ContentType="image/x-wmf"/>
  <Override PartName="/ppt/media/image8.jpeg" ContentType="image/jpeg"/>
  <Override PartName="/ppt/media/image10.jpeg" ContentType="image/jpeg"/>
  <Override PartName="/ppt/media/image56.gif" ContentType="image/gif"/>
  <Override PartName="/ppt/media/image12.png" ContentType="image/png"/>
  <Override PartName="/ppt/media/chimes.wav" ContentType="audio/x-wav"/>
  <Override PartName="/ppt/media/image32.wmf" ContentType="image/x-wmf"/>
  <Override PartName="/ppt/media/image40.wmf" ContentType="image/x-wmf"/>
  <Override PartName="/ppt/media/image7.png" ContentType="image/png"/>
  <Override PartName="/ppt/media/image15.wmf" ContentType="image/x-wmf"/>
  <Override PartName="/ppt/media/image50.wmf" ContentType="image/x-wmf"/>
  <Override PartName="/ppt/media/image1.jpeg" ContentType="image/jpeg"/>
  <Override PartName="/ppt/media/image54.gif" ContentType="image/gi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</p:sldMasterIdLst>
  <p:notesMasterIdLst>
    <p:notesMasterId r:id="rId82"/>
  </p:notesMasterIdLst>
  <p:sldIdLst>
    <p:sldId id="256" r:id="rId83"/>
    <p:sldId id="257" r:id="rId84"/>
    <p:sldId id="258" r:id="rId85"/>
    <p:sldId id="259" r:id="rId86"/>
    <p:sldId id="260" r:id="rId87"/>
    <p:sldId id="261" r:id="rId88"/>
    <p:sldId id="262" r:id="rId89"/>
    <p:sldId id="263" r:id="rId90"/>
    <p:sldId id="264" r:id="rId91"/>
    <p:sldId id="265" r:id="rId92"/>
    <p:sldId id="266" r:id="rId93"/>
    <p:sldId id="267" r:id="rId94"/>
    <p:sldId id="268" r:id="rId95"/>
    <p:sldId id="269" r:id="rId96"/>
    <p:sldId id="270" r:id="rId97"/>
    <p:sldId id="271" r:id="rId98"/>
    <p:sldId id="272" r:id="rId99"/>
    <p:sldId id="273" r:id="rId100"/>
    <p:sldId id="274" r:id="rId101"/>
    <p:sldId id="275" r:id="rId102"/>
    <p:sldId id="276" r:id="rId103"/>
    <p:sldId id="277" r:id="rId104"/>
    <p:sldId id="278" r:id="rId105"/>
    <p:sldId id="279" r:id="rId106"/>
    <p:sldId id="280" r:id="rId107"/>
    <p:sldId id="281" r:id="rId108"/>
    <p:sldId id="282" r:id="rId109"/>
    <p:sldId id="283" r:id="rId110"/>
    <p:sldId id="284" r:id="rId111"/>
    <p:sldId id="285" r:id="rId112"/>
    <p:sldId id="286" r:id="rId113"/>
    <p:sldId id="287" r:id="rId114"/>
    <p:sldId id="288" r:id="rId115"/>
    <p:sldId id="289" r:id="rId116"/>
    <p:sldId id="290" r:id="rId117"/>
    <p:sldId id="291" r:id="rId118"/>
    <p:sldId id="292" r:id="rId119"/>
    <p:sldId id="293" r:id="rId120"/>
    <p:sldId id="294" r:id="rId121"/>
    <p:sldId id="295" r:id="rId122"/>
    <p:sldId id="296" r:id="rId123"/>
    <p:sldId id="297" r:id="rId124"/>
    <p:sldId id="298" r:id="rId125"/>
    <p:sldId id="299" r:id="rId126"/>
    <p:sldId id="300" r:id="rId127"/>
    <p:sldId id="301" r:id="rId128"/>
    <p:sldId id="302" r:id="rId129"/>
    <p:sldId id="303" r:id="rId1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notesMaster" Target="notesMasters/notesMaster1.xml"/><Relationship Id="rId83" Type="http://schemas.openxmlformats.org/officeDocument/2006/relationships/slide" Target="slides/slide1.xml"/><Relationship Id="rId84" Type="http://schemas.openxmlformats.org/officeDocument/2006/relationships/slide" Target="slides/slide2.xml"/><Relationship Id="rId85" Type="http://schemas.openxmlformats.org/officeDocument/2006/relationships/slide" Target="slides/slide3.xml"/><Relationship Id="rId86" Type="http://schemas.openxmlformats.org/officeDocument/2006/relationships/slide" Target="slides/slide4.xml"/><Relationship Id="rId87" Type="http://schemas.openxmlformats.org/officeDocument/2006/relationships/slide" Target="slides/slide5.xml"/><Relationship Id="rId88" Type="http://schemas.openxmlformats.org/officeDocument/2006/relationships/slide" Target="slides/slide6.xml"/><Relationship Id="rId89" Type="http://schemas.openxmlformats.org/officeDocument/2006/relationships/slide" Target="slides/slide7.xml"/><Relationship Id="rId90" Type="http://schemas.openxmlformats.org/officeDocument/2006/relationships/slide" Target="slides/slide8.xml"/><Relationship Id="rId91" Type="http://schemas.openxmlformats.org/officeDocument/2006/relationships/slide" Target="slides/slide9.xml"/><Relationship Id="rId92" Type="http://schemas.openxmlformats.org/officeDocument/2006/relationships/slide" Target="slides/slide10.xml"/><Relationship Id="rId93" Type="http://schemas.openxmlformats.org/officeDocument/2006/relationships/slide" Target="slides/slide11.xml"/><Relationship Id="rId94" Type="http://schemas.openxmlformats.org/officeDocument/2006/relationships/slide" Target="slides/slide12.xml"/><Relationship Id="rId95" Type="http://schemas.openxmlformats.org/officeDocument/2006/relationships/slide" Target="slides/slide13.xml"/><Relationship Id="rId96" Type="http://schemas.openxmlformats.org/officeDocument/2006/relationships/slide" Target="slides/slide14.xml"/><Relationship Id="rId97" Type="http://schemas.openxmlformats.org/officeDocument/2006/relationships/slide" Target="slides/slide15.xml"/><Relationship Id="rId98" Type="http://schemas.openxmlformats.org/officeDocument/2006/relationships/slide" Target="slides/slide16.xml"/><Relationship Id="rId99" Type="http://schemas.openxmlformats.org/officeDocument/2006/relationships/slide" Target="slides/slide17.xml"/><Relationship Id="rId100" Type="http://schemas.openxmlformats.org/officeDocument/2006/relationships/slide" Target="slides/slide18.xml"/><Relationship Id="rId101" Type="http://schemas.openxmlformats.org/officeDocument/2006/relationships/slide" Target="slides/slide19.xml"/><Relationship Id="rId102" Type="http://schemas.openxmlformats.org/officeDocument/2006/relationships/slide" Target="slides/slide20.xml"/><Relationship Id="rId103" Type="http://schemas.openxmlformats.org/officeDocument/2006/relationships/slide" Target="slides/slide21.xml"/><Relationship Id="rId104" Type="http://schemas.openxmlformats.org/officeDocument/2006/relationships/slide" Target="slides/slide22.xml"/><Relationship Id="rId105" Type="http://schemas.openxmlformats.org/officeDocument/2006/relationships/slide" Target="slides/slide23.xml"/><Relationship Id="rId106" Type="http://schemas.openxmlformats.org/officeDocument/2006/relationships/slide" Target="slides/slide24.xml"/><Relationship Id="rId107" Type="http://schemas.openxmlformats.org/officeDocument/2006/relationships/slide" Target="slides/slide25.xml"/><Relationship Id="rId108" Type="http://schemas.openxmlformats.org/officeDocument/2006/relationships/slide" Target="slides/slide26.xml"/><Relationship Id="rId109" Type="http://schemas.openxmlformats.org/officeDocument/2006/relationships/slide" Target="slides/slide27.xml"/><Relationship Id="rId110" Type="http://schemas.openxmlformats.org/officeDocument/2006/relationships/slide" Target="slides/slide28.xml"/><Relationship Id="rId111" Type="http://schemas.openxmlformats.org/officeDocument/2006/relationships/slide" Target="slides/slide29.xml"/><Relationship Id="rId112" Type="http://schemas.openxmlformats.org/officeDocument/2006/relationships/slide" Target="slides/slide30.xml"/><Relationship Id="rId113" Type="http://schemas.openxmlformats.org/officeDocument/2006/relationships/slide" Target="slides/slide31.xml"/><Relationship Id="rId114" Type="http://schemas.openxmlformats.org/officeDocument/2006/relationships/slide" Target="slides/slide32.xml"/><Relationship Id="rId115" Type="http://schemas.openxmlformats.org/officeDocument/2006/relationships/slide" Target="slides/slide33.xml"/><Relationship Id="rId116" Type="http://schemas.openxmlformats.org/officeDocument/2006/relationships/slide" Target="slides/slide34.xml"/><Relationship Id="rId117" Type="http://schemas.openxmlformats.org/officeDocument/2006/relationships/slide" Target="slides/slide35.xml"/><Relationship Id="rId118" Type="http://schemas.openxmlformats.org/officeDocument/2006/relationships/slide" Target="slides/slide36.xml"/><Relationship Id="rId119" Type="http://schemas.openxmlformats.org/officeDocument/2006/relationships/slide" Target="slides/slide37.xml"/><Relationship Id="rId120" Type="http://schemas.openxmlformats.org/officeDocument/2006/relationships/slide" Target="slides/slide38.xml"/><Relationship Id="rId121" Type="http://schemas.openxmlformats.org/officeDocument/2006/relationships/slide" Target="slides/slide39.xml"/><Relationship Id="rId122" Type="http://schemas.openxmlformats.org/officeDocument/2006/relationships/slide" Target="slides/slide40.xml"/><Relationship Id="rId123" Type="http://schemas.openxmlformats.org/officeDocument/2006/relationships/slide" Target="slides/slide41.xml"/><Relationship Id="rId124" Type="http://schemas.openxmlformats.org/officeDocument/2006/relationships/slide" Target="slides/slide42.xml"/><Relationship Id="rId125" Type="http://schemas.openxmlformats.org/officeDocument/2006/relationships/slide" Target="slides/slide43.xml"/><Relationship Id="rId126" Type="http://schemas.openxmlformats.org/officeDocument/2006/relationships/slide" Target="slides/slide44.xml"/><Relationship Id="rId127" Type="http://schemas.openxmlformats.org/officeDocument/2006/relationships/slide" Target="slides/slide45.xml"/><Relationship Id="rId128" Type="http://schemas.openxmlformats.org/officeDocument/2006/relationships/slide" Target="slides/slide46.xml"/><Relationship Id="rId129" Type="http://schemas.openxmlformats.org/officeDocument/2006/relationships/slide" Target="slides/slide47.xml"/><Relationship Id="rId130" Type="http://schemas.openxmlformats.org/officeDocument/2006/relationships/slide" Target="slides/slide48.xml"/><Relationship Id="rId1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4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dt" idx="241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ftr" idx="242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PlaceHolder 6"/>
          <p:cNvSpPr>
            <a:spLocks noGrp="1"/>
          </p:cNvSpPr>
          <p:nvPr>
            <p:ph type="sldNum" idx="243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4581-B871-4C27-949D-BD681F32343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qyxk.net/" TargetMode="Externa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B45B-9CFB-4630-90D4-4DDBC0C25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DE88-2A8E-4237-B522-02C431B2CF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A816-EEF9-442E-9AF1-CFD74E516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59F2-A207-44FB-BB29-714A0CF4C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E5F9-5967-4093-8D64-29B2186BC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QYXK.n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学数学网（群英学科）收集提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B5E-A5F2-42A1-AB91-4BF293B9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C51E-14D6-4310-A840-084E1314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59913-A322-49C8-B46B-5E6F46F2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07577-40E6-4BD4-9DFF-515DE50A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67A18-74AB-4797-B473-84BD5D90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3F7E5-49C6-4F0C-A844-CDDB3F3C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4F2C0-869A-44E3-A589-CC71FCDB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DE5B7-B9A6-4BB6-8DE6-F8ACF00E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081F4-6562-43E7-A32A-703C0C91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F2F8E-3BE3-488C-AC3E-792A28DB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97A2B-DA32-4A3D-A49D-FCA892A1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868EC-CFF7-4708-AFE5-C33F2A1D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36F-9DD9-438B-B70F-28461E2B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2C795-9A18-4F14-96BC-BD6222E6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5E863-357C-4BCC-A0FD-6F7B6DDC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8B276-4127-4DF6-B12B-25DC9780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45585-B3F2-4D7A-AECE-1BACB4A8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14F28-9709-41F6-80DD-CC0DB905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029FD-6409-4AF6-8508-5F64CC44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5C04C-03F5-4C2E-9C2B-4C8A4271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0A1BA-8798-4C3E-AFB4-EF4AE2B4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CC84A-132F-4045-954D-C507920B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CB25A-982F-4E85-A17C-991D61D0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6A33-F112-44AC-8A8D-1ECB9EBF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D3D55-FBFF-4D05-8186-B02A36E0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DFAC5-1FE2-4A85-A969-61770EB8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E1968-2279-4F19-92E5-FEF52547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C8EA1-4DF4-48A0-BF9C-F44DCE9F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7736A-3A1A-45C0-AFED-8994E3A6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95353-2F75-4ADC-A919-DAF56FF2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2CF99-F53E-430F-9E35-102E3DFF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93E6D-0E36-4607-9AAB-94D73B83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C4066-87A4-4E79-BB90-231FE93A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05AC2-AC34-4426-9F7B-B7355B55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CF3C-28A0-471B-B06B-C81059DA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FC5AA-048C-497E-ABFC-79EEC992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2F341-F068-410A-B50E-85C39236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6907F-71EA-413A-9AA4-8B672262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403A0-E465-41FE-9E9C-43AE9B6F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1C6CB-1F5D-4627-AF99-009FD78A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69737-49C7-4E45-8D01-F4259B90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FAEDF-E8AD-436F-940F-8014D1F0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5D713-159E-4BCE-B4E2-7E4DCB7A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28037-E6C3-416E-AB0E-1FD3353A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77DD5-BD62-4A60-ADEB-93D03443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C4A0-6A7A-4AE6-8296-538BB44B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4F6E9-2B55-4DD2-BC82-6C771F8D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B6C47-0168-4070-BA49-8B7245D6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D5327-6734-4CE2-A271-5B2380C2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58305-7A9B-4E76-8EDC-82C6532E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13B6E-BC98-4F03-A62F-FE3699C2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0197E-B892-4305-B19B-0E914E01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2AE71-2702-4855-9B12-E65C1196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D2689-959E-4DEB-A6D4-61198C68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C80F7-C43E-49A1-9C3F-3B792EB8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B3B82-7C4B-4390-B0EA-538D7D08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2067-353D-4BF7-A891-90C91FE9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F639DC-DC9A-414F-AFE8-F4A2F0C3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7FF4F-2E4E-4E40-BAAE-33C7F2D7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2DEC9-6B1B-411A-8C2E-0FF1C82F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CF39E-EF18-438B-A461-37F4B114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6E06B-CD15-45C1-98B0-52238673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D766C-6BDB-45D1-81F2-E6C5A7DA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6A835-85CD-47F6-8861-FF42DAAF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9B113A-F25D-42C6-8AC3-A7920CBC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C88BD-71C7-449E-989A-82ACE481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13A14-0743-47EF-946B-3975A4C3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6ACB-06BB-4EBB-993A-13EAE2EE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B21088-A674-41CE-848D-96E5E79C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4A624E-D4D5-4CFB-BD08-C599F82B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24D18E-8136-4AC9-8F0E-69F344D1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B9B890-AD8F-4488-988F-6578301F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E3330D-DFE2-4429-B066-7D6C94E2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761B32-77E9-4AE6-8091-1FB1AE20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C5E5FA-D061-4AA7-8444-819CD6DC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9F93D-1A7B-4039-BA5D-73E88708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24BDFA-D25E-4414-A0B5-FDEF0868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E8C367-4755-4DC1-B98F-36647C5B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C5D6-7D3B-4A43-B3DD-028792DE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611FC4-0B64-4DFF-8766-2395A47A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D44794-A61C-492A-AADA-59F425E9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9613F8-F71F-4ADB-AECC-9ACA75C4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47BEDE-A52D-48DB-BD3F-417B927E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6BF72D-902C-4273-A115-1D887B4F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5BD732-B219-4AD3-8D1E-662520FB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5DCAF9-7F60-417D-8C57-9A2F30AE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DB27FD-8EC0-482F-A112-3429AC10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34FAD-F984-47FE-97E9-058FE5DF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C393C-C5CC-4532-82AD-89CF3F85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34B8-FE6E-48B7-87FF-72ABE8BD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E2CEF5-BF45-4C94-A174-D996F80E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7972A9-4E23-46E0-8482-FDC9CCCB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3A9F16-983A-458A-96A7-3DF92317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0662E5-1C2B-4F3B-93F3-3F5D29CC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931B6E-38E2-4CCB-84AB-A9872D35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BC1B5-F47F-483A-8010-FCE91A63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4B7160-AACC-4A9E-BFB0-7E66A203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069229-0252-4178-9325-98B690E9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499CBB-D95C-499C-A30E-D89F6DFB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4C54D0-084F-4EC7-BC75-E940AE24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0792-00F4-4980-9345-E22EB5FA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1E02A-EA87-49A0-8FCC-C8126F57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51EDD3-5247-455D-86CE-8D80BD12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1D90F0-38F3-4B34-9B10-A9EA0DA9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4345C-1118-4EB9-81B4-B7A5B328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6B7B5E-9A45-4671-B9BD-B834B41A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E9A22E-FE1B-475D-AA0B-7F9FFBF4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BB5EB4-B3E9-45E8-BE3A-BD77AD3C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D16D42-647C-4033-9DE1-4AE2BD80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DCBABE-CF36-4947-9974-4CAF3074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6F1EF4-A9F2-44A7-AA0F-9852C431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1EB-C33F-46BE-AAE4-AA1725E3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6300-9058-4860-91AB-F0B58667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9E9667-0C5E-4106-B316-777B1B9F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937D52-E772-41D9-8C24-D829310A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1DA196-1708-4969-8D2D-0070B2EB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AC04C0-0BAB-4031-86CF-C2E9CAAA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1DC305-3BB2-4557-9675-B986C8FD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C74233-83D5-4992-AE77-B4EC7C16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A3B3DE-B322-4DF5-8672-FB6DE361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F63A19-9ABB-442D-BD48-D6D762E4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7F0341-FD66-48FC-8FA2-6D6B423A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262077-FF4C-4CD6-ADE5-53F3E130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80E7-8E96-4AB6-A5C6-9E5C8D07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E17EF5-49E2-4699-AF21-1D50D426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3A9814-C275-476B-A7A6-789A7ECC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267C0D-C581-4C3C-B536-FD3A0615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1AB988-317E-4754-A534-C3EB46FE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F4792F-196F-4D64-B377-0133946C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55CFE5-9E4A-4693-A3B7-4741CD6C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84B49B-22A9-4543-B12D-0BC2AF76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4A94EA-F172-4D5D-A91D-527C533E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18AC7F-E369-4C43-8621-FE036A43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6C5133-1C3B-49C5-B84E-BC8CBD87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9FFD-0D70-467E-B489-C86A6070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5008EC-3397-469F-893A-045CBC95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624B8A-6963-483C-84AF-E5F0BE5E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871DDC-B3F7-43EC-9644-7DD71F11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8E6FB2-6F04-4B02-98E9-471C4DB2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F40EC2-8271-43C2-A9C9-F8F102F6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DFA1BD-99BC-4B61-B9E0-68BE20CA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9F1BA3-A3C6-4C2C-8F31-953ED134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BFD1F1-7FAC-47C8-B65F-5401DCBE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F027B2-F883-4A20-951E-FC7EE97B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FFCAFD-5499-4133-B6F0-0A9F2942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739E-2F4F-4ADF-906E-E4A9B89D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362CF7-A8E7-4979-AB03-9EDFBD00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8B6B1E-B0BE-4038-A13B-632759E3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9A31D4-FDBC-4946-AFC0-51C4C692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7CE986-162A-41E5-8CC0-699477B3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1F931F-1070-4057-AC9E-4F17604D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76051E-4DEC-457E-9B52-36483241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2707C4-3964-482F-94CD-4B90A3EB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FBF9CF-1913-4D84-961C-DA849928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992602-EB9D-4A57-99FE-04497D27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74F90E-9A95-4038-83E9-221EE1BA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187C-B2F0-4B09-A815-6F89F67C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311A87-46B8-4B86-9212-668B0EA3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D1CE33-DC81-42FD-B5CC-D5BBB9EC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8D695F-FF24-4595-BB66-4DA8DC2D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68971E-8DC2-4683-8C36-01DFF2D5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31C4E2-72A8-4BFF-BAC0-59576CB1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579881-5F82-483E-B085-61799D78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B7FB1F-356D-45AE-A75D-A042AADB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BBD614-CFBB-41CA-A7F4-B25A9692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C46619-B202-459F-96B7-F5348D9D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FDE536-FDB3-4B42-95CB-9DCCA553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81799-4CBC-41B4-A18D-86489108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D7658F-19D1-4919-B62E-7C61A4B2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646E38-5942-453A-B1A8-E7E9939B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19C63A-B6EC-4385-835D-684E482A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82FC22-F1D5-4863-A6D2-9CE30AB4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872513-200D-4B55-88C5-9F61FC65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5DEA1C-DF28-441C-B75E-D56FE979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C7C4D6-16FA-4396-8D55-95E985BD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ACF8BC-22CE-4333-A7D2-D736FBD9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FD0947-D985-429F-B2FA-31A662F9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4D2B94-A9E0-40EE-9BDA-3BB55A80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D01BB-8AC3-4C53-BC7B-59B451CA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A235B9-AC16-4538-93F4-F8B7B045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0D7CBE-2E67-4556-AD53-B55F1772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0BEA2A-7387-4FCB-B506-D93EFD97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099CA2-26FE-419B-BD36-34967BB6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D88D72-783E-4DEB-863C-09814BF3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E53881-B942-4049-A0A8-630709C8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3B1250-54AC-41AA-B6C1-362D9E4A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A54249-E12A-435A-9E74-2979DDF9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30E3D5-5370-4ADE-887D-95E5087D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D46B23-EF11-44CE-8B32-5E4A89DF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69758-0AA2-44FE-9BB1-882EEE2C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BDEBF2-0C73-4917-8ECE-5315CFD8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80EED7-70AD-498A-8113-942C79DE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3EB36B-2BA3-4D31-BAF8-404441F1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774988-89A1-411B-AE6B-B6D5C427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B0B505-A17C-498F-A413-DAA3D0B1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EC8C09-1A9D-45F0-9118-2A537591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27908B-B29F-4A4C-A6E3-4A95FAED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D6099C-B146-4B04-8B4B-89C1E4B7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BDADD7-46EA-45E1-95C5-B2926F46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F2C43C-0DB3-42A5-B866-A2D73F5C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83F71-DE8B-4CF6-9123-A956871E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2BF7BA-BFD6-4BA8-986E-6B18B0F7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0E4961-8295-491E-82F9-B3748789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F73A78-4C98-4360-B42A-9C081500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A287A1-3C9F-4FE4-B49C-B7024A9C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7E054D-55E5-4754-B083-A729CCE7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78A871-693A-4CD0-9C5C-159E8C56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C5ACAF-5CDA-48CC-9133-C7CC81B9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0EC39E-62A1-4F23-8548-1E0AA78B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B12A3E-AD98-490D-A62F-E2B155C7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C82AED-8FCE-4FB5-B74D-62FA82CB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3F442-9AAD-404A-BE9C-1127E3C6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76DF6A-6CB4-45C7-BDBF-CB0AFC72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0EA4B1-B815-4ABD-AA53-09B4D412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F647F8-C420-4E64-A4B0-8E05CECA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75CD70-1BC2-4CBD-99B8-15D53987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8E01E9-737F-4389-8CB3-1A0E1500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730814-A2D0-40F6-ADB8-82EDA160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C91F7C-6C7C-41E6-A217-78A732BF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FAFBD5-6BB3-4B88-8826-E123DD8B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18BC52-26DF-4910-9763-1280899E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97CB1F-1569-4A3B-92B2-E4D9477D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FA5-EB2E-46B4-A515-46665892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988C3-1A34-4461-B333-4ACCCC00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1A68C6-E5E2-477D-9FA6-3D0136CD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6DF266-7C7E-49D3-82B0-A822D41A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5AF9D9-F9F7-4118-90F0-ADA9BEA5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2F0CCB-0EF4-4388-8B3A-59BA6BD2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DA77E1-9DFE-4060-9EA8-0FE6E070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750B26-8C1C-45BA-A645-6AC33376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D5513B-8870-4F4E-AC4C-4A8CD952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97E6D7-D641-47D0-AEA2-EB243A58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64CE7A-B03A-46EC-8B3A-91B2459B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EFFC42-90A6-432F-9598-B29E3093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C108-D68D-4BB1-8FCB-1B7C6B76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A87048-5E28-4425-9EF2-DBF24B83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4E9B80-FA67-4B33-A3B5-F9ADE441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940400-B4A3-432F-BFFB-D09EF90F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F75C98-652E-41B4-8234-759D653B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569ACF-5E21-4580-B0A5-1038855E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3311B1-C19B-48CA-ADC2-7B7010CA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4FD92F-9168-46F2-8985-967CC35A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9CA59E-C071-4886-A302-45ED5F67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ED8884-D9F7-49E1-A85B-E625BA7E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1D8EF8-255B-4421-AD25-F2B8760F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284B5-BDF6-4D39-A646-9B217622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D8611E-25E2-42DF-B1C5-1980F5D9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1654E4-CAC8-4198-BAF3-A8EF1C51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45901F-A323-421F-BC47-40A2CA6B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BDE903-4755-4D68-8C10-880D42ED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3F9D04-C599-452E-AAD8-5DDB48AF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C41F26-B101-4333-B230-E096F50D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D41375-51BD-4C26-96E3-7ED1ADA9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56E30E-CAA4-402B-996A-28553F70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E02F36-4DFB-43F1-8B3A-AACB9B60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EF86F2-78F6-4774-97EC-6AE9E6CF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92316-D6A4-4AAB-8BD6-E591F66C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446AC2-A11A-462F-898F-BAE809D7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5AE0F0-FAB2-477D-BA76-3EF27F6F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75725E-C90A-40A9-9232-99F65B6E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430FF2-962D-4B21-9F0B-D4525218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26DD57-FF1F-45EA-9DAF-262ABB5D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A52D49-C796-403B-A14F-9C3944FA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B6F288-121D-4DF1-A73D-84EDB3EA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F3C964-30ED-412F-B9E2-58E87CCF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0B8C65-45E2-4F5B-9CB9-46219553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5840CB-049C-48F8-A057-AEC4C43B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B80B1-7900-4976-9497-A88FF3F1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35936D-3913-42A9-A35D-0530D500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1DE520-2734-44C5-BFD6-E2901F7D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DB0ED9-714B-4366-A508-1F729B59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273478-8F93-4F12-B820-0460904F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2FD595-5DEA-4F31-875C-E29E4A3E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BE6C61-DE0C-45D6-AAA6-9E7E819D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90AB17-1C3B-4EA9-AD11-640AE371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59FA26-2C1A-4695-9223-CB7FFFC1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B7ECA0-053A-4A47-BCD4-464847F4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1DA568-5C2C-4C65-B2FB-2E9D97AF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7F7F0-5E51-4FE1-B24D-B923F713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2AC2EC-D4F1-4C70-8264-06AE7C78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4731E4-ECAC-41CC-9E25-351B7122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E83660-447B-401B-BFFB-55E0323B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B4D922-7435-4F56-B5F2-86F46D20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FCE304-8F32-40CA-819B-4FBF55F7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040628-C9B1-4439-9B89-D387605B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E07D9C-B4D1-4683-9409-A4892D1E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B41377-988E-433B-AB37-9FE5BA7A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73788B-ED09-4FE2-9DE1-AB93ECBA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A40820-F7F2-405F-AF78-FDE0DB70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FC6BD-B1C2-46E7-A1FC-88178708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73EE84-AE3C-4E69-A563-1E8576EA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D45C12-D4CE-4CBC-88FF-8E497594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29EFB1-2315-4286-A3E4-B553E5E1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112020-0594-4F5F-A2BB-C3BAB7E6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9E03CF-D81A-483D-A0F6-7EC70DD8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DF2BC8-D7A0-4000-8501-8D85ABD6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E33E7E-C36C-4E4D-97AF-680D6E9B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9D4366-3E4D-4AAF-AA90-E4F514E8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0171F8-8984-4ABF-A9AB-610B89CE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031A3F-25EE-4562-B7ED-ABA3C8FD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38FA3-5104-4B83-86F4-00056807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C326EE-FC3D-4040-9F3C-4519AB0C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078719-E491-464E-933F-12DAE62F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A7B217-B039-402C-8515-B61B61E7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1E4839-61D8-4D36-9C77-9C32753D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FB823D-70FC-4CF3-B19D-74BE2EC9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199BBF-1C27-4A9B-8FCF-089BA55C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E9FAFB-5F50-41DC-BB56-8AC30672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83E981-69E7-4C87-967C-EDBB51AB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EDAAF1-E350-4C75-AE6A-CC7FB17B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E4684BF-434B-41C6-BFFF-40D2D883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AB974-D5C5-4D8A-9EF5-BB2947C0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3B33D6-1135-496F-973D-E69B8373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61D4BD-4CCD-474B-A7D8-848E67B5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079A77-1D42-41D9-A073-FABF49C5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8DE100-1BE3-480C-8B59-2B7D2397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948965-E0A3-4D29-9F3D-DC36E8CB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070265C-945E-4260-894D-1B71C540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762380-7B74-4D0C-9D1A-76A585E4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9E2AC2-E6B5-43AE-AFD4-450007F3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00E07CD-54D5-4B30-B224-00EBA88B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F1177E-08A0-4BA3-BED4-D0373253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77FF3-C6F7-4287-AFFC-5A3A97CD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6647C7-1E44-4708-8168-22604305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F49AA8-18B0-4D7D-9B28-D99274DE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BA2B46-666E-4E6F-B3E4-4571FA1F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9DA74C-06A1-4299-8C04-D30F7BC7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84CEA7-F88B-483F-909E-F1379E49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39B6B9-A53F-4220-A1D2-37FC92B0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0DF11C-CDFB-4A03-A7B5-69C9535D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C6F3CB6-3050-4C10-A6BD-D141B06A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EF7E34-6DF6-4788-8942-0A9A827A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3DD229-89E3-4404-AB94-1EF777DB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F29D-8955-4008-BB5F-3736AF0B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4FFB3-DD70-4F5F-955C-F49A6B29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9659FA-4424-466F-BD9E-670B3BA7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30EF70-0620-42D2-8727-CE74876E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7F3EDA-6FF3-4420-B9CF-BF8966D4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AAA539-65B0-4D00-BE16-B4A22681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E5BB19-FBBD-4E6F-84B2-5CA2A257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D2C29E-B3A1-487A-B97A-96DF67ED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5CC1F8-1528-4E39-9FED-6093147D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70CF22-974C-4F40-BEAF-80B8CB2D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DA07BE-B968-4111-9A65-98A243FC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F5F18F1-9BDE-4A3B-9787-8C72E50A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AF03D-2518-4FB6-B938-0CF7AE82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46D1EE-7647-49C7-A6C5-6EE39C71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37FDAB-AFEF-4408-97D9-F2423336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53A5A0-365C-43A1-9BE7-68294E8F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B61C31-0AF2-4D26-9CE0-30F6D68B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4ADCB4-5C18-432F-81BD-650EC4D5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9D0963D-5879-40E6-A3F5-15C2071C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24E168-D568-4F06-AAC3-C2F4DB77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B620F6E-C59B-4C66-A10B-B40CD6AC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67539A-FAE8-4AE4-A2C8-8551DB05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69773F-F705-46CB-9683-6A6441C9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C4523-5A56-4B40-BBDA-5B4469A2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757205-AE38-4111-91A9-7E627181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E62FC2-9FBD-41FB-B8EE-549DBF09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8FBD224-27B8-4210-98F0-7D3EB72A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E631A9-5EC3-485B-80C1-5EEB7BFF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77730DE-AC72-45A4-8C87-33BCADEF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0C7A327-3A2E-4C19-8C58-9F52D9DE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1F748F9-F51D-43BE-98D0-27A8FE0B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57DFE8-50D7-44A2-97EF-ABD699D1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3C54951-47F9-4BB3-B819-8C71FBB8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3A29B9-D702-425C-80C6-27CD3AAF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DD80C-FB01-44C7-AAFA-7B4D6496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F4CD0A-BB71-46F6-8FE0-36805799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14E344-2857-4D40-A908-46003C31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0272D8-2E16-4FF0-B6BC-545DFB1A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F9BCFB2-E613-4C33-9DD5-7C251DD1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4C5866E-15C7-483A-8EB1-A7829458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9DD262-AE89-4630-99C5-926A5161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5127F27-6BDD-4674-82D4-C2BD9CEA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F8E7859-BFDB-4D20-86AD-B9B067BE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D94856-1905-4084-8ACC-F08B4D7C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2AE2E6-BFE7-4A69-BF86-E924227B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3237C-3D4F-4FAD-97DD-D6CFCE71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1999042-3E8E-4868-BADB-3C58037F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56973A4-C3F1-4797-8736-40C9F172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EB5A0A5-70C3-4E88-A82D-824F139B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E1A7607-EEDB-43F7-A8FA-F83A1CAB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0EE0B11-1B68-4739-B0CD-8AEF83B1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6A1103-C7E9-4B0F-9065-1BAEF3EC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2B1573F-C9DA-4337-BA47-E378B770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BB825C1-A3D6-479E-8AC6-5D44B761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3E3E93B-F140-4A3D-9D94-BB878DEC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B9A04E5-B105-4538-A76E-00CB0A1C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C841E-53D6-4990-9E7B-B03B86FC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337BF53-FB2E-456D-9AE2-763E3FD7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BB1C8DF-AB4A-4AA9-AE41-43415AAE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6491B69-A92D-4FBC-9E49-3BD8B68C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9BCCD32-A1BD-4CA6-BB2E-9A9775BC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69F9E3-D0A5-42BB-8704-B58615B5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53BF6E3-0A3E-4F9E-AAC4-4C1E0217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3018ECD-5474-42ED-8295-CAE9C66A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1C12C15-A0E8-4269-8C49-A47665CA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682F5CD-0F06-40A7-AFA5-F75283E0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D4AC46D-4A54-4AA6-B87B-298BF2D7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40159-E2F7-45D6-BB56-2C612AA6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1944BD8-CDE3-4F1A-AAE6-64E7E0FF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18DBE97-5FDC-4EFB-895A-79427A83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8B3D957-DDCE-4437-A913-C5F9080A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C2DA2C0-EB5D-4FA7-8986-B2D2A8E1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BFE0530-EE06-4ECB-A8BC-4566327A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A4CCDDF-F594-49D9-A3CB-11452411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1E6C02E-C317-445D-B8F8-D19E81CB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187E007-6BFF-4130-B963-3565A02F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EBBDC85-C36E-4973-82EE-1580D29A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3957D8E-E224-4160-A2E8-93A46D20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BB4D2-5432-4142-8CFF-8F686662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1F60227-26BD-43DB-8A95-F0E62D18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5E60BA5-5719-4048-A3D7-83958DBB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4E8C737-BB1C-4EF4-9BD8-FCB9B9C2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95D8308-4C54-4AC2-A4E0-B2F543F8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C6C4389-CF47-4DAA-93DA-466F6638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6C080C5-C04D-4439-A82E-88263AFA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F113AC-5E19-4D1E-A96B-3CF5D5CF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138F300-F245-422D-A455-13B2D3CD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8FC567D-0A8B-4675-8E31-4B152B78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01688D1-3955-4358-98AA-9E7AC532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DED7E-7A01-4C8C-B942-63343A1C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D84B228-E3A8-4C19-AB60-44D00C0F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C54E5A1-0344-4BDF-99D0-FD2D93DD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BCE715D-E63A-441E-8C27-7E6121B3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8C662D-7503-44C9-8DAB-EB0011A6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F249713-BAE3-4821-9A88-D1BB7AD3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9009F27-22B2-4963-B079-18C57ADB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13FBEFD-040C-416B-BDFD-14654425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C2EF505-153C-4DCD-B5C4-9758976D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CE752CD-BD6B-4FC1-A0A6-8842501E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7B76295-7DB5-4EBE-BA8F-4868F2A2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4AA77-3256-4FFA-960F-901CB98A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3A3F45B-17D5-4F41-A6F0-7979401E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F10BAF8-35DF-4396-A925-1A266802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53EB628-57CF-40F0-81A5-FE9CF6D1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9C6AC85-01C9-49C9-A7AD-D05E4374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614F0E0-CE85-42CB-B07C-713DC123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E0BB014-9310-471B-95E8-DE29879A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E75F9E3-9CDC-4359-A5A8-24FFED30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5F544F9-095C-4CF6-8098-BDA6FF0D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DF1208A-6140-4301-BEAD-A7356D45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989D9E5-001F-42DB-A712-B9512348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32A-0C9C-4C02-8850-C12E168C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B1973-22EF-42A0-B30C-448DC44D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5A71636-7B93-42EF-867A-E95FE5E3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5FB6B27-AD72-4077-8B37-2D3F3F73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4F30A34-80CE-4F91-A705-10E69B72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370A220-DBE7-44F8-BDBD-729896DC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54E8E89-6B76-4913-B027-46C8F5E2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A9637A2-AD54-41FA-9290-BBD4FFD8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ECD519D-11E3-4CA3-A59C-556F260A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FA8524F-632C-45E2-8BCC-8C234558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666452D-6A41-4A10-AE94-04CF773B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A4A26B8-3991-49D4-8925-AE080418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83E41-C2EA-4DD5-8CAD-C1F66F04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19DE356-7C37-48AE-86F3-D0EC06AD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8DCDFE0-5E42-4D42-AE2B-808E97B8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31E08E9-CD71-40BD-984F-6C3E93CE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C909365-7120-41BC-B59A-AD120CA9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58D7381-86D3-41CC-B231-5599F984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78E22D0-7A9C-41B4-B2DA-D77C3C06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D850DBC-D176-4DDB-AC7E-550B00D3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6436988-FA9E-4485-BF05-A1133333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C30B22D-CECE-4259-85B4-D7AFC73C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22822AE-BC96-42F3-B095-23F899B1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86D55-D16D-47A9-8D17-90D74706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5C5D59E-2698-4950-8949-0D3E1658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D4D49E9-C1FF-40D2-94A8-63BA2BD0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7711FA0-DE4E-4624-833C-D95045AA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B918F5F-D507-497A-B228-21F8405D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922994F-E35C-4157-A66F-47726D67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C2F4535-871E-4674-A3A0-46232EA6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28E8327-2637-47AC-991E-B56EFAC9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6BA8D13-366F-491C-A905-E7348412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E0AC160-EA36-4445-A82B-6AD157C8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482154B-112E-41A1-8600-059E1D99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C587C-2379-4E05-8A75-F67D78AD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6B851D9-99D0-4442-AB07-FB911D69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2C5C70B-F05B-496C-AC81-3F7290DC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CF8B426-A8BF-4B09-A2F6-9A8749FB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8147FEE-6A5D-4B79-9223-556BC279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0FAA185-6A2E-4041-83D1-B028D894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80F02AC-D8F7-4C50-8A4C-E0AE9B1A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4E44867-2CDB-40A3-B57A-6D6D8EEC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BDBA223-5C4B-402D-889D-7E592088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31612BD-5809-4F60-BA8E-5F9573C6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5C1A0AE-6A5F-4003-A353-40915030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65F61-C029-43D4-B6D0-B1D8EE0C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F6FB8FF-658D-4AB6-85A0-B4945ECA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D34AE55-62F0-458B-8534-CE7ECB67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E661C67-E82A-4A1E-B205-C2EDE19E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D62C5E9-A34B-4405-AACA-7E6D7BF1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F701CE6-D086-4F09-862B-5EF7E7B6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A2A61B5-B6AC-44D6-A49D-018A273B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054616C-3CDE-45D3-9BB2-2BEBD040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127959A-479E-4CED-A352-1D9DF107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BF51C6E-674E-490B-B511-D14D640D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48FBF4B-458A-4B0A-9A7D-6433CF2A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1D39E-BC8C-48B3-9953-5AA10562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D3B46B9-99C3-4D87-8DDB-FF3FDA7C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579D39D-7668-484F-9FDE-99A8A016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3BD236B-232B-45AC-B168-35911073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4E8C3B0-947B-45B0-AE12-F57D2BE9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D15ACCF-A997-4BD6-BBDE-8322CD14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0BECC99-BCAE-47C4-AFD4-DA1CF42E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61C1570-1E92-4EE2-857E-4EE7A85D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415047F-146A-4B55-8312-11226A60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FFB6563-B3B7-4AAC-91C2-B42304A4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46DA232-A5BB-477C-B162-444CC06C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5BBFF-F2A3-4E2A-B490-2E3DF4FF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54C8294-9B21-4190-9DC6-7920B46B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BD13378-9AC2-4069-90D1-AB611F69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071BA10-2FC7-4DB3-9D20-F346A096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1DB8A95-3F26-40AF-8CF5-D422E40A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4482A85-8B96-4900-A7B6-A2D1D426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2A47D07-4820-4F47-984F-0120375A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8FCD5E2-A3D9-4A6E-9C0D-53199F01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FC7F270-E511-4ECD-BBC7-717A8A68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BAE4D14-BBCB-4352-98FB-03E2D909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1B339D7-AFB2-4424-9DBC-217A852B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F7F17-197E-4130-9121-24D45E01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F93DAE2-6DE0-4B16-BC7A-3431C9A3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40E79A1-F6EF-4251-A399-039C3D41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CF800EC-337E-406B-B32E-804D6CB3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CEDB4E8-8EDC-4089-A35A-22968243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81FE6BE-87D0-4774-91A2-08FB2960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6E6CAEC-14C2-40C8-8A42-92126D23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952387A-B817-456B-85E0-464CB7FF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E802174-2192-49DF-85F8-CFC5CF3E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39136B2-FD90-4A79-908F-DDDF2A5C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ACAB5AB-6EB9-4D7F-85F8-D532822A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41BF4-91F0-4A98-8AE8-CF18DE0B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870CC3D-E0D6-46A5-A013-14919559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4478AAE-305B-499E-882E-03094790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9CCF898-AF0A-403C-931F-3A9A6CD6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74DFFA5-C993-44CE-A2DB-9D8FCDE9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EE07342-8CE9-41E8-9615-08C710F5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E27B4D8-DDD5-4423-BC39-FE7BD19E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E8D726B-D252-4696-A278-3BB295EF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49FF5A7-DBD4-4DE0-A807-4F62BA20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FF9F1CE-8033-4AE4-AB47-C5B37C40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A159536-9AAA-4CD8-87DE-CC624494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02DD1-0B6D-48B8-9BD0-FAF0D4F3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CB49BCB-9873-4E99-823B-1772BB97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C0FE428-A347-48AE-A5F3-8D493DEC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3C89723-4C29-4451-A6A7-BE82C877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98ED38A-0B0F-4648-A1D5-AD7E2CAE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5BA9330-9B23-46CB-9AEF-DA3601C7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6675306-B86B-47C0-982F-CDBA9958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62784EF-8DE6-4628-8A7D-322E759B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A0E1190-71BD-4FF3-A28D-7F5DD508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7D4B5F3-9192-4BA7-AD4B-0A3CAA9C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B4E97A7-6C1A-4DD5-BB14-98723B2B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5DC-45F7-4BEF-8B49-237E9767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30E89-C99D-4802-B04D-D4E806D4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5136F0D-4E0D-4D26-9C68-A7707AB2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5EBF406-E40F-4305-9D48-87265D2D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7A13D34-5836-4BF7-9D13-3204965E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C14C70A-56FB-4A29-9131-5BD11B5E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17913FB-FB59-4E4C-AFC2-74D09C3B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D0D2FDE-D64A-454E-B5F8-A98EB67C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65CB9D6-1A86-4604-BF55-07632238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98E4757-D4DD-4359-BB08-B547F2B5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0D94CD8-C1AB-4155-B3A8-AF49F102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7093DB5-EE58-4FF0-951E-0DA0B473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EEA84-E5E9-49CA-845F-2F20C94B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169BFD4-A498-4144-8FF2-F5088DBB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D2EC89E-6C1C-4982-A981-40ACCD8D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CFB4E7C-E43D-4FD5-B36C-D7480203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6ED8346-0204-4AAD-9517-EAB0BDA2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1349132-EC9E-4E4C-A4E0-34641E29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3026E82-49B5-47C2-82F8-0A13BD78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9CFECF2-1A21-413B-8BC6-59D0F344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EE5A774-F622-4F65-A4B8-D46CDA36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62E9645-AE6A-4EB5-B39D-AB390E24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98BA4D5-5759-4ED1-814D-07325408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99C7F-3EE6-4755-B414-AB55C652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D1BF0D4-C75F-46D5-97CA-1FA43BA9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6CD522A-DFA4-4727-82F8-66A3FB55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2F6F4A0-C5BA-4D56-BBB6-B748FDD6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31FFD29-76E8-4165-A01D-23C16BF7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9DC3093-2640-4BAB-9503-1053068E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F04A090-FCDB-4202-930B-82B4CC94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017DBD4-47C2-41CC-9905-61012617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69CDFBB-261B-43D3-B28E-7CCB7335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B8AD100-5C7E-4D46-9673-B45ADD67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8A7C58A-D74D-4332-9766-74CC0CF3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1BD4A-6C9C-4EE5-A2CE-9CC3B476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C6F7376-73F0-4FA4-997F-DCDAEDE3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B7CDFD8-5426-422C-BE9E-D8EFDE33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8F6A9F6-8241-4170-BF16-DFCCF1A6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D1169B3-2F62-403A-A1D2-EE54FD04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6D50473-83E5-41D9-8BB3-D3B7D519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1E90446-7162-4A6C-A31D-7039267E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E2AAC58-6FEA-4248-9BC4-145ABB27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B758366-F402-4338-93A8-54D99D6E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814BE8E-B41F-47AD-89B7-F116BC69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3D86956-806D-44ED-A1FE-E7172CFA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D2C10-BB61-446A-B7DB-7A84CE1D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3E66140-0633-4AEF-A53E-FABD3D7C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FFB31E8-B77C-4109-9BF8-BCB0CF04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5A33DAD-CEBC-4A04-A427-A5302C63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C8E948B-FEA8-4E7F-B7A3-0E5C0F3B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36E8910-1CE3-4D85-ABCE-CB2F8E7D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8E41D86-3D4A-4721-B607-385E4AB1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81C3F26-CDD6-4701-AB0C-8BF12772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0D719E9-939B-40A0-83D6-00BF5E1F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94DF3FC-C643-4366-87D8-B3F4BD3F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32B1B96-DA86-43EF-8544-4673CDDE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501CD-867C-4120-B00E-CA94707A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DE6DCA8-D1B0-40FF-9737-4FFADA7B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255DA10-E7BC-44CA-9FF5-C2E54D81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49601AB-6672-4AB3-A439-B7A1C319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7B15396-25D5-4468-8C7E-7BCEDC9E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DE0CFF7-8634-4D40-8D6D-4B76EBA5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D49EA97-B099-4EA9-89D9-1B3B40D1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1DC9F74-2E40-4DE2-AC99-ED2D63CC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AA5AB1F-E780-4641-A27B-4DBEA281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BDCDF31-9FCE-4DD9-9778-0BE96D26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41618C8-7F89-432E-A023-62D614D4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2FAEC-A2C4-46B3-A4C3-D588DA54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06ED169-B361-43A5-A011-E5E6E1FB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7B67505-7B1C-4662-9F0B-5B1728B2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9702666-45B8-4D34-8F68-EB5EF89B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7BB0D2E-7706-444E-8A30-3C6415B4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62845F3-D7C6-4A30-835B-B9472983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B51FF98-9F3C-420C-8338-55E9C6A3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D56209E-09BD-4AE4-A015-CA1D1112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403F8E1-24B7-4853-B937-F72F7884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6EAD457-F50D-4FC5-BE33-137B9851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23D5A8B-C315-4932-984D-1017982A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4BB44-5365-4B06-B36F-0E96374D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99AE5C1-93E1-4907-9D7D-97C626DB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90ADAFF-0FB8-41EB-B5CB-66040771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7E3A070-C452-4E4B-B16A-133BF701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DF4A028-6FA0-4A45-9828-0CBB6C39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AB3E568-FFA2-4384-A6EF-8A71D5DD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AAE8836-C6DD-4A77-818E-C88BFB38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CF7A6B1-9D7C-41CB-A180-FD08E983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365A363-EE02-457E-91C6-505A0A5F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010D854-4443-4418-BAC8-7AB49FBE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15E6238-845A-4F23-9F8E-2E6DA8F0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F7E76-00F7-4F54-B021-515D6E06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5C598B9-0D21-42FA-808D-B5F078E3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DE03FAB-5327-4FD2-8D6B-0714311B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B3A309C-47ED-4FC9-A56E-897570D2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0505C16-A977-4898-8D31-CFC522CE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B289BFC-298D-40AE-A047-FB9534F3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2633739-B93A-4DA9-9512-F171F1A4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F2F3F3E-2BFC-412B-9720-8CB2A29F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0CE6AE8-DB67-4FFA-9272-8CF05368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ED4DC03-8ED9-4C5A-B948-4A316C2F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338C479-EE66-4A9D-81FC-9BFAB480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5F5F4-E68F-4435-9C9F-3EA3F5AA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33AFCB1-DE58-497D-A3AA-B1A5F245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F1E7D96-5679-4FCE-9D85-AADE4B9F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44B92AA-6789-4AB3-B704-3F73F0E8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80E84B0-628A-4FB4-9974-67A87D15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7F6216B-09EF-43AB-8689-23B8E88E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D9B09CD-124D-4ECD-9461-5EFE50A5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F462A0B-FE21-4571-ACAF-64B99B9C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EAD29F8-F254-4F56-8EEB-AC013A53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D0E8ADD-F07A-43AA-AAE4-00421568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000B7DA-E269-4579-81C5-92393578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DB4F-B31B-429A-9CC2-89501CA5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D8167-6040-442B-857C-B3E4BA8C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84D4953-7BF4-49AB-B9B0-40AB7CAF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C311ABD-EF25-4F34-B778-53587247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CFD6A98-6913-463C-AD2C-BD5FB331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52EDE62-E9D8-4B4C-82B2-C51FD7C3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2DB81AA-DFF8-485C-AF29-208198E7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4155140-0D4A-4DFC-9E04-FD0EC324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0FC980B-5D11-4A84-AA5B-EA2B88D5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41EFD56-2218-46E7-9F25-EFCB1F32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0F3F82B-65A9-4DC7-8E1A-D0579232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D528507-EA30-4C74-B566-D3DACC08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3CE4F-1B07-46BE-9D79-D4EC9AD1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526C6DA-7A6B-46AA-8763-69DE1DB2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78E0A02-5D16-40BD-90EF-4C98A3B5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6D1CA22-34EA-4546-AAF3-7C18A582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00044EE-44CC-4DAA-9A97-CB04933E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C85029D-A839-4549-8F42-805D7AB9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D942DBF-1C0D-41EF-8B0A-0A066C4C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018AA76-F61D-493D-A61A-31304E5B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AA9EE53-4C0A-466C-987B-FC6181E4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923356F-815C-40EE-8CB4-E9A8B37E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D8B3743-12EE-4EFB-BA8A-E7AEE314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A9B0E-211E-4C34-8C14-8BD5049E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16B8783-2AF9-42FF-9C61-1FB36423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C250AD5-C858-4BC7-948C-BD840C93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892DF58-E219-4764-86A1-CDB8B279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87E23A4-E0FD-4F1F-B997-2029785C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7F28294-D8C8-4150-B1CE-D0A76403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9C1EA74-AC8D-4D15-9680-740FD90E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B81A60B-B3C3-4B25-A849-A16C3347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D5C59BD-3209-4E33-ABB9-35833A48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AF8546B-0DCD-497A-B37F-F6388185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3DE3714-6BC9-47CF-B729-940648E9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146A6-E0C6-44FA-8D96-ADF4D14D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E596FA4-DC8B-4834-ADC4-14FF61D8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BFE9706-CB5C-47BC-84A8-211BF225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367B564-1D07-4392-80F5-9DCCF46F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7131E99-0402-40D0-8C4B-0877F42D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4FDD13E-BFC1-479F-A9A5-E546EA1D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4F474DB-6D30-47A8-AC8A-CFA289FD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F334D0F-3A8B-4310-8607-F126B905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5EDCEBA-4105-4367-B4D6-412F4F19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D3618E9-B5DA-4389-A927-2F0AFFDA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8219F4F-5BBA-47B2-8359-C339DB37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6D34B-9093-4C93-8948-8269D779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767ED37-5952-4CAA-A1AA-67D34E79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4043DBB-5485-48AE-A856-93007091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AC7E600-FB0B-454C-B4C8-FF6F742E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9FDE0DB-5CAC-4182-B988-70B37180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111711D-A1D4-49AF-A1E8-A745E90B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76AB6A3-88EB-415D-A3B7-53EF98E2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80661DB-D76F-4A89-B17E-1EA6F807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A2B9E39-B774-48E2-95FD-4A8F7C54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2163A90-EDFF-4FF7-8C1A-3EFEC5C4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51B81AB-AB84-455A-BD62-D90CF793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BFB10-C215-4F60-AC73-0B3D9503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05BF8FC-DF51-47FD-BF34-C13121BD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A846E4B-5830-4CF1-8E1C-FCFC37CB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93328CC-6312-44A6-9D0D-7F082176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13CB97E-393D-4F86-8D5F-5BEB28F6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C2369E9-4D1B-42FD-8883-9839B634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DEA261D-6E7E-498E-9000-301B42F7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D2B54F2-397C-4416-AE33-B38737BD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C7380CF-191F-4653-9725-64E1852F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F9B8538-C76B-4572-ACAC-0B43B0C9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62F631F-2693-4FC4-8BF6-231BA529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92CBB-E954-430A-BEEE-E3727C26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F1E1F70-9758-4AB9-AE48-05A5CDEC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F32B05F-28D2-4CCC-939F-BDC72BA2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42FA479-C9F6-4E8F-8396-39DE9774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6093BBA-CF3A-4D21-BB27-2C7FFB34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A422B61-1CE3-4E70-A3EA-0E042240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617222D-F95B-4A94-8E12-BA01C90F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6885747-3B70-4718-8BFD-C7EBA1BC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D2E68C0-895F-4D7C-9A3B-C4027EE3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C05A685-7F6E-4305-A205-1E40D1B9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C9C5EC5-54B8-4A1E-8F5A-A02A7CB5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63010-BEF9-40A2-A8A5-0F1D3B76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D5F91EA-9E1B-4FCB-9F04-11FE97CB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2E49843-8604-4475-9AB7-92D13F4E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43A7A3E-E6F2-4809-B973-BAA3AF93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B808862-9A6E-4413-8B90-456E1C5F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24590E1-A311-4625-9A30-56D9EC15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42E46B4-E518-4A6A-AA1A-11E3F47B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5051F6C-DB00-4612-9DE3-4C649F2C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8C69030-FBE8-4FE8-A50D-64C364DA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609F7C1-920A-46A5-B2D9-86277217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7F8F9F0-8BDC-4666-A762-19369789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31D61-046F-42AF-A25E-FBB8978A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0166B3A-3CE1-42C5-A32A-B54FFA5F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8480C13-D22D-44ED-9E3D-073CB5AD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583726D-7C75-4BDE-8CF2-3BFFB949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46E3F09-8D71-4419-8C05-0B78CA0D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ADC3C24-84BB-4F6B-BC67-806BF79D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5147A6E-492F-45AF-9359-624FFA95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72659B4-7104-45AD-9C6A-51C98B34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0EC81C7-CC38-4A0A-B74E-558E9DDF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F012495-CD32-4EA2-AE55-6E961F0C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345FDE6-F251-4142-8E5F-3957CC0A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017D5-DF3B-4E98-B3F2-B2527943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28F8238-FA4A-474E-B172-735991B3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696E24A-8F40-43D4-8367-5B64FC2D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17B015C-979F-45A3-8B61-A13ADA25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F0FC6B0-FDB5-4FCB-A3D0-EC7A880D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ACF0980-FA72-442B-B366-B8EFF836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192DB61-60E1-48A1-9A2D-114B3FF7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FFEADDD-9107-4ED2-BA87-15506FB6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E4CD8E3-6184-424D-B223-F444C94A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87C8714-142A-4D86-AFD6-A89D3A52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BF788BC-8854-4426-8AD4-F6EBEDF2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FFC7-4CD9-44A3-900E-F420AF93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5363E-078D-406D-90FC-9CED0C18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6016A12-AE0C-4597-A6D4-9EBD7D54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77ABD12-15F9-406F-8506-62657EEA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485ADA9-4CAA-4C84-A376-86B37C04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C50BAEB-D563-4E7C-B48B-20C674D4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4A952E6-79EE-4C72-B371-27F536EF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7DA38AC-6EFB-4480-B0E5-4CA87FB8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69C620B-AD57-47FC-A176-DE1BE301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789DC33-194C-40D9-B2FE-285CF985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70B9557-D0D0-4E84-B807-43D17CAF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F6152B5-E749-4E49-98DB-73F9982C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268CD-C51F-40A7-ACE0-D8265C3C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C75264C-25B3-471B-997C-67829449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5F6C2C0-AEE2-43E0-8F01-F9A3EC36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3C6641E-762B-4FF2-A240-C59CA50B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7B7E1B3-8F37-455E-8276-64029E84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0228DA4-475D-4F3B-AB9A-30F9C8D1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075278A-AA4D-4995-9352-A9465FE6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5CD187C-3397-4537-B9E9-24FE0032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84BE662-F1EA-49AA-8D2E-44789647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D3273A4-3574-4F6D-A56D-29B6B82F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6062102-CEFE-49CC-B3D4-06B5AF7D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F8FE5-EF03-4341-8525-204E3123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840B959-5C9B-4A28-ADD9-1645468D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3CBC868-FBEF-4545-AF14-D59373BE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27D710F-0FA1-406E-A0BC-D5F4F576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6A1DD1E-DE54-40C4-9125-B84186FB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88C5DF9-A553-44A4-9D99-2EA2E888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976DCDE-B69B-4B34-98D6-0F096CE0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4F9C074-0AFB-4C9F-A235-2C1C0FAD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3597690-FF35-4995-89E7-4A0F0AD7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1F4A817-2257-4784-A8E2-82960557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E21EFD2-644D-407B-9537-852CDD61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5D1F3-4F88-4FE4-B35A-590E1F7A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8142027-95FD-4A60-87D7-93649537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A636F5F-EEE2-4683-8139-0C9F4641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766D4FE-1E65-4E1C-A663-2184AA94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44C70E1-593E-4EF6-B2B0-F143A451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1F2A244-662C-4BE0-ABE7-F41B7AF8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1DC5921-B7B8-4B4F-B046-4DC49E1D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5C22521-3EAC-48E1-BB85-91779F9D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94E513C-374C-4CF1-B3F9-336C2701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C35C775-7499-4CAB-AD4F-EBDAB6FD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9D72057-9914-491C-8F28-9AA97F6E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7E0D5-6D84-487B-A0B5-6A67B37E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C405DA9-A5A4-4229-878F-1AD4912A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F6AECA9-D982-4999-B4AE-B8D64C19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72F94EE-EC7A-487E-8493-BF0AF579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CBCE6CE-5528-4B6D-8C23-D6123C58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5D98A15-57F2-4200-A632-029BBF51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8D91114-7DEC-4ABA-9467-812A8F9E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FEB3C30-61A4-424A-B0D6-CFF82A5B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BFB47FB-55C3-4A56-9BB1-F4956485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4400A79-0229-4C6E-9DCF-A43972A0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9FDE9F0-82AC-4DFB-A1D7-9BDA851F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5C47B-F894-440C-9A11-5508D6EF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3C4E510-4055-4DD9-B837-0D26B574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DBF7BF5-5C47-4B38-BD87-735D0D6C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99935B0-B565-4F7A-9F28-267CCEDF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36D4D94-D122-495A-9E07-FC125ADC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9C97298-6D86-4A6F-A49A-A0FCAE03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65BC89B-45B0-43E5-B09C-66A5F3E6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488FD27-6540-419F-AED2-71E40342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5658238-94DF-4AA9-9309-4390BD7B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0BF0BD3-22FA-4854-AD38-484FBBA7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59DBE62-10D3-4D09-A751-2BCF07CF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1B6E6-85D7-4BD1-A69B-594705B6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5847A2E-B4AC-4D65-8104-737F5B0C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BE30F49-4D1A-4FA5-A70D-941DD4B6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D2B9320-C32C-4EA1-BC7C-6474CBB6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E5D2204-1EEB-42A1-B75F-AE84D452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199EA25-0C25-4F88-BDB3-D490E298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294B148-04C7-49F5-A50D-5D8932C5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C195876-5B82-46A3-96F9-3AB9C4D5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81711D7-BECF-4636-9845-769D41B8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DB97A33-0632-4C64-971E-5F033E04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FBC13B7-BAF8-496B-92DB-3A805B2C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7DFCD-FF1B-4DD3-BFDB-B6694157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4C50CE8-81B3-419C-9E08-00096890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028F8DB-9E23-42BF-833B-29EDDAD2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DD7C3FB-B2E0-40AE-9733-0D1AEC53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8C9AF36-B5E5-40B6-B1D7-CBE1B9AE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F4086DB-D905-468C-BE1B-6EE96595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9FEF3A8-3766-40AD-9E3C-7661F30C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A0689D2-58F7-4CEA-A41E-EF812E03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8CEBDF2-02AF-4647-B29F-25E174A9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4BE4C31-5FCA-421E-8B0E-B21DBC41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E552927-2679-4184-9FB5-55E94A2E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D674D-EDCB-40D4-BA4E-292D9582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B168E7A-F371-476B-9758-C159C7A0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34475E4-7BFD-424E-86F9-4A22507D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418DB44-2140-4474-9281-517527E7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A0C47DE-4E85-4E71-8553-CC753F7E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8FCEA7A-1611-4A17-A4E5-5343A60A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52E40D5-931C-41DF-AEBC-0280F909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3210387-6CC0-416C-AC80-8B652568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730CE0D-2697-4C34-AC81-7F6DA8E0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F738702-F5B6-4537-9971-1BC7C0D3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2F0275F-6E20-467E-87CD-FF93ADF6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55509-E905-43AA-A89D-075C43F0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7943FA8-207A-41DE-A218-F1675288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1095253-9084-433F-94EC-D8B317EB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28EA9F7-B817-4C8D-B8B5-AAB3919A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6B4920D-1200-4AD1-966A-2E6E097A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23F660D-E813-42F3-93F0-E92BA9F0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1CC0DC0-0DA9-457B-80FD-32A4F14B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D7FD7DB-DFB3-4753-A427-97FCC4EE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B91A692-A9C2-42B4-8AC6-5DA79B5D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EB0D07F-8C6D-4098-8817-9A30C38A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2D95684-347C-4058-A751-80244047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C07F-7797-4B4F-A10A-D534DB9A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9B6A7-F4B3-45E6-90D6-13D44F3D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1313599-B72D-4494-9CA9-5768D5BC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DC0FCC3-A2C3-4D50-95CB-FF6B165D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C89296A-0CD9-4056-8927-FE702A73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0848A8E-0505-4510-BB5B-93B9F878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E394786-29E6-42F0-8F1A-55C663B6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A29EE29-2229-4D2C-9174-EE3ABB2A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4864174-5004-4042-8BAA-05476403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6CE4CDA-E4CC-46D9-B2B4-858EC474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A206A41-5D3D-4D38-AAA7-938E4C11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24F6C04-0B3E-42EC-BAA4-ACDAC634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7AD4B-B816-48CA-8D62-38B285BB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415C759-533A-4D39-92BA-6782A271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1DD3C3A-0603-451C-8527-7D751BDF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FB70E15-847A-4D1C-926D-869CA6BB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237AAC8-5449-4DA3-82DD-F1DB514D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4E7FE0E-9804-4F94-ACC3-673B3168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5762213-3DE7-46F7-9104-49A0D209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A2E9891-0BB0-46EC-A05E-4196F447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05577B7-E25B-44F9-97D7-5445A7A0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15ED39F-43CE-47E2-901B-9E74B5C6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EB7DA8A-CA67-47CF-87DD-4466D7D8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6E704-E2F0-43AF-928B-ED7164AF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2CB5A85-8801-46EC-B209-BEA94088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26B371D-5B5F-445E-8213-1FAF40A0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6B465FF-C98B-432E-8DB6-DF4AA3D5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962748D-D527-4E74-BF7F-26D61603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1D03BA9-8658-4794-B809-E89E1EFA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56FA1FF-7D32-446D-BB9D-87C8DBFE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5D87A88-A3C5-45A1-9ADD-386664EB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6A343FA-31A9-449E-A85D-370EE765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DEE9455-8D13-4DFA-8BA5-DA1B5EA5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4256B65-11FB-4585-B88C-20E6648C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AF9D5-FF08-49B5-B795-B5FC3FC2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FC894CB-C40A-4586-A78C-FE29A62E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6F4D0C7-9F72-4E26-A080-C8341544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7943C58-6083-4325-918F-4083EAC0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AF4CBCE-838D-43C9-BC4D-E2020B76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820AF3D-2BA2-489C-B919-D64765EA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84603C2-8399-4299-A9BD-D391C9AF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844B83E-BA40-469E-AAAF-D517250F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66AEF4D-7B97-4EF8-88C9-5E2A34D8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34A589C-799D-4E19-999B-AB0B81AE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BAF96AB-7638-4BEB-AA26-66E1B09F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DC5EC-342C-42E3-B305-8B30DE0D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B5D4487-CBB5-4D0F-B442-CD710542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16B2FBE-0C5C-430B-AD25-3AC946D6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9DB4012-720B-4441-96F1-E506820E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4C9E382-516B-4681-9CE1-677F13AD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8265BE1-7706-4FF4-B342-8CBD14E2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DD450FE-502E-41A5-A61D-A1E54578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82B898B-CA94-4A8B-8463-E3507463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1B7EA78-C52F-4BFE-9E84-FFD4EBD5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A572CFF-71D8-477E-AD5C-9BB4426A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2042F90-7938-45DB-9518-F94A7251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7C259-E665-4F0F-A33D-07C48BAE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D6EC74E-7B11-4516-A367-19EB41D9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1015609-7F9D-462E-8AA2-6719BF7C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B6815E6-2FA2-4948-AC30-92C5872D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45708F3-CD92-4E96-A7A8-0E8765CF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49277E5-7228-4758-9B6B-F1A5C7AD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85E7064-8E46-41AF-B96B-8040703E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58AA493-5543-4B02-9E69-A22E51F0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B36CFA8-556A-4F70-B698-B7EB2D87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26F89C1-F894-41A9-8865-C1EC5B80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AE1562F-04CD-463C-9322-4C5247DC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95F64-831D-4A2D-A955-2334A808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4040475-AE18-4BCF-B4EF-380E31DF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A2A49-CF7D-4525-B7CF-9A8F3857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52028-70BF-4BE6-B1EA-2E72E937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66B7C-5E31-4223-9593-2DE02413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77.xml"/><Relationship Id="rId6" Type="http://schemas.openxmlformats.org/officeDocument/2006/relationships/slideLayout" Target="../slideLayouts/slideLayout578.xml"/><Relationship Id="rId7" Type="http://schemas.openxmlformats.org/officeDocument/2006/relationships/slideLayout" Target="../slideLayouts/slideLayout579.xml"/><Relationship Id="rId8" Type="http://schemas.openxmlformats.org/officeDocument/2006/relationships/slideLayout" Target="../slideLayouts/slideLayout580.xml"/><Relationship Id="rId9" Type="http://schemas.openxmlformats.org/officeDocument/2006/relationships/slideLayout" Target="../slideLayouts/slideLayout581.xml"/><Relationship Id="rId10" Type="http://schemas.openxmlformats.org/officeDocument/2006/relationships/slideLayout" Target="../slideLayouts/slideLayout582.xml"/><Relationship Id="rId11" Type="http://schemas.openxmlformats.org/officeDocument/2006/relationships/slideLayout" Target="../slideLayouts/slideLayout583.xml"/><Relationship Id="rId12" Type="http://schemas.openxmlformats.org/officeDocument/2006/relationships/slideLayout" Target="../slideLayouts/slideLayout584.xml"/><Relationship Id="rId13" Type="http://schemas.openxmlformats.org/officeDocument/2006/relationships/slideLayout" Target="../slideLayouts/slideLayout585.xml"/><Relationship Id="rId14" Type="http://schemas.openxmlformats.org/officeDocument/2006/relationships/slideLayout" Target="../slideLayouts/slideLayout586.xml"/><Relationship Id="rId15" Type="http://schemas.openxmlformats.org/officeDocument/2006/relationships/slideLayout" Target="../slideLayouts/slideLayout587.xml"/><Relationship Id="rId16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89.xml"/><Relationship Id="rId6" Type="http://schemas.openxmlformats.org/officeDocument/2006/relationships/slideLayout" Target="../slideLayouts/slideLayout590.xml"/><Relationship Id="rId7" Type="http://schemas.openxmlformats.org/officeDocument/2006/relationships/slideLayout" Target="../slideLayouts/slideLayout591.xml"/><Relationship Id="rId8" Type="http://schemas.openxmlformats.org/officeDocument/2006/relationships/slideLayout" Target="../slideLayouts/slideLayout592.xml"/><Relationship Id="rId9" Type="http://schemas.openxmlformats.org/officeDocument/2006/relationships/slideLayout" Target="../slideLayouts/slideLayout593.xml"/><Relationship Id="rId10" Type="http://schemas.openxmlformats.org/officeDocument/2006/relationships/slideLayout" Target="../slideLayouts/slideLayout594.xml"/><Relationship Id="rId11" Type="http://schemas.openxmlformats.org/officeDocument/2006/relationships/slideLayout" Target="../slideLayouts/slideLayout595.xml"/><Relationship Id="rId12" Type="http://schemas.openxmlformats.org/officeDocument/2006/relationships/slideLayout" Target="../slideLayouts/slideLayout596.xml"/><Relationship Id="rId13" Type="http://schemas.openxmlformats.org/officeDocument/2006/relationships/slideLayout" Target="../slideLayouts/slideLayout597.xml"/><Relationship Id="rId14" Type="http://schemas.openxmlformats.org/officeDocument/2006/relationships/slideLayout" Target="../slideLayouts/slideLayout598.xml"/><Relationship Id="rId15" Type="http://schemas.openxmlformats.org/officeDocument/2006/relationships/slideLayout" Target="../slideLayouts/slideLayout599.xml"/><Relationship Id="rId16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01.xml"/><Relationship Id="rId6" Type="http://schemas.openxmlformats.org/officeDocument/2006/relationships/slideLayout" Target="../slideLayouts/slideLayout602.xml"/><Relationship Id="rId7" Type="http://schemas.openxmlformats.org/officeDocument/2006/relationships/slideLayout" Target="../slideLayouts/slideLayout603.xml"/><Relationship Id="rId8" Type="http://schemas.openxmlformats.org/officeDocument/2006/relationships/slideLayout" Target="../slideLayouts/slideLayout604.xml"/><Relationship Id="rId9" Type="http://schemas.openxmlformats.org/officeDocument/2006/relationships/slideLayout" Target="../slideLayouts/slideLayout605.xml"/><Relationship Id="rId10" Type="http://schemas.openxmlformats.org/officeDocument/2006/relationships/slideLayout" Target="../slideLayouts/slideLayout606.xml"/><Relationship Id="rId11" Type="http://schemas.openxmlformats.org/officeDocument/2006/relationships/slideLayout" Target="../slideLayouts/slideLayout607.xml"/><Relationship Id="rId12" Type="http://schemas.openxmlformats.org/officeDocument/2006/relationships/slideLayout" Target="../slideLayouts/slideLayout608.xml"/><Relationship Id="rId13" Type="http://schemas.openxmlformats.org/officeDocument/2006/relationships/slideLayout" Target="../slideLayouts/slideLayout609.xml"/><Relationship Id="rId14" Type="http://schemas.openxmlformats.org/officeDocument/2006/relationships/slideLayout" Target="../slideLayouts/slideLayout610.xml"/><Relationship Id="rId15" Type="http://schemas.openxmlformats.org/officeDocument/2006/relationships/slideLayout" Target="../slideLayouts/slideLayout611.xml"/><Relationship Id="rId16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13.xml"/><Relationship Id="rId6" Type="http://schemas.openxmlformats.org/officeDocument/2006/relationships/slideLayout" Target="../slideLayouts/slideLayout614.xml"/><Relationship Id="rId7" Type="http://schemas.openxmlformats.org/officeDocument/2006/relationships/slideLayout" Target="../slideLayouts/slideLayout615.xml"/><Relationship Id="rId8" Type="http://schemas.openxmlformats.org/officeDocument/2006/relationships/slideLayout" Target="../slideLayouts/slideLayout616.xml"/><Relationship Id="rId9" Type="http://schemas.openxmlformats.org/officeDocument/2006/relationships/slideLayout" Target="../slideLayouts/slideLayout617.xml"/><Relationship Id="rId10" Type="http://schemas.openxmlformats.org/officeDocument/2006/relationships/slideLayout" Target="../slideLayouts/slideLayout618.xml"/><Relationship Id="rId11" Type="http://schemas.openxmlformats.org/officeDocument/2006/relationships/slideLayout" Target="../slideLayouts/slideLayout619.xml"/><Relationship Id="rId12" Type="http://schemas.openxmlformats.org/officeDocument/2006/relationships/slideLayout" Target="../slideLayouts/slideLayout620.xml"/><Relationship Id="rId13" Type="http://schemas.openxmlformats.org/officeDocument/2006/relationships/slideLayout" Target="../slideLayouts/slideLayout621.xml"/><Relationship Id="rId14" Type="http://schemas.openxmlformats.org/officeDocument/2006/relationships/slideLayout" Target="../slideLayouts/slideLayout622.xml"/><Relationship Id="rId15" Type="http://schemas.openxmlformats.org/officeDocument/2006/relationships/slideLayout" Target="../slideLayouts/slideLayout623.xml"/><Relationship Id="rId16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25.xml"/><Relationship Id="rId6" Type="http://schemas.openxmlformats.org/officeDocument/2006/relationships/slideLayout" Target="../slideLayouts/slideLayout626.xml"/><Relationship Id="rId7" Type="http://schemas.openxmlformats.org/officeDocument/2006/relationships/slideLayout" Target="../slideLayouts/slideLayout627.xml"/><Relationship Id="rId8" Type="http://schemas.openxmlformats.org/officeDocument/2006/relationships/slideLayout" Target="../slideLayouts/slideLayout628.xml"/><Relationship Id="rId9" Type="http://schemas.openxmlformats.org/officeDocument/2006/relationships/slideLayout" Target="../slideLayouts/slideLayout629.xml"/><Relationship Id="rId10" Type="http://schemas.openxmlformats.org/officeDocument/2006/relationships/slideLayout" Target="../slideLayouts/slideLayout630.xml"/><Relationship Id="rId11" Type="http://schemas.openxmlformats.org/officeDocument/2006/relationships/slideLayout" Target="../slideLayouts/slideLayout631.xml"/><Relationship Id="rId12" Type="http://schemas.openxmlformats.org/officeDocument/2006/relationships/slideLayout" Target="../slideLayouts/slideLayout632.xml"/><Relationship Id="rId13" Type="http://schemas.openxmlformats.org/officeDocument/2006/relationships/slideLayout" Target="../slideLayouts/slideLayout633.xml"/><Relationship Id="rId14" Type="http://schemas.openxmlformats.org/officeDocument/2006/relationships/slideLayout" Target="../slideLayouts/slideLayout634.xml"/><Relationship Id="rId15" Type="http://schemas.openxmlformats.org/officeDocument/2006/relationships/slideLayout" Target="../slideLayouts/slideLayout635.xml"/><Relationship Id="rId16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37.xml"/><Relationship Id="rId6" Type="http://schemas.openxmlformats.org/officeDocument/2006/relationships/slideLayout" Target="../slideLayouts/slideLayout638.xml"/><Relationship Id="rId7" Type="http://schemas.openxmlformats.org/officeDocument/2006/relationships/slideLayout" Target="../slideLayouts/slideLayout639.xml"/><Relationship Id="rId8" Type="http://schemas.openxmlformats.org/officeDocument/2006/relationships/slideLayout" Target="../slideLayouts/slideLayout640.xml"/><Relationship Id="rId9" Type="http://schemas.openxmlformats.org/officeDocument/2006/relationships/slideLayout" Target="../slideLayouts/slideLayout641.xml"/><Relationship Id="rId10" Type="http://schemas.openxmlformats.org/officeDocument/2006/relationships/slideLayout" Target="../slideLayouts/slideLayout642.xml"/><Relationship Id="rId11" Type="http://schemas.openxmlformats.org/officeDocument/2006/relationships/slideLayout" Target="../slideLayouts/slideLayout643.xml"/><Relationship Id="rId12" Type="http://schemas.openxmlformats.org/officeDocument/2006/relationships/slideLayout" Target="../slideLayouts/slideLayout644.xml"/><Relationship Id="rId13" Type="http://schemas.openxmlformats.org/officeDocument/2006/relationships/slideLayout" Target="../slideLayouts/slideLayout645.xml"/><Relationship Id="rId14" Type="http://schemas.openxmlformats.org/officeDocument/2006/relationships/slideLayout" Target="../slideLayouts/slideLayout646.xml"/><Relationship Id="rId15" Type="http://schemas.openxmlformats.org/officeDocument/2006/relationships/slideLayout" Target="../slideLayouts/slideLayout647.xml"/><Relationship Id="rId16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49.xml"/><Relationship Id="rId6" Type="http://schemas.openxmlformats.org/officeDocument/2006/relationships/slideLayout" Target="../slideLayouts/slideLayout650.xml"/><Relationship Id="rId7" Type="http://schemas.openxmlformats.org/officeDocument/2006/relationships/slideLayout" Target="../slideLayouts/slideLayout651.xml"/><Relationship Id="rId8" Type="http://schemas.openxmlformats.org/officeDocument/2006/relationships/slideLayout" Target="../slideLayouts/slideLayout652.xml"/><Relationship Id="rId9" Type="http://schemas.openxmlformats.org/officeDocument/2006/relationships/slideLayout" Target="../slideLayouts/slideLayout653.xml"/><Relationship Id="rId10" Type="http://schemas.openxmlformats.org/officeDocument/2006/relationships/slideLayout" Target="../slideLayouts/slideLayout654.xml"/><Relationship Id="rId11" Type="http://schemas.openxmlformats.org/officeDocument/2006/relationships/slideLayout" Target="../slideLayouts/slideLayout655.xml"/><Relationship Id="rId12" Type="http://schemas.openxmlformats.org/officeDocument/2006/relationships/slideLayout" Target="../slideLayouts/slideLayout656.xml"/><Relationship Id="rId13" Type="http://schemas.openxmlformats.org/officeDocument/2006/relationships/slideLayout" Target="../slideLayouts/slideLayout657.xml"/><Relationship Id="rId14" Type="http://schemas.openxmlformats.org/officeDocument/2006/relationships/slideLayout" Target="../slideLayouts/slideLayout658.xml"/><Relationship Id="rId15" Type="http://schemas.openxmlformats.org/officeDocument/2006/relationships/slideLayout" Target="../slideLayouts/slideLayout659.xml"/><Relationship Id="rId16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61.xml"/><Relationship Id="rId6" Type="http://schemas.openxmlformats.org/officeDocument/2006/relationships/slideLayout" Target="../slideLayouts/slideLayout662.xml"/><Relationship Id="rId7" Type="http://schemas.openxmlformats.org/officeDocument/2006/relationships/slideLayout" Target="../slideLayouts/slideLayout663.xml"/><Relationship Id="rId8" Type="http://schemas.openxmlformats.org/officeDocument/2006/relationships/slideLayout" Target="../slideLayouts/slideLayout664.xml"/><Relationship Id="rId9" Type="http://schemas.openxmlformats.org/officeDocument/2006/relationships/slideLayout" Target="../slideLayouts/slideLayout665.xml"/><Relationship Id="rId10" Type="http://schemas.openxmlformats.org/officeDocument/2006/relationships/slideLayout" Target="../slideLayouts/slideLayout666.xml"/><Relationship Id="rId11" Type="http://schemas.openxmlformats.org/officeDocument/2006/relationships/slideLayout" Target="../slideLayouts/slideLayout667.xml"/><Relationship Id="rId12" Type="http://schemas.openxmlformats.org/officeDocument/2006/relationships/slideLayout" Target="../slideLayouts/slideLayout668.xml"/><Relationship Id="rId13" Type="http://schemas.openxmlformats.org/officeDocument/2006/relationships/slideLayout" Target="../slideLayouts/slideLayout669.xml"/><Relationship Id="rId14" Type="http://schemas.openxmlformats.org/officeDocument/2006/relationships/slideLayout" Target="../slideLayouts/slideLayout670.xml"/><Relationship Id="rId15" Type="http://schemas.openxmlformats.org/officeDocument/2006/relationships/slideLayout" Target="../slideLayouts/slideLayout671.xml"/><Relationship Id="rId16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73.xml"/><Relationship Id="rId6" Type="http://schemas.openxmlformats.org/officeDocument/2006/relationships/slideLayout" Target="../slideLayouts/slideLayout674.xml"/><Relationship Id="rId7" Type="http://schemas.openxmlformats.org/officeDocument/2006/relationships/slideLayout" Target="../slideLayouts/slideLayout675.xml"/><Relationship Id="rId8" Type="http://schemas.openxmlformats.org/officeDocument/2006/relationships/slideLayout" Target="../slideLayouts/slideLayout676.xml"/><Relationship Id="rId9" Type="http://schemas.openxmlformats.org/officeDocument/2006/relationships/slideLayout" Target="../slideLayouts/slideLayout677.xml"/><Relationship Id="rId10" Type="http://schemas.openxmlformats.org/officeDocument/2006/relationships/slideLayout" Target="../slideLayouts/slideLayout678.xml"/><Relationship Id="rId11" Type="http://schemas.openxmlformats.org/officeDocument/2006/relationships/slideLayout" Target="../slideLayouts/slideLayout679.xml"/><Relationship Id="rId12" Type="http://schemas.openxmlformats.org/officeDocument/2006/relationships/slideLayout" Target="../slideLayouts/slideLayout680.xml"/><Relationship Id="rId13" Type="http://schemas.openxmlformats.org/officeDocument/2006/relationships/slideLayout" Target="../slideLayouts/slideLayout681.xml"/><Relationship Id="rId14" Type="http://schemas.openxmlformats.org/officeDocument/2006/relationships/slideLayout" Target="../slideLayouts/slideLayout682.xml"/><Relationship Id="rId15" Type="http://schemas.openxmlformats.org/officeDocument/2006/relationships/slideLayout" Target="../slideLayouts/slideLayout683.xml"/><Relationship Id="rId16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85.xml"/><Relationship Id="rId6" Type="http://schemas.openxmlformats.org/officeDocument/2006/relationships/slideLayout" Target="../slideLayouts/slideLayout686.xml"/><Relationship Id="rId7" Type="http://schemas.openxmlformats.org/officeDocument/2006/relationships/slideLayout" Target="../slideLayouts/slideLayout687.xml"/><Relationship Id="rId8" Type="http://schemas.openxmlformats.org/officeDocument/2006/relationships/slideLayout" Target="../slideLayouts/slideLayout688.xml"/><Relationship Id="rId9" Type="http://schemas.openxmlformats.org/officeDocument/2006/relationships/slideLayout" Target="../slideLayouts/slideLayout689.xml"/><Relationship Id="rId10" Type="http://schemas.openxmlformats.org/officeDocument/2006/relationships/slideLayout" Target="../slideLayouts/slideLayout690.xml"/><Relationship Id="rId11" Type="http://schemas.openxmlformats.org/officeDocument/2006/relationships/slideLayout" Target="../slideLayouts/slideLayout691.xml"/><Relationship Id="rId12" Type="http://schemas.openxmlformats.org/officeDocument/2006/relationships/slideLayout" Target="../slideLayouts/slideLayout692.xml"/><Relationship Id="rId13" Type="http://schemas.openxmlformats.org/officeDocument/2006/relationships/slideLayout" Target="../slideLayouts/slideLayout693.xml"/><Relationship Id="rId14" Type="http://schemas.openxmlformats.org/officeDocument/2006/relationships/slideLayout" Target="../slideLayouts/slideLayout694.xml"/><Relationship Id="rId15" Type="http://schemas.openxmlformats.org/officeDocument/2006/relationships/slideLayout" Target="../slideLayouts/slideLayout695.xml"/><Relationship Id="rId16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97.xml"/><Relationship Id="rId6" Type="http://schemas.openxmlformats.org/officeDocument/2006/relationships/slideLayout" Target="../slideLayouts/slideLayout698.xml"/><Relationship Id="rId7" Type="http://schemas.openxmlformats.org/officeDocument/2006/relationships/slideLayout" Target="../slideLayouts/slideLayout699.xml"/><Relationship Id="rId8" Type="http://schemas.openxmlformats.org/officeDocument/2006/relationships/slideLayout" Target="../slideLayouts/slideLayout700.xml"/><Relationship Id="rId9" Type="http://schemas.openxmlformats.org/officeDocument/2006/relationships/slideLayout" Target="../slideLayouts/slideLayout701.xml"/><Relationship Id="rId10" Type="http://schemas.openxmlformats.org/officeDocument/2006/relationships/slideLayout" Target="../slideLayouts/slideLayout702.xml"/><Relationship Id="rId11" Type="http://schemas.openxmlformats.org/officeDocument/2006/relationships/slideLayout" Target="../slideLayouts/slideLayout703.xml"/><Relationship Id="rId12" Type="http://schemas.openxmlformats.org/officeDocument/2006/relationships/slideLayout" Target="../slideLayouts/slideLayout704.xml"/><Relationship Id="rId13" Type="http://schemas.openxmlformats.org/officeDocument/2006/relationships/slideLayout" Target="../slideLayouts/slideLayout705.xml"/><Relationship Id="rId14" Type="http://schemas.openxmlformats.org/officeDocument/2006/relationships/slideLayout" Target="../slideLayouts/slideLayout706.xml"/><Relationship Id="rId15" Type="http://schemas.openxmlformats.org/officeDocument/2006/relationships/slideLayout" Target="../slideLayouts/slideLayout707.xml"/><Relationship Id="rId16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09.xml"/><Relationship Id="rId6" Type="http://schemas.openxmlformats.org/officeDocument/2006/relationships/slideLayout" Target="../slideLayouts/slideLayout710.xml"/><Relationship Id="rId7" Type="http://schemas.openxmlformats.org/officeDocument/2006/relationships/slideLayout" Target="../slideLayouts/slideLayout711.xml"/><Relationship Id="rId8" Type="http://schemas.openxmlformats.org/officeDocument/2006/relationships/slideLayout" Target="../slideLayouts/slideLayout712.xml"/><Relationship Id="rId9" Type="http://schemas.openxmlformats.org/officeDocument/2006/relationships/slideLayout" Target="../slideLayouts/slideLayout713.xml"/><Relationship Id="rId10" Type="http://schemas.openxmlformats.org/officeDocument/2006/relationships/slideLayout" Target="../slideLayouts/slideLayout714.xml"/><Relationship Id="rId11" Type="http://schemas.openxmlformats.org/officeDocument/2006/relationships/slideLayout" Target="../slideLayouts/slideLayout715.xml"/><Relationship Id="rId12" Type="http://schemas.openxmlformats.org/officeDocument/2006/relationships/slideLayout" Target="../slideLayouts/slideLayout716.xml"/><Relationship Id="rId13" Type="http://schemas.openxmlformats.org/officeDocument/2006/relationships/slideLayout" Target="../slideLayouts/slideLayout717.xml"/><Relationship Id="rId14" Type="http://schemas.openxmlformats.org/officeDocument/2006/relationships/slideLayout" Target="../slideLayouts/slideLayout718.xml"/><Relationship Id="rId15" Type="http://schemas.openxmlformats.org/officeDocument/2006/relationships/slideLayout" Target="../slideLayouts/slideLayout719.xml"/><Relationship Id="rId16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21.xml"/><Relationship Id="rId6" Type="http://schemas.openxmlformats.org/officeDocument/2006/relationships/slideLayout" Target="../slideLayouts/slideLayout722.xml"/><Relationship Id="rId7" Type="http://schemas.openxmlformats.org/officeDocument/2006/relationships/slideLayout" Target="../slideLayouts/slideLayout723.xml"/><Relationship Id="rId8" Type="http://schemas.openxmlformats.org/officeDocument/2006/relationships/slideLayout" Target="../slideLayouts/slideLayout724.xml"/><Relationship Id="rId9" Type="http://schemas.openxmlformats.org/officeDocument/2006/relationships/slideLayout" Target="../slideLayouts/slideLayout725.xml"/><Relationship Id="rId10" Type="http://schemas.openxmlformats.org/officeDocument/2006/relationships/slideLayout" Target="../slideLayouts/slideLayout726.xml"/><Relationship Id="rId11" Type="http://schemas.openxmlformats.org/officeDocument/2006/relationships/slideLayout" Target="../slideLayouts/slideLayout727.xml"/><Relationship Id="rId12" Type="http://schemas.openxmlformats.org/officeDocument/2006/relationships/slideLayout" Target="../slideLayouts/slideLayout728.xml"/><Relationship Id="rId13" Type="http://schemas.openxmlformats.org/officeDocument/2006/relationships/slideLayout" Target="../slideLayouts/slideLayout729.xml"/><Relationship Id="rId14" Type="http://schemas.openxmlformats.org/officeDocument/2006/relationships/slideLayout" Target="../slideLayouts/slideLayout730.xml"/><Relationship Id="rId15" Type="http://schemas.openxmlformats.org/officeDocument/2006/relationships/slideLayout" Target="../slideLayouts/slideLayout731.xml"/><Relationship Id="rId16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33.xml"/><Relationship Id="rId6" Type="http://schemas.openxmlformats.org/officeDocument/2006/relationships/slideLayout" Target="../slideLayouts/slideLayout734.xml"/><Relationship Id="rId7" Type="http://schemas.openxmlformats.org/officeDocument/2006/relationships/slideLayout" Target="../slideLayouts/slideLayout735.xml"/><Relationship Id="rId8" Type="http://schemas.openxmlformats.org/officeDocument/2006/relationships/slideLayout" Target="../slideLayouts/slideLayout736.xml"/><Relationship Id="rId9" Type="http://schemas.openxmlformats.org/officeDocument/2006/relationships/slideLayout" Target="../slideLayouts/slideLayout737.xml"/><Relationship Id="rId10" Type="http://schemas.openxmlformats.org/officeDocument/2006/relationships/slideLayout" Target="../slideLayouts/slideLayout738.xml"/><Relationship Id="rId11" Type="http://schemas.openxmlformats.org/officeDocument/2006/relationships/slideLayout" Target="../slideLayouts/slideLayout739.xml"/><Relationship Id="rId12" Type="http://schemas.openxmlformats.org/officeDocument/2006/relationships/slideLayout" Target="../slideLayouts/slideLayout740.xml"/><Relationship Id="rId13" Type="http://schemas.openxmlformats.org/officeDocument/2006/relationships/slideLayout" Target="../slideLayouts/slideLayout741.xml"/><Relationship Id="rId14" Type="http://schemas.openxmlformats.org/officeDocument/2006/relationships/slideLayout" Target="../slideLayouts/slideLayout742.xml"/><Relationship Id="rId15" Type="http://schemas.openxmlformats.org/officeDocument/2006/relationships/slideLayout" Target="../slideLayouts/slideLayout743.xml"/><Relationship Id="rId16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45.xml"/><Relationship Id="rId6" Type="http://schemas.openxmlformats.org/officeDocument/2006/relationships/slideLayout" Target="../slideLayouts/slideLayout746.xml"/><Relationship Id="rId7" Type="http://schemas.openxmlformats.org/officeDocument/2006/relationships/slideLayout" Target="../slideLayouts/slideLayout747.xml"/><Relationship Id="rId8" Type="http://schemas.openxmlformats.org/officeDocument/2006/relationships/slideLayout" Target="../slideLayouts/slideLayout748.xml"/><Relationship Id="rId9" Type="http://schemas.openxmlformats.org/officeDocument/2006/relationships/slideLayout" Target="../slideLayouts/slideLayout749.xml"/><Relationship Id="rId10" Type="http://schemas.openxmlformats.org/officeDocument/2006/relationships/slideLayout" Target="../slideLayouts/slideLayout750.xml"/><Relationship Id="rId11" Type="http://schemas.openxmlformats.org/officeDocument/2006/relationships/slideLayout" Target="../slideLayouts/slideLayout751.xml"/><Relationship Id="rId12" Type="http://schemas.openxmlformats.org/officeDocument/2006/relationships/slideLayout" Target="../slideLayouts/slideLayout752.xml"/><Relationship Id="rId13" Type="http://schemas.openxmlformats.org/officeDocument/2006/relationships/slideLayout" Target="../slideLayouts/slideLayout753.xml"/><Relationship Id="rId14" Type="http://schemas.openxmlformats.org/officeDocument/2006/relationships/slideLayout" Target="../slideLayouts/slideLayout754.xml"/><Relationship Id="rId15" Type="http://schemas.openxmlformats.org/officeDocument/2006/relationships/slideLayout" Target="../slideLayouts/slideLayout755.xml"/><Relationship Id="rId16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57.xml"/><Relationship Id="rId6" Type="http://schemas.openxmlformats.org/officeDocument/2006/relationships/slideLayout" Target="../slideLayouts/slideLayout758.xml"/><Relationship Id="rId7" Type="http://schemas.openxmlformats.org/officeDocument/2006/relationships/slideLayout" Target="../slideLayouts/slideLayout759.xml"/><Relationship Id="rId8" Type="http://schemas.openxmlformats.org/officeDocument/2006/relationships/slideLayout" Target="../slideLayouts/slideLayout760.xml"/><Relationship Id="rId9" Type="http://schemas.openxmlformats.org/officeDocument/2006/relationships/slideLayout" Target="../slideLayouts/slideLayout761.xml"/><Relationship Id="rId10" Type="http://schemas.openxmlformats.org/officeDocument/2006/relationships/slideLayout" Target="../slideLayouts/slideLayout762.xml"/><Relationship Id="rId11" Type="http://schemas.openxmlformats.org/officeDocument/2006/relationships/slideLayout" Target="../slideLayouts/slideLayout763.xml"/><Relationship Id="rId12" Type="http://schemas.openxmlformats.org/officeDocument/2006/relationships/slideLayout" Target="../slideLayouts/slideLayout764.xml"/><Relationship Id="rId13" Type="http://schemas.openxmlformats.org/officeDocument/2006/relationships/slideLayout" Target="../slideLayouts/slideLayout765.xml"/><Relationship Id="rId14" Type="http://schemas.openxmlformats.org/officeDocument/2006/relationships/slideLayout" Target="../slideLayouts/slideLayout766.xml"/><Relationship Id="rId15" Type="http://schemas.openxmlformats.org/officeDocument/2006/relationships/slideLayout" Target="../slideLayouts/slideLayout767.xml"/><Relationship Id="rId16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69.xml"/><Relationship Id="rId6" Type="http://schemas.openxmlformats.org/officeDocument/2006/relationships/slideLayout" Target="../slideLayouts/slideLayout770.xml"/><Relationship Id="rId7" Type="http://schemas.openxmlformats.org/officeDocument/2006/relationships/slideLayout" Target="../slideLayouts/slideLayout771.xml"/><Relationship Id="rId8" Type="http://schemas.openxmlformats.org/officeDocument/2006/relationships/slideLayout" Target="../slideLayouts/slideLayout772.xml"/><Relationship Id="rId9" Type="http://schemas.openxmlformats.org/officeDocument/2006/relationships/slideLayout" Target="../slideLayouts/slideLayout773.xml"/><Relationship Id="rId10" Type="http://schemas.openxmlformats.org/officeDocument/2006/relationships/slideLayout" Target="../slideLayouts/slideLayout774.xml"/><Relationship Id="rId11" Type="http://schemas.openxmlformats.org/officeDocument/2006/relationships/slideLayout" Target="../slideLayouts/slideLayout775.xml"/><Relationship Id="rId12" Type="http://schemas.openxmlformats.org/officeDocument/2006/relationships/slideLayout" Target="../slideLayouts/slideLayout776.xml"/><Relationship Id="rId13" Type="http://schemas.openxmlformats.org/officeDocument/2006/relationships/slideLayout" Target="../slideLayouts/slideLayout777.xml"/><Relationship Id="rId14" Type="http://schemas.openxmlformats.org/officeDocument/2006/relationships/slideLayout" Target="../slideLayouts/slideLayout778.xml"/><Relationship Id="rId15" Type="http://schemas.openxmlformats.org/officeDocument/2006/relationships/slideLayout" Target="../slideLayouts/slideLayout779.xml"/><Relationship Id="rId16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81.xml"/><Relationship Id="rId6" Type="http://schemas.openxmlformats.org/officeDocument/2006/relationships/slideLayout" Target="../slideLayouts/slideLayout782.xml"/><Relationship Id="rId7" Type="http://schemas.openxmlformats.org/officeDocument/2006/relationships/slideLayout" Target="../slideLayouts/slideLayout783.xml"/><Relationship Id="rId8" Type="http://schemas.openxmlformats.org/officeDocument/2006/relationships/slideLayout" Target="../slideLayouts/slideLayout784.xml"/><Relationship Id="rId9" Type="http://schemas.openxmlformats.org/officeDocument/2006/relationships/slideLayout" Target="../slideLayouts/slideLayout785.xml"/><Relationship Id="rId10" Type="http://schemas.openxmlformats.org/officeDocument/2006/relationships/slideLayout" Target="../slideLayouts/slideLayout786.xml"/><Relationship Id="rId11" Type="http://schemas.openxmlformats.org/officeDocument/2006/relationships/slideLayout" Target="../slideLayouts/slideLayout787.xml"/><Relationship Id="rId12" Type="http://schemas.openxmlformats.org/officeDocument/2006/relationships/slideLayout" Target="../slideLayouts/slideLayout788.xml"/><Relationship Id="rId13" Type="http://schemas.openxmlformats.org/officeDocument/2006/relationships/slideLayout" Target="../slideLayouts/slideLayout789.xml"/><Relationship Id="rId14" Type="http://schemas.openxmlformats.org/officeDocument/2006/relationships/slideLayout" Target="../slideLayouts/slideLayout790.xml"/><Relationship Id="rId15" Type="http://schemas.openxmlformats.org/officeDocument/2006/relationships/slideLayout" Target="../slideLayouts/slideLayout791.xml"/><Relationship Id="rId16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93.xml"/><Relationship Id="rId6" Type="http://schemas.openxmlformats.org/officeDocument/2006/relationships/slideLayout" Target="../slideLayouts/slideLayout794.xml"/><Relationship Id="rId7" Type="http://schemas.openxmlformats.org/officeDocument/2006/relationships/slideLayout" Target="../slideLayouts/slideLayout795.xml"/><Relationship Id="rId8" Type="http://schemas.openxmlformats.org/officeDocument/2006/relationships/slideLayout" Target="../slideLayouts/slideLayout796.xml"/><Relationship Id="rId9" Type="http://schemas.openxmlformats.org/officeDocument/2006/relationships/slideLayout" Target="../slideLayouts/slideLayout797.xml"/><Relationship Id="rId10" Type="http://schemas.openxmlformats.org/officeDocument/2006/relationships/slideLayout" Target="../slideLayouts/slideLayout798.xml"/><Relationship Id="rId11" Type="http://schemas.openxmlformats.org/officeDocument/2006/relationships/slideLayout" Target="../slideLayouts/slideLayout799.xml"/><Relationship Id="rId12" Type="http://schemas.openxmlformats.org/officeDocument/2006/relationships/slideLayout" Target="../slideLayouts/slideLayout800.xml"/><Relationship Id="rId13" Type="http://schemas.openxmlformats.org/officeDocument/2006/relationships/slideLayout" Target="../slideLayouts/slideLayout801.xml"/><Relationship Id="rId14" Type="http://schemas.openxmlformats.org/officeDocument/2006/relationships/slideLayout" Target="../slideLayouts/slideLayout802.xml"/><Relationship Id="rId15" Type="http://schemas.openxmlformats.org/officeDocument/2006/relationships/slideLayout" Target="../slideLayouts/slideLayout803.xml"/><Relationship Id="rId16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05.xml"/><Relationship Id="rId6" Type="http://schemas.openxmlformats.org/officeDocument/2006/relationships/slideLayout" Target="../slideLayouts/slideLayout806.xml"/><Relationship Id="rId7" Type="http://schemas.openxmlformats.org/officeDocument/2006/relationships/slideLayout" Target="../slideLayouts/slideLayout807.xml"/><Relationship Id="rId8" Type="http://schemas.openxmlformats.org/officeDocument/2006/relationships/slideLayout" Target="../slideLayouts/slideLayout808.xml"/><Relationship Id="rId9" Type="http://schemas.openxmlformats.org/officeDocument/2006/relationships/slideLayout" Target="../slideLayouts/slideLayout809.xml"/><Relationship Id="rId10" Type="http://schemas.openxmlformats.org/officeDocument/2006/relationships/slideLayout" Target="../slideLayouts/slideLayout810.xml"/><Relationship Id="rId11" Type="http://schemas.openxmlformats.org/officeDocument/2006/relationships/slideLayout" Target="../slideLayouts/slideLayout811.xml"/><Relationship Id="rId12" Type="http://schemas.openxmlformats.org/officeDocument/2006/relationships/slideLayout" Target="../slideLayouts/slideLayout812.xml"/><Relationship Id="rId13" Type="http://schemas.openxmlformats.org/officeDocument/2006/relationships/slideLayout" Target="../slideLayouts/slideLayout813.xml"/><Relationship Id="rId14" Type="http://schemas.openxmlformats.org/officeDocument/2006/relationships/slideLayout" Target="../slideLayouts/slideLayout814.xml"/><Relationship Id="rId15" Type="http://schemas.openxmlformats.org/officeDocument/2006/relationships/slideLayout" Target="../slideLayouts/slideLayout815.xml"/><Relationship Id="rId16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17.xml"/><Relationship Id="rId6" Type="http://schemas.openxmlformats.org/officeDocument/2006/relationships/slideLayout" Target="../slideLayouts/slideLayout818.xml"/><Relationship Id="rId7" Type="http://schemas.openxmlformats.org/officeDocument/2006/relationships/slideLayout" Target="../slideLayouts/slideLayout819.xml"/><Relationship Id="rId8" Type="http://schemas.openxmlformats.org/officeDocument/2006/relationships/slideLayout" Target="../slideLayouts/slideLayout820.xml"/><Relationship Id="rId9" Type="http://schemas.openxmlformats.org/officeDocument/2006/relationships/slideLayout" Target="../slideLayouts/slideLayout821.xml"/><Relationship Id="rId10" Type="http://schemas.openxmlformats.org/officeDocument/2006/relationships/slideLayout" Target="../slideLayouts/slideLayout822.xml"/><Relationship Id="rId11" Type="http://schemas.openxmlformats.org/officeDocument/2006/relationships/slideLayout" Target="../slideLayouts/slideLayout823.xml"/><Relationship Id="rId12" Type="http://schemas.openxmlformats.org/officeDocument/2006/relationships/slideLayout" Target="../slideLayouts/slideLayout824.xml"/><Relationship Id="rId13" Type="http://schemas.openxmlformats.org/officeDocument/2006/relationships/slideLayout" Target="../slideLayouts/slideLayout825.xml"/><Relationship Id="rId14" Type="http://schemas.openxmlformats.org/officeDocument/2006/relationships/slideLayout" Target="../slideLayouts/slideLayout826.xml"/><Relationship Id="rId15" Type="http://schemas.openxmlformats.org/officeDocument/2006/relationships/slideLayout" Target="../slideLayouts/slideLayout827.xml"/><Relationship Id="rId16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29.xml"/><Relationship Id="rId7" Type="http://schemas.openxmlformats.org/officeDocument/2006/relationships/slideLayout" Target="../slideLayouts/slideLayout830.xml"/><Relationship Id="rId8" Type="http://schemas.openxmlformats.org/officeDocument/2006/relationships/slideLayout" Target="../slideLayouts/slideLayout831.xml"/><Relationship Id="rId9" Type="http://schemas.openxmlformats.org/officeDocument/2006/relationships/slideLayout" Target="../slideLayouts/slideLayout832.xml"/><Relationship Id="rId10" Type="http://schemas.openxmlformats.org/officeDocument/2006/relationships/slideLayout" Target="../slideLayouts/slideLayout833.xml"/><Relationship Id="rId11" Type="http://schemas.openxmlformats.org/officeDocument/2006/relationships/slideLayout" Target="../slideLayouts/slideLayout834.xml"/><Relationship Id="rId12" Type="http://schemas.openxmlformats.org/officeDocument/2006/relationships/slideLayout" Target="../slideLayouts/slideLayout835.xml"/><Relationship Id="rId13" Type="http://schemas.openxmlformats.org/officeDocument/2006/relationships/slideLayout" Target="../slideLayouts/slideLayout836.xml"/><Relationship Id="rId14" Type="http://schemas.openxmlformats.org/officeDocument/2006/relationships/slideLayout" Target="../slideLayouts/slideLayout837.xml"/><Relationship Id="rId15" Type="http://schemas.openxmlformats.org/officeDocument/2006/relationships/slideLayout" Target="../slideLayouts/slideLayout838.xml"/><Relationship Id="rId16" Type="http://schemas.openxmlformats.org/officeDocument/2006/relationships/slideLayout" Target="../slideLayouts/slideLayout839.xml"/><Relationship Id="rId17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41.xml"/><Relationship Id="rId7" Type="http://schemas.openxmlformats.org/officeDocument/2006/relationships/slideLayout" Target="../slideLayouts/slideLayout842.xml"/><Relationship Id="rId8" Type="http://schemas.openxmlformats.org/officeDocument/2006/relationships/slideLayout" Target="../slideLayouts/slideLayout843.xml"/><Relationship Id="rId9" Type="http://schemas.openxmlformats.org/officeDocument/2006/relationships/slideLayout" Target="../slideLayouts/slideLayout844.xml"/><Relationship Id="rId10" Type="http://schemas.openxmlformats.org/officeDocument/2006/relationships/slideLayout" Target="../slideLayouts/slideLayout845.xml"/><Relationship Id="rId11" Type="http://schemas.openxmlformats.org/officeDocument/2006/relationships/slideLayout" Target="../slideLayouts/slideLayout846.xml"/><Relationship Id="rId12" Type="http://schemas.openxmlformats.org/officeDocument/2006/relationships/slideLayout" Target="../slideLayouts/slideLayout847.xml"/><Relationship Id="rId13" Type="http://schemas.openxmlformats.org/officeDocument/2006/relationships/slideLayout" Target="../slideLayouts/slideLayout848.xml"/><Relationship Id="rId14" Type="http://schemas.openxmlformats.org/officeDocument/2006/relationships/slideLayout" Target="../slideLayouts/slideLayout849.xml"/><Relationship Id="rId15" Type="http://schemas.openxmlformats.org/officeDocument/2006/relationships/slideLayout" Target="../slideLayouts/slideLayout850.xml"/><Relationship Id="rId16" Type="http://schemas.openxmlformats.org/officeDocument/2006/relationships/slideLayout" Target="../slideLayouts/slideLayout851.xml"/><Relationship Id="rId17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53.xml"/><Relationship Id="rId7" Type="http://schemas.openxmlformats.org/officeDocument/2006/relationships/slideLayout" Target="../slideLayouts/slideLayout854.xml"/><Relationship Id="rId8" Type="http://schemas.openxmlformats.org/officeDocument/2006/relationships/slideLayout" Target="../slideLayouts/slideLayout855.xml"/><Relationship Id="rId9" Type="http://schemas.openxmlformats.org/officeDocument/2006/relationships/slideLayout" Target="../slideLayouts/slideLayout856.xml"/><Relationship Id="rId10" Type="http://schemas.openxmlformats.org/officeDocument/2006/relationships/slideLayout" Target="../slideLayouts/slideLayout857.xml"/><Relationship Id="rId11" Type="http://schemas.openxmlformats.org/officeDocument/2006/relationships/slideLayout" Target="../slideLayouts/slideLayout858.xml"/><Relationship Id="rId12" Type="http://schemas.openxmlformats.org/officeDocument/2006/relationships/slideLayout" Target="../slideLayouts/slideLayout859.xml"/><Relationship Id="rId13" Type="http://schemas.openxmlformats.org/officeDocument/2006/relationships/slideLayout" Target="../slideLayouts/slideLayout860.xml"/><Relationship Id="rId14" Type="http://schemas.openxmlformats.org/officeDocument/2006/relationships/slideLayout" Target="../slideLayouts/slideLayout861.xml"/><Relationship Id="rId15" Type="http://schemas.openxmlformats.org/officeDocument/2006/relationships/slideLayout" Target="../slideLayouts/slideLayout862.xml"/><Relationship Id="rId16" Type="http://schemas.openxmlformats.org/officeDocument/2006/relationships/slideLayout" Target="../slideLayouts/slideLayout863.xml"/><Relationship Id="rId17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65.xml"/><Relationship Id="rId7" Type="http://schemas.openxmlformats.org/officeDocument/2006/relationships/slideLayout" Target="../slideLayouts/slideLayout866.xml"/><Relationship Id="rId8" Type="http://schemas.openxmlformats.org/officeDocument/2006/relationships/slideLayout" Target="../slideLayouts/slideLayout867.xml"/><Relationship Id="rId9" Type="http://schemas.openxmlformats.org/officeDocument/2006/relationships/slideLayout" Target="../slideLayouts/slideLayout868.xml"/><Relationship Id="rId10" Type="http://schemas.openxmlformats.org/officeDocument/2006/relationships/slideLayout" Target="../slideLayouts/slideLayout869.xml"/><Relationship Id="rId11" Type="http://schemas.openxmlformats.org/officeDocument/2006/relationships/slideLayout" Target="../slideLayouts/slideLayout870.xml"/><Relationship Id="rId12" Type="http://schemas.openxmlformats.org/officeDocument/2006/relationships/slideLayout" Target="../slideLayouts/slideLayout871.xml"/><Relationship Id="rId13" Type="http://schemas.openxmlformats.org/officeDocument/2006/relationships/slideLayout" Target="../slideLayouts/slideLayout872.xml"/><Relationship Id="rId14" Type="http://schemas.openxmlformats.org/officeDocument/2006/relationships/slideLayout" Target="../slideLayouts/slideLayout873.xml"/><Relationship Id="rId15" Type="http://schemas.openxmlformats.org/officeDocument/2006/relationships/slideLayout" Target="../slideLayouts/slideLayout874.xml"/><Relationship Id="rId16" Type="http://schemas.openxmlformats.org/officeDocument/2006/relationships/slideLayout" Target="../slideLayouts/slideLayout875.xml"/><Relationship Id="rId17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77.xml"/><Relationship Id="rId7" Type="http://schemas.openxmlformats.org/officeDocument/2006/relationships/slideLayout" Target="../slideLayouts/slideLayout878.xml"/><Relationship Id="rId8" Type="http://schemas.openxmlformats.org/officeDocument/2006/relationships/slideLayout" Target="../slideLayouts/slideLayout879.xml"/><Relationship Id="rId9" Type="http://schemas.openxmlformats.org/officeDocument/2006/relationships/slideLayout" Target="../slideLayouts/slideLayout880.xml"/><Relationship Id="rId10" Type="http://schemas.openxmlformats.org/officeDocument/2006/relationships/slideLayout" Target="../slideLayouts/slideLayout881.xml"/><Relationship Id="rId11" Type="http://schemas.openxmlformats.org/officeDocument/2006/relationships/slideLayout" Target="../slideLayouts/slideLayout882.xml"/><Relationship Id="rId12" Type="http://schemas.openxmlformats.org/officeDocument/2006/relationships/slideLayout" Target="../slideLayouts/slideLayout883.xml"/><Relationship Id="rId13" Type="http://schemas.openxmlformats.org/officeDocument/2006/relationships/slideLayout" Target="../slideLayouts/slideLayout884.xml"/><Relationship Id="rId14" Type="http://schemas.openxmlformats.org/officeDocument/2006/relationships/slideLayout" Target="../slideLayouts/slideLayout885.xml"/><Relationship Id="rId15" Type="http://schemas.openxmlformats.org/officeDocument/2006/relationships/slideLayout" Target="../slideLayouts/slideLayout886.xml"/><Relationship Id="rId16" Type="http://schemas.openxmlformats.org/officeDocument/2006/relationships/slideLayout" Target="../slideLayouts/slideLayout887.xml"/><Relationship Id="rId17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89.xml"/><Relationship Id="rId7" Type="http://schemas.openxmlformats.org/officeDocument/2006/relationships/slideLayout" Target="../slideLayouts/slideLayout890.xml"/><Relationship Id="rId8" Type="http://schemas.openxmlformats.org/officeDocument/2006/relationships/slideLayout" Target="../slideLayouts/slideLayout891.xml"/><Relationship Id="rId9" Type="http://schemas.openxmlformats.org/officeDocument/2006/relationships/slideLayout" Target="../slideLayouts/slideLayout892.xml"/><Relationship Id="rId10" Type="http://schemas.openxmlformats.org/officeDocument/2006/relationships/slideLayout" Target="../slideLayouts/slideLayout893.xml"/><Relationship Id="rId11" Type="http://schemas.openxmlformats.org/officeDocument/2006/relationships/slideLayout" Target="../slideLayouts/slideLayout894.xml"/><Relationship Id="rId12" Type="http://schemas.openxmlformats.org/officeDocument/2006/relationships/slideLayout" Target="../slideLayouts/slideLayout895.xml"/><Relationship Id="rId13" Type="http://schemas.openxmlformats.org/officeDocument/2006/relationships/slideLayout" Target="../slideLayouts/slideLayout896.xml"/><Relationship Id="rId14" Type="http://schemas.openxmlformats.org/officeDocument/2006/relationships/slideLayout" Target="../slideLayouts/slideLayout897.xml"/><Relationship Id="rId15" Type="http://schemas.openxmlformats.org/officeDocument/2006/relationships/slideLayout" Target="../slideLayouts/slideLayout898.xml"/><Relationship Id="rId16" Type="http://schemas.openxmlformats.org/officeDocument/2006/relationships/slideLayout" Target="../slideLayouts/slideLayout899.xml"/><Relationship Id="rId17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901.xml"/><Relationship Id="rId7" Type="http://schemas.openxmlformats.org/officeDocument/2006/relationships/slideLayout" Target="../slideLayouts/slideLayout902.xml"/><Relationship Id="rId8" Type="http://schemas.openxmlformats.org/officeDocument/2006/relationships/slideLayout" Target="../slideLayouts/slideLayout903.xml"/><Relationship Id="rId9" Type="http://schemas.openxmlformats.org/officeDocument/2006/relationships/slideLayout" Target="../slideLayouts/slideLayout904.xml"/><Relationship Id="rId10" Type="http://schemas.openxmlformats.org/officeDocument/2006/relationships/slideLayout" Target="../slideLayouts/slideLayout905.xml"/><Relationship Id="rId11" Type="http://schemas.openxmlformats.org/officeDocument/2006/relationships/slideLayout" Target="../slideLayouts/slideLayout906.xml"/><Relationship Id="rId12" Type="http://schemas.openxmlformats.org/officeDocument/2006/relationships/slideLayout" Target="../slideLayouts/slideLayout907.xml"/><Relationship Id="rId13" Type="http://schemas.openxmlformats.org/officeDocument/2006/relationships/slideLayout" Target="../slideLayouts/slideLayout908.xml"/><Relationship Id="rId14" Type="http://schemas.openxmlformats.org/officeDocument/2006/relationships/slideLayout" Target="../slideLayouts/slideLayout909.xml"/><Relationship Id="rId15" Type="http://schemas.openxmlformats.org/officeDocument/2006/relationships/slideLayout" Target="../slideLayouts/slideLayout910.xml"/><Relationship Id="rId16" Type="http://schemas.openxmlformats.org/officeDocument/2006/relationships/slideLayout" Target="../slideLayouts/slideLayout911.xml"/><Relationship Id="rId17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913.xml"/><Relationship Id="rId7" Type="http://schemas.openxmlformats.org/officeDocument/2006/relationships/slideLayout" Target="../slideLayouts/slideLayout914.xml"/><Relationship Id="rId8" Type="http://schemas.openxmlformats.org/officeDocument/2006/relationships/slideLayout" Target="../slideLayouts/slideLayout915.xml"/><Relationship Id="rId9" Type="http://schemas.openxmlformats.org/officeDocument/2006/relationships/slideLayout" Target="../slideLayouts/slideLayout916.xml"/><Relationship Id="rId10" Type="http://schemas.openxmlformats.org/officeDocument/2006/relationships/slideLayout" Target="../slideLayouts/slideLayout917.xml"/><Relationship Id="rId11" Type="http://schemas.openxmlformats.org/officeDocument/2006/relationships/slideLayout" Target="../slideLayouts/slideLayout918.xml"/><Relationship Id="rId12" Type="http://schemas.openxmlformats.org/officeDocument/2006/relationships/slideLayout" Target="../slideLayouts/slideLayout919.xml"/><Relationship Id="rId13" Type="http://schemas.openxmlformats.org/officeDocument/2006/relationships/slideLayout" Target="../slideLayouts/slideLayout920.xml"/><Relationship Id="rId14" Type="http://schemas.openxmlformats.org/officeDocument/2006/relationships/slideLayout" Target="../slideLayouts/slideLayout921.xml"/><Relationship Id="rId15" Type="http://schemas.openxmlformats.org/officeDocument/2006/relationships/slideLayout" Target="../slideLayouts/slideLayout922.xml"/><Relationship Id="rId16" Type="http://schemas.openxmlformats.org/officeDocument/2006/relationships/slideLayout" Target="../slideLayouts/slideLayout923.xml"/><Relationship Id="rId17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925.xml"/><Relationship Id="rId7" Type="http://schemas.openxmlformats.org/officeDocument/2006/relationships/slideLayout" Target="../slideLayouts/slideLayout926.xml"/><Relationship Id="rId8" Type="http://schemas.openxmlformats.org/officeDocument/2006/relationships/slideLayout" Target="../slideLayouts/slideLayout927.xml"/><Relationship Id="rId9" Type="http://schemas.openxmlformats.org/officeDocument/2006/relationships/slideLayout" Target="../slideLayouts/slideLayout928.xml"/><Relationship Id="rId10" Type="http://schemas.openxmlformats.org/officeDocument/2006/relationships/slideLayout" Target="../slideLayouts/slideLayout929.xml"/><Relationship Id="rId11" Type="http://schemas.openxmlformats.org/officeDocument/2006/relationships/slideLayout" Target="../slideLayouts/slideLayout930.xml"/><Relationship Id="rId12" Type="http://schemas.openxmlformats.org/officeDocument/2006/relationships/slideLayout" Target="../slideLayouts/slideLayout931.xml"/><Relationship Id="rId13" Type="http://schemas.openxmlformats.org/officeDocument/2006/relationships/slideLayout" Target="../slideLayouts/slideLayout932.xml"/><Relationship Id="rId14" Type="http://schemas.openxmlformats.org/officeDocument/2006/relationships/slideLayout" Target="../slideLayouts/slideLayout933.xml"/><Relationship Id="rId15" Type="http://schemas.openxmlformats.org/officeDocument/2006/relationships/slideLayout" Target="../slideLayouts/slideLayout934.xml"/><Relationship Id="rId16" Type="http://schemas.openxmlformats.org/officeDocument/2006/relationships/slideLayout" Target="../slideLayouts/slideLayout935.xml"/><Relationship Id="rId17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937.xml"/><Relationship Id="rId7" Type="http://schemas.openxmlformats.org/officeDocument/2006/relationships/slideLayout" Target="../slideLayouts/slideLayout938.xml"/><Relationship Id="rId8" Type="http://schemas.openxmlformats.org/officeDocument/2006/relationships/slideLayout" Target="../slideLayouts/slideLayout939.xml"/><Relationship Id="rId9" Type="http://schemas.openxmlformats.org/officeDocument/2006/relationships/slideLayout" Target="../slideLayouts/slideLayout940.xml"/><Relationship Id="rId10" Type="http://schemas.openxmlformats.org/officeDocument/2006/relationships/slideLayout" Target="../slideLayouts/slideLayout941.xml"/><Relationship Id="rId11" Type="http://schemas.openxmlformats.org/officeDocument/2006/relationships/slideLayout" Target="../slideLayouts/slideLayout942.xml"/><Relationship Id="rId12" Type="http://schemas.openxmlformats.org/officeDocument/2006/relationships/slideLayout" Target="../slideLayouts/slideLayout943.xml"/><Relationship Id="rId13" Type="http://schemas.openxmlformats.org/officeDocument/2006/relationships/slideLayout" Target="../slideLayouts/slideLayout944.xml"/><Relationship Id="rId14" Type="http://schemas.openxmlformats.org/officeDocument/2006/relationships/slideLayout" Target="../slideLayouts/slideLayout945.xml"/><Relationship Id="rId15" Type="http://schemas.openxmlformats.org/officeDocument/2006/relationships/slideLayout" Target="../slideLayouts/slideLayout946.xml"/><Relationship Id="rId16" Type="http://schemas.openxmlformats.org/officeDocument/2006/relationships/slideLayout" Target="../slideLayouts/slideLayout947.xml"/><Relationship Id="rId17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949.xml"/><Relationship Id="rId7" Type="http://schemas.openxmlformats.org/officeDocument/2006/relationships/slideLayout" Target="../slideLayouts/slideLayout950.xml"/><Relationship Id="rId8" Type="http://schemas.openxmlformats.org/officeDocument/2006/relationships/slideLayout" Target="../slideLayouts/slideLayout951.xml"/><Relationship Id="rId9" Type="http://schemas.openxmlformats.org/officeDocument/2006/relationships/slideLayout" Target="../slideLayouts/slideLayout952.xml"/><Relationship Id="rId10" Type="http://schemas.openxmlformats.org/officeDocument/2006/relationships/slideLayout" Target="../slideLayouts/slideLayout953.xml"/><Relationship Id="rId11" Type="http://schemas.openxmlformats.org/officeDocument/2006/relationships/slideLayout" Target="../slideLayouts/slideLayout954.xml"/><Relationship Id="rId12" Type="http://schemas.openxmlformats.org/officeDocument/2006/relationships/slideLayout" Target="../slideLayouts/slideLayout955.xml"/><Relationship Id="rId13" Type="http://schemas.openxmlformats.org/officeDocument/2006/relationships/slideLayout" Target="../slideLayouts/slideLayout956.xml"/><Relationship Id="rId14" Type="http://schemas.openxmlformats.org/officeDocument/2006/relationships/slideLayout" Target="../slideLayouts/slideLayout957.xml"/><Relationship Id="rId15" Type="http://schemas.openxmlformats.org/officeDocument/2006/relationships/slideLayout" Target="../slideLayouts/slideLayout958.xml"/><Relationship Id="rId16" Type="http://schemas.openxmlformats.org/officeDocument/2006/relationships/slideLayout" Target="../slideLayouts/slideLayout959.xml"/><Relationship Id="rId17" Type="http://schemas.openxmlformats.org/officeDocument/2006/relationships/slideLayout" Target="../slideLayouts/slideLayout960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Line 5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3D76-DDCE-4279-B57D-2AA9A78EE641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8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thank_you_left"/>
          <p:cNvPicPr/>
          <p:nvPr/>
        </p:nvPicPr>
        <p:blipFill>
          <a:blip r:embed="rId2"/>
          <a:stretch/>
        </p:blipFill>
        <p:spPr>
          <a:xfrm>
            <a:off x="0" y="4492800"/>
            <a:ext cx="1908000" cy="2365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thank_you_leftback"/>
          <p:cNvPicPr/>
          <p:nvPr/>
        </p:nvPicPr>
        <p:blipFill>
          <a:blip r:embed="rId3"/>
          <a:stretch/>
        </p:blipFill>
        <p:spPr>
          <a:xfrm>
            <a:off x="0" y="0"/>
            <a:ext cx="1909800" cy="4508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河山图标"/>
          <p:cNvPicPr/>
          <p:nvPr/>
        </p:nvPicPr>
        <p:blipFill>
          <a:blip r:embed="rId4"/>
          <a:stretch/>
        </p:blipFill>
        <p:spPr>
          <a:xfrm>
            <a:off x="304812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1"/>
          <p:cNvPicPr/>
          <p:nvPr/>
        </p:nvPicPr>
        <p:blipFill>
          <a:blip r:embed="rId5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B79D-BB15-4ED4-AE30-B7430D4AF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35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36" name="Picture 4" descr="minispir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7" name="Line 10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3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3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919A-4786-4170-AD3D-6B5B36E49528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81" name="Picture 4" descr="minispir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Line 10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03D0-5ADD-4AE1-90C3-4660504D16F5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164C-5BBC-47B7-BA25-FD50D7CE0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378A-3F1C-4977-B02B-1E1B37619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2C03-D346-4724-ADC9-7718CF2EA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9051-0DB6-441E-947F-6284FE7ED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607C-D3C5-4B77-AA4A-18582C1A3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03CF-2648-4FDC-B073-990F248A7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06F4-4D90-48A0-AF07-36D5A4EA4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Line 5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3FBD-81EE-422C-99CD-77710EE31C68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D3CD-8B49-4F87-83CA-287A0CE5A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211F-F4E0-48A1-B812-16155C88A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DC52-D149-4814-A7B9-FE5AA2310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1599-061E-43CB-A74B-A3FD745C5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70BB-760B-4DFF-996D-A0067AF9C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096D-0462-4721-96B9-897F54DCD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674C-0C7B-4249-A438-68D895DCE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7AB9-A43A-47BD-96EA-19DCDE75A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A9AD-DA46-4392-9E63-6F39249C9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230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1EC5-08FC-4F59-BB23-B4FE7C257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93B4-13D9-49F2-A6AC-E2259941F4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2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1273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274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39E8-96D3-454D-8E73-27B630598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6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6BEC-2300-4AF2-9D49-0E7A0E863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1361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9355-84A4-43AA-A3F6-3D6C6CA3E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1405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8817-DDCA-40F8-83FD-7A991D859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1449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265D-3A99-4D5C-96F1-42BD320D0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4FCA-7A21-4DA8-AAB6-FF5038405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CE07-B307-487D-874A-7AADBCF7B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ACF7-0FBE-480D-AF2A-A89F8C7F6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BED2-8443-4913-B3F5-B9C892E75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CD41-9CDD-402C-830C-93565BF6A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A221-A5CC-4CBE-BFE0-022801CD3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1648-40D6-40B0-98EC-8673A9FF9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0274-55C2-4341-9872-8F4538C23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0D44-4CC9-41AB-BDB2-D450381DF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A2A7-A559-42FC-8955-C13F63489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 type="dt" idx="1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 type="ftr" idx="1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E232-377E-4872-AEC6-90A5CD001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 type="dt" idx="1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906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EE86-7F6B-4E22-AF80-92B6CBB61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947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47C8-5203-47FE-9E2F-516377D61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 type="dt" idx="1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 type="ftr" idx="1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988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F197-B6FF-4E1A-B1DD-0715D6ACD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5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026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 type="dt" idx="14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 type="sldNum" idx="14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2D39-1FF7-4433-A5C7-A50C30E0A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9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070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071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 type="dt" idx="14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 type="sldNum" idx="14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58E6-0431-49E7-BE54-D7142D2A4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5"/>
    <p:sldLayoutId id="2147484274" r:id="rId6"/>
    <p:sldLayoutId id="2147484275" r:id="rId7"/>
    <p:sldLayoutId id="2147484276" r:id="rId8"/>
    <p:sldLayoutId id="2147484277" r:id="rId9"/>
    <p:sldLayoutId id="2147484278" r:id="rId10"/>
    <p:sldLayoutId id="2147484279" r:id="rId11"/>
    <p:sldLayoutId id="2147484280" r:id="rId12"/>
    <p:sldLayoutId id="2147484281" r:id="rId13"/>
    <p:sldLayoutId id="2147484282" r:id="rId14"/>
    <p:sldLayoutId id="2147484283" r:id="rId15"/>
    <p:sldLayoutId id="2147484284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CD78-921B-44AB-B5F8-9AAE052E3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3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114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115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 type="dt" idx="14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 type="sldNum" idx="15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3F28-1456-4FCA-8AF8-2D9B79B29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5"/>
    <p:sldLayoutId id="2147484287" r:id="rId6"/>
    <p:sldLayoutId id="2147484288" r:id="rId7"/>
    <p:sldLayoutId id="2147484289" r:id="rId8"/>
    <p:sldLayoutId id="2147484290" r:id="rId9"/>
    <p:sldLayoutId id="2147484291" r:id="rId10"/>
    <p:sldLayoutId id="2147484292" r:id="rId11"/>
    <p:sldLayoutId id="2147484293" r:id="rId12"/>
    <p:sldLayoutId id="2147484294" r:id="rId13"/>
    <p:sldLayoutId id="2147484295" r:id="rId14"/>
    <p:sldLayoutId id="2147484296" r:id="rId15"/>
    <p:sldLayoutId id="2147484297" r:id="rId16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7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158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159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 type="dt" idx="15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 type="sldNum" idx="15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38D9-966B-4B54-A2A8-7C2555489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5"/>
    <p:sldLayoutId id="2147484300" r:id="rId6"/>
    <p:sldLayoutId id="2147484301" r:id="rId7"/>
    <p:sldLayoutId id="2147484302" r:id="rId8"/>
    <p:sldLayoutId id="2147484303" r:id="rId9"/>
    <p:sldLayoutId id="2147484304" r:id="rId10"/>
    <p:sldLayoutId id="2147484305" r:id="rId11"/>
    <p:sldLayoutId id="2147484306" r:id="rId12"/>
    <p:sldLayoutId id="2147484307" r:id="rId13"/>
    <p:sldLayoutId id="2147484308" r:id="rId14"/>
    <p:sldLayoutId id="2147484309" r:id="rId15"/>
    <p:sldLayoutId id="2147484310" r:id="rId16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1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202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203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36B0-4F49-44AB-81C9-3EDD57ED9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5"/>
    <p:sldLayoutId id="2147484313" r:id="rId6"/>
    <p:sldLayoutId id="2147484314" r:id="rId7"/>
    <p:sldLayoutId id="2147484315" r:id="rId8"/>
    <p:sldLayoutId id="2147484316" r:id="rId9"/>
    <p:sldLayoutId id="2147484317" r:id="rId10"/>
    <p:sldLayoutId id="2147484318" r:id="rId11"/>
    <p:sldLayoutId id="2147484319" r:id="rId12"/>
    <p:sldLayoutId id="2147484320" r:id="rId13"/>
    <p:sldLayoutId id="2147484321" r:id="rId14"/>
    <p:sldLayoutId id="2147484322" r:id="rId15"/>
    <p:sldLayoutId id="2147484323" r:id="rId16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5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246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247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E153-EE51-4432-8D63-FD2CF8FF7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5"/>
    <p:sldLayoutId id="2147484326" r:id="rId6"/>
    <p:sldLayoutId id="2147484327" r:id="rId7"/>
    <p:sldLayoutId id="2147484328" r:id="rId8"/>
    <p:sldLayoutId id="2147484329" r:id="rId9"/>
    <p:sldLayoutId id="2147484330" r:id="rId10"/>
    <p:sldLayoutId id="2147484331" r:id="rId11"/>
    <p:sldLayoutId id="2147484332" r:id="rId12"/>
    <p:sldLayoutId id="2147484333" r:id="rId13"/>
    <p:sldLayoutId id="2147484334" r:id="rId14"/>
    <p:sldLayoutId id="2147484335" r:id="rId15"/>
    <p:sldLayoutId id="2147484336" r:id="rId16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9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dt" idx="16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 type="sldNum" idx="16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0508-2710-4B5F-B284-A7769FE21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5"/>
    <p:sldLayoutId id="2147484339" r:id="rId6"/>
    <p:sldLayoutId id="2147484340" r:id="rId7"/>
    <p:sldLayoutId id="2147484341" r:id="rId8"/>
    <p:sldLayoutId id="2147484342" r:id="rId9"/>
    <p:sldLayoutId id="2147484343" r:id="rId10"/>
    <p:sldLayoutId id="2147484344" r:id="rId11"/>
    <p:sldLayoutId id="2147484345" r:id="rId12"/>
    <p:sldLayoutId id="2147484346" r:id="rId13"/>
    <p:sldLayoutId id="2147484347" r:id="rId14"/>
    <p:sldLayoutId id="2147484348" r:id="rId15"/>
    <p:sldLayoutId id="2147484349" r:id="rId16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3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334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335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 type="dt" idx="16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340" name="PlaceHolder 5"/>
          <p:cNvSpPr>
            <a:spLocks noGrp="1"/>
          </p:cNvSpPr>
          <p:nvPr>
            <p:ph type="sldNum" idx="16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EB7A-D254-4637-9794-D12BED587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5"/>
    <p:sldLayoutId id="2147484352" r:id="rId6"/>
    <p:sldLayoutId id="2147484353" r:id="rId7"/>
    <p:sldLayoutId id="2147484354" r:id="rId8"/>
    <p:sldLayoutId id="2147484355" r:id="rId9"/>
    <p:sldLayoutId id="2147484356" r:id="rId10"/>
    <p:sldLayoutId id="2147484357" r:id="rId11"/>
    <p:sldLayoutId id="2147484358" r:id="rId12"/>
    <p:sldLayoutId id="2147484359" r:id="rId13"/>
    <p:sldLayoutId id="2147484360" r:id="rId14"/>
    <p:sldLayoutId id="2147484361" r:id="rId15"/>
    <p:sldLayoutId id="2147484362" r:id="rId16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7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378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379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 type="dt" idx="16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384" name="PlaceHolder 5"/>
          <p:cNvSpPr>
            <a:spLocks noGrp="1"/>
          </p:cNvSpPr>
          <p:nvPr>
            <p:ph type="sldNum" idx="16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A01A-95DD-4140-802F-554D76397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5"/>
    <p:sldLayoutId id="2147484365" r:id="rId6"/>
    <p:sldLayoutId id="2147484366" r:id="rId7"/>
    <p:sldLayoutId id="2147484367" r:id="rId8"/>
    <p:sldLayoutId id="2147484368" r:id="rId9"/>
    <p:sldLayoutId id="2147484369" r:id="rId10"/>
    <p:sldLayoutId id="2147484370" r:id="rId11"/>
    <p:sldLayoutId id="2147484371" r:id="rId12"/>
    <p:sldLayoutId id="2147484372" r:id="rId13"/>
    <p:sldLayoutId id="2147484373" r:id="rId14"/>
    <p:sldLayoutId id="2147484374" r:id="rId15"/>
    <p:sldLayoutId id="2147484375" r:id="rId16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1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422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423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 type="dt" idx="16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28" name="PlaceHolder 5"/>
          <p:cNvSpPr>
            <a:spLocks noGrp="1"/>
          </p:cNvSpPr>
          <p:nvPr>
            <p:ph type="sldNum" idx="17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D489-3E24-4155-A791-A2E40DBC9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5"/>
    <p:sldLayoutId id="2147484378" r:id="rId6"/>
    <p:sldLayoutId id="2147484379" r:id="rId7"/>
    <p:sldLayoutId id="2147484380" r:id="rId8"/>
    <p:sldLayoutId id="2147484381" r:id="rId9"/>
    <p:sldLayoutId id="2147484382" r:id="rId10"/>
    <p:sldLayoutId id="2147484383" r:id="rId11"/>
    <p:sldLayoutId id="2147484384" r:id="rId12"/>
    <p:sldLayoutId id="2147484385" r:id="rId13"/>
    <p:sldLayoutId id="2147484386" r:id="rId14"/>
    <p:sldLayoutId id="2147484387" r:id="rId15"/>
    <p:sldLayoutId id="2147484388" r:id="rId16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5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466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467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 type="dt" idx="17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 type="ftr" idx="1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72" name="PlaceHolder 5"/>
          <p:cNvSpPr>
            <a:spLocks noGrp="1"/>
          </p:cNvSpPr>
          <p:nvPr>
            <p:ph type="sldNum" idx="17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4DD0-113A-469C-87A3-4B6FF3E6C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5"/>
    <p:sldLayoutId id="2147484391" r:id="rId6"/>
    <p:sldLayoutId id="2147484392" r:id="rId7"/>
    <p:sldLayoutId id="2147484393" r:id="rId8"/>
    <p:sldLayoutId id="2147484394" r:id="rId9"/>
    <p:sldLayoutId id="2147484395" r:id="rId10"/>
    <p:sldLayoutId id="2147484396" r:id="rId11"/>
    <p:sldLayoutId id="2147484397" r:id="rId12"/>
    <p:sldLayoutId id="2147484398" r:id="rId13"/>
    <p:sldLayoutId id="2147484399" r:id="rId14"/>
    <p:sldLayoutId id="2147484400" r:id="rId15"/>
    <p:sldLayoutId id="2147484401" r:id="rId16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9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510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511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 type="dt" idx="17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 type="ftr" idx="1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 type="sldNum" idx="17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2FD6-D59A-43E6-8C46-60842B66E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5"/>
    <p:sldLayoutId id="2147484404" r:id="rId6"/>
    <p:sldLayoutId id="2147484405" r:id="rId7"/>
    <p:sldLayoutId id="2147484406" r:id="rId8"/>
    <p:sldLayoutId id="2147484407" r:id="rId9"/>
    <p:sldLayoutId id="2147484408" r:id="rId10"/>
    <p:sldLayoutId id="2147484409" r:id="rId11"/>
    <p:sldLayoutId id="2147484410" r:id="rId12"/>
    <p:sldLayoutId id="2147484411" r:id="rId13"/>
    <p:sldLayoutId id="2147484412" r:id="rId14"/>
    <p:sldLayoutId id="2147484413" r:id="rId15"/>
    <p:sldLayoutId id="2147484414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01E0-E39D-4718-9C21-F73D0A368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3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554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555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 type="dt" idx="17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 type="ftr" idx="1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60" name="PlaceHolder 5"/>
          <p:cNvSpPr>
            <a:spLocks noGrp="1"/>
          </p:cNvSpPr>
          <p:nvPr>
            <p:ph type="sldNum" idx="18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98DE-47C4-4F1E-95C4-B028E01FC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5"/>
    <p:sldLayoutId id="2147484417" r:id="rId6"/>
    <p:sldLayoutId id="2147484418" r:id="rId7"/>
    <p:sldLayoutId id="2147484419" r:id="rId8"/>
    <p:sldLayoutId id="2147484420" r:id="rId9"/>
    <p:sldLayoutId id="2147484421" r:id="rId10"/>
    <p:sldLayoutId id="2147484422" r:id="rId11"/>
    <p:sldLayoutId id="2147484423" r:id="rId12"/>
    <p:sldLayoutId id="2147484424" r:id="rId13"/>
    <p:sldLayoutId id="2147484425" r:id="rId14"/>
    <p:sldLayoutId id="2147484426" r:id="rId15"/>
    <p:sldLayoutId id="2147484427" r:id="rId16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7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598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599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 type="dt" idx="18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603" name="PlaceHolder 4"/>
          <p:cNvSpPr>
            <a:spLocks noGrp="1"/>
          </p:cNvSpPr>
          <p:nvPr>
            <p:ph type="ftr" idx="1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604" name="PlaceHolder 5"/>
          <p:cNvSpPr>
            <a:spLocks noGrp="1"/>
          </p:cNvSpPr>
          <p:nvPr>
            <p:ph type="sldNum" idx="18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71EF-1403-44C9-9479-E9D4F2BF1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5"/>
    <p:sldLayoutId id="2147484430" r:id="rId6"/>
    <p:sldLayoutId id="2147484431" r:id="rId7"/>
    <p:sldLayoutId id="2147484432" r:id="rId8"/>
    <p:sldLayoutId id="2147484433" r:id="rId9"/>
    <p:sldLayoutId id="2147484434" r:id="rId10"/>
    <p:sldLayoutId id="2147484435" r:id="rId11"/>
    <p:sldLayoutId id="2147484436" r:id="rId12"/>
    <p:sldLayoutId id="2147484437" r:id="rId13"/>
    <p:sldLayoutId id="2147484438" r:id="rId14"/>
    <p:sldLayoutId id="2147484439" r:id="rId15"/>
    <p:sldLayoutId id="2147484440" r:id="rId16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1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642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643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PlaceHolder 3"/>
          <p:cNvSpPr>
            <a:spLocks noGrp="1"/>
          </p:cNvSpPr>
          <p:nvPr>
            <p:ph type="dt" idx="18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647" name="PlaceHolder 4"/>
          <p:cNvSpPr>
            <a:spLocks noGrp="1"/>
          </p:cNvSpPr>
          <p:nvPr>
            <p:ph type="ftr" idx="1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648" name="PlaceHolder 5"/>
          <p:cNvSpPr>
            <a:spLocks noGrp="1"/>
          </p:cNvSpPr>
          <p:nvPr>
            <p:ph type="sldNum" idx="18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64D1-22B5-4EF9-B0D7-CA2C31EF2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5"/>
    <p:sldLayoutId id="2147484443" r:id="rId6"/>
    <p:sldLayoutId id="2147484444" r:id="rId7"/>
    <p:sldLayoutId id="2147484445" r:id="rId8"/>
    <p:sldLayoutId id="2147484446" r:id="rId9"/>
    <p:sldLayoutId id="2147484447" r:id="rId10"/>
    <p:sldLayoutId id="2147484448" r:id="rId11"/>
    <p:sldLayoutId id="2147484449" r:id="rId12"/>
    <p:sldLayoutId id="2147484450" r:id="rId13"/>
    <p:sldLayoutId id="2147484451" r:id="rId14"/>
    <p:sldLayoutId id="2147484452" r:id="rId15"/>
    <p:sldLayoutId id="2147484453" r:id="rId16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5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686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687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PlaceHolder 3"/>
          <p:cNvSpPr>
            <a:spLocks noGrp="1"/>
          </p:cNvSpPr>
          <p:nvPr>
            <p:ph type="dt" idx="18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691" name="PlaceHolder 4"/>
          <p:cNvSpPr>
            <a:spLocks noGrp="1"/>
          </p:cNvSpPr>
          <p:nvPr>
            <p:ph type="ftr" idx="1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692" name="PlaceHolder 5"/>
          <p:cNvSpPr>
            <a:spLocks noGrp="1"/>
          </p:cNvSpPr>
          <p:nvPr>
            <p:ph type="sldNum" idx="18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DA57-C520-4B52-AB99-C4EDDA6BC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5"/>
    <p:sldLayoutId id="2147484456" r:id="rId6"/>
    <p:sldLayoutId id="2147484457" r:id="rId7"/>
    <p:sldLayoutId id="2147484458" r:id="rId8"/>
    <p:sldLayoutId id="2147484459" r:id="rId9"/>
    <p:sldLayoutId id="2147484460" r:id="rId10"/>
    <p:sldLayoutId id="2147484461" r:id="rId11"/>
    <p:sldLayoutId id="2147484462" r:id="rId12"/>
    <p:sldLayoutId id="2147484463" r:id="rId13"/>
    <p:sldLayoutId id="2147484464" r:id="rId14"/>
    <p:sldLayoutId id="2147484465" r:id="rId15"/>
    <p:sldLayoutId id="2147484466" r:id="rId16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9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730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731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 type="dt" idx="19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 type="ftr" idx="1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36" name="PlaceHolder 5"/>
          <p:cNvSpPr>
            <a:spLocks noGrp="1"/>
          </p:cNvSpPr>
          <p:nvPr>
            <p:ph type="sldNum" idx="19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6E70-5003-40C6-9E34-8AD16D629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5"/>
    <p:sldLayoutId id="2147484469" r:id="rId6"/>
    <p:sldLayoutId id="2147484470" r:id="rId7"/>
    <p:sldLayoutId id="2147484471" r:id="rId8"/>
    <p:sldLayoutId id="2147484472" r:id="rId9"/>
    <p:sldLayoutId id="2147484473" r:id="rId10"/>
    <p:sldLayoutId id="2147484474" r:id="rId11"/>
    <p:sldLayoutId id="2147484475" r:id="rId12"/>
    <p:sldLayoutId id="2147484476" r:id="rId13"/>
    <p:sldLayoutId id="2147484477" r:id="rId14"/>
    <p:sldLayoutId id="2147484478" r:id="rId15"/>
    <p:sldLayoutId id="2147484479" r:id="rId16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3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774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775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 type="dt" idx="19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 type="ftr" idx="19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 type="sldNum" idx="19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A6E4-13E8-459C-9194-B6CEF60FC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5"/>
    <p:sldLayoutId id="2147484482" r:id="rId6"/>
    <p:sldLayoutId id="2147484483" r:id="rId7"/>
    <p:sldLayoutId id="2147484484" r:id="rId8"/>
    <p:sldLayoutId id="2147484485" r:id="rId9"/>
    <p:sldLayoutId id="2147484486" r:id="rId10"/>
    <p:sldLayoutId id="2147484487" r:id="rId11"/>
    <p:sldLayoutId id="2147484488" r:id="rId12"/>
    <p:sldLayoutId id="2147484489" r:id="rId13"/>
    <p:sldLayoutId id="2147484490" r:id="rId14"/>
    <p:sldLayoutId id="2147484491" r:id="rId15"/>
    <p:sldLayoutId id="2147484492" r:id="rId16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7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818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819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 type="dt" idx="19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23" name="PlaceHolder 4"/>
          <p:cNvSpPr>
            <a:spLocks noGrp="1"/>
          </p:cNvSpPr>
          <p:nvPr>
            <p:ph type="ftr" idx="19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24" name="PlaceHolder 5"/>
          <p:cNvSpPr>
            <a:spLocks noGrp="1"/>
          </p:cNvSpPr>
          <p:nvPr>
            <p:ph type="sldNum" idx="19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2E67-FBBF-4676-A1EF-40D02AABA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5"/>
    <p:sldLayoutId id="2147484495" r:id="rId6"/>
    <p:sldLayoutId id="2147484496" r:id="rId7"/>
    <p:sldLayoutId id="2147484497" r:id="rId8"/>
    <p:sldLayoutId id="2147484498" r:id="rId9"/>
    <p:sldLayoutId id="2147484499" r:id="rId10"/>
    <p:sldLayoutId id="2147484500" r:id="rId11"/>
    <p:sldLayoutId id="2147484501" r:id="rId12"/>
    <p:sldLayoutId id="2147484502" r:id="rId13"/>
    <p:sldLayoutId id="2147484503" r:id="rId14"/>
    <p:sldLayoutId id="2147484504" r:id="rId15"/>
    <p:sldLayoutId id="2147484505" r:id="rId16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1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862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863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PlaceHolder 3"/>
          <p:cNvSpPr>
            <a:spLocks noGrp="1"/>
          </p:cNvSpPr>
          <p:nvPr>
            <p:ph type="dt" idx="19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67" name="PlaceHolder 4"/>
          <p:cNvSpPr>
            <a:spLocks noGrp="1"/>
          </p:cNvSpPr>
          <p:nvPr>
            <p:ph type="ftr" idx="20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68" name="PlaceHolder 5"/>
          <p:cNvSpPr>
            <a:spLocks noGrp="1"/>
          </p:cNvSpPr>
          <p:nvPr>
            <p:ph type="sldNum" idx="20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446B-E735-4486-8B6E-E6BCFA4A1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5"/>
    <p:sldLayoutId id="2147484508" r:id="rId6"/>
    <p:sldLayoutId id="2147484509" r:id="rId7"/>
    <p:sldLayoutId id="2147484510" r:id="rId8"/>
    <p:sldLayoutId id="2147484511" r:id="rId9"/>
    <p:sldLayoutId id="2147484512" r:id="rId10"/>
    <p:sldLayoutId id="2147484513" r:id="rId11"/>
    <p:sldLayoutId id="2147484514" r:id="rId12"/>
    <p:sldLayoutId id="2147484515" r:id="rId13"/>
    <p:sldLayoutId id="2147484516" r:id="rId14"/>
    <p:sldLayoutId id="2147484517" r:id="rId15"/>
    <p:sldLayoutId id="2147484518" r:id="rId16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5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906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907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 type="dt" idx="20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 type="ftr" idx="20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 type="sldNum" idx="20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B0EC-D584-4B1A-9A0E-A553996C9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5"/>
    <p:sldLayoutId id="2147484521" r:id="rId6"/>
    <p:sldLayoutId id="2147484522" r:id="rId7"/>
    <p:sldLayoutId id="2147484523" r:id="rId8"/>
    <p:sldLayoutId id="2147484524" r:id="rId9"/>
    <p:sldLayoutId id="2147484525" r:id="rId10"/>
    <p:sldLayoutId id="2147484526" r:id="rId11"/>
    <p:sldLayoutId id="2147484527" r:id="rId12"/>
    <p:sldLayoutId id="2147484528" r:id="rId13"/>
    <p:sldLayoutId id="2147484529" r:id="rId14"/>
    <p:sldLayoutId id="2147484530" r:id="rId15"/>
    <p:sldLayoutId id="2147484531" r:id="rId16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9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950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951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dt" idx="20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 type="ftr" idx="2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 type="sldNum" idx="20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01D6-7F30-4221-B5C4-ADEE08CEA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5"/>
    <p:sldLayoutId id="2147484534" r:id="rId6"/>
    <p:sldLayoutId id="2147484535" r:id="rId7"/>
    <p:sldLayoutId id="2147484536" r:id="rId8"/>
    <p:sldLayoutId id="2147484537" r:id="rId9"/>
    <p:sldLayoutId id="2147484538" r:id="rId10"/>
    <p:sldLayoutId id="2147484539" r:id="rId11"/>
    <p:sldLayoutId id="2147484540" r:id="rId12"/>
    <p:sldLayoutId id="2147484541" r:id="rId13"/>
    <p:sldLayoutId id="2147484542" r:id="rId14"/>
    <p:sldLayoutId id="2147484543" r:id="rId15"/>
    <p:sldLayoutId id="2147484544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6300-3E01-42D6-89C9-2BE0C3CFD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8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3" name="Picture 2" descr="thank_you_left"/>
          <p:cNvPicPr/>
          <p:nvPr/>
        </p:nvPicPr>
        <p:blipFill>
          <a:blip r:embed="rId2"/>
          <a:stretch/>
        </p:blipFill>
        <p:spPr>
          <a:xfrm>
            <a:off x="0" y="4492800"/>
            <a:ext cx="1908000" cy="2365200"/>
          </a:xfrm>
          <a:prstGeom prst="rect">
            <a:avLst/>
          </a:prstGeom>
          <a:ln w="0">
            <a:noFill/>
          </a:ln>
        </p:spPr>
      </p:pic>
      <p:pic>
        <p:nvPicPr>
          <p:cNvPr id="2994" name="Picture 3" descr="thank_you_leftback"/>
          <p:cNvPicPr/>
          <p:nvPr/>
        </p:nvPicPr>
        <p:blipFill>
          <a:blip r:embed="rId3"/>
          <a:stretch/>
        </p:blipFill>
        <p:spPr>
          <a:xfrm>
            <a:off x="0" y="0"/>
            <a:ext cx="1909800" cy="4508640"/>
          </a:xfrm>
          <a:prstGeom prst="rect">
            <a:avLst/>
          </a:prstGeom>
          <a:ln w="0">
            <a:noFill/>
          </a:ln>
        </p:spPr>
      </p:pic>
      <p:pic>
        <p:nvPicPr>
          <p:cNvPr id="2995" name="Picture 4" descr="河山图标"/>
          <p:cNvPicPr/>
          <p:nvPr/>
        </p:nvPicPr>
        <p:blipFill>
          <a:blip r:embed="rId4"/>
          <a:stretch/>
        </p:blipFill>
        <p:spPr>
          <a:xfrm>
            <a:off x="304812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996" name="Picture 5" descr="1"/>
          <p:cNvPicPr/>
          <p:nvPr/>
        </p:nvPicPr>
        <p:blipFill>
          <a:blip r:embed="rId5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299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0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45AB-0D4B-4F28-A58C-C0CC0D2F8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6"/>
    <p:sldLayoutId id="2147484547" r:id="rId7"/>
    <p:sldLayoutId id="2147484548" r:id="rId8"/>
    <p:sldLayoutId id="2147484549" r:id="rId9"/>
    <p:sldLayoutId id="2147484550" r:id="rId10"/>
    <p:sldLayoutId id="2147484551" r:id="rId11"/>
    <p:sldLayoutId id="2147484552" r:id="rId12"/>
    <p:sldLayoutId id="2147484553" r:id="rId13"/>
    <p:sldLayoutId id="2147484554" r:id="rId14"/>
    <p:sldLayoutId id="2147484555" r:id="rId15"/>
    <p:sldLayoutId id="2147484556" r:id="rId16"/>
    <p:sldLayoutId id="2147484557" r:id="rId17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8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8" name="Picture 2" descr="thank_you_left"/>
          <p:cNvPicPr/>
          <p:nvPr/>
        </p:nvPicPr>
        <p:blipFill>
          <a:blip r:embed="rId2"/>
          <a:stretch/>
        </p:blipFill>
        <p:spPr>
          <a:xfrm>
            <a:off x="0" y="4492800"/>
            <a:ext cx="1908000" cy="2365200"/>
          </a:xfrm>
          <a:prstGeom prst="rect">
            <a:avLst/>
          </a:prstGeom>
          <a:ln w="0">
            <a:noFill/>
          </a:ln>
        </p:spPr>
      </p:pic>
      <p:pic>
        <p:nvPicPr>
          <p:cNvPr id="3039" name="Picture 3" descr="thank_you_leftback"/>
          <p:cNvPicPr/>
          <p:nvPr/>
        </p:nvPicPr>
        <p:blipFill>
          <a:blip r:embed="rId3"/>
          <a:stretch/>
        </p:blipFill>
        <p:spPr>
          <a:xfrm>
            <a:off x="0" y="0"/>
            <a:ext cx="1909800" cy="4508640"/>
          </a:xfrm>
          <a:prstGeom prst="rect">
            <a:avLst/>
          </a:prstGeom>
          <a:ln w="0">
            <a:noFill/>
          </a:ln>
        </p:spPr>
      </p:pic>
      <p:pic>
        <p:nvPicPr>
          <p:cNvPr id="3040" name="Picture 4" descr="河山图标"/>
          <p:cNvPicPr/>
          <p:nvPr/>
        </p:nvPicPr>
        <p:blipFill>
          <a:blip r:embed="rId4"/>
          <a:stretch/>
        </p:blipFill>
        <p:spPr>
          <a:xfrm>
            <a:off x="304812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3041" name="Picture 5" descr="1"/>
          <p:cNvPicPr/>
          <p:nvPr/>
        </p:nvPicPr>
        <p:blipFill>
          <a:blip r:embed="rId5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3042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 type="dt" idx="2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 type="ftr" idx="2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46" name="PlaceHolder 5"/>
          <p:cNvSpPr>
            <a:spLocks noGrp="1"/>
          </p:cNvSpPr>
          <p:nvPr>
            <p:ph type="sldNum" idx="2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0B95-1038-4382-93DF-954F7570F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6"/>
    <p:sldLayoutId id="2147484560" r:id="rId7"/>
    <p:sldLayoutId id="2147484561" r:id="rId8"/>
    <p:sldLayoutId id="2147484562" r:id="rId9"/>
    <p:sldLayoutId id="2147484563" r:id="rId10"/>
    <p:sldLayoutId id="2147484564" r:id="rId11"/>
    <p:sldLayoutId id="2147484565" r:id="rId12"/>
    <p:sldLayoutId id="2147484566" r:id="rId13"/>
    <p:sldLayoutId id="2147484567" r:id="rId14"/>
    <p:sldLayoutId id="2147484568" r:id="rId15"/>
    <p:sldLayoutId id="2147484569" r:id="rId16"/>
    <p:sldLayoutId id="2147484570" r:id="rId17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8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3" name="Picture 2" descr="thank_you_left"/>
          <p:cNvPicPr/>
          <p:nvPr/>
        </p:nvPicPr>
        <p:blipFill>
          <a:blip r:embed="rId2"/>
          <a:stretch/>
        </p:blipFill>
        <p:spPr>
          <a:xfrm>
            <a:off x="0" y="4492800"/>
            <a:ext cx="1908000" cy="2365200"/>
          </a:xfrm>
          <a:prstGeom prst="rect">
            <a:avLst/>
          </a:prstGeom>
          <a:ln w="0">
            <a:noFill/>
          </a:ln>
        </p:spPr>
      </p:pic>
      <p:pic>
        <p:nvPicPr>
          <p:cNvPr id="3084" name="Picture 3" descr="thank_you_leftback"/>
          <p:cNvPicPr/>
          <p:nvPr/>
        </p:nvPicPr>
        <p:blipFill>
          <a:blip r:embed="rId3"/>
          <a:stretch/>
        </p:blipFill>
        <p:spPr>
          <a:xfrm>
            <a:off x="0" y="0"/>
            <a:ext cx="1909800" cy="4508640"/>
          </a:xfrm>
          <a:prstGeom prst="rect">
            <a:avLst/>
          </a:prstGeom>
          <a:ln w="0">
            <a:noFill/>
          </a:ln>
        </p:spPr>
      </p:pic>
      <p:pic>
        <p:nvPicPr>
          <p:cNvPr id="3085" name="Picture 4" descr="河山图标"/>
          <p:cNvPicPr/>
          <p:nvPr/>
        </p:nvPicPr>
        <p:blipFill>
          <a:blip r:embed="rId4"/>
          <a:stretch/>
        </p:blipFill>
        <p:spPr>
          <a:xfrm>
            <a:off x="304812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3086" name="Picture 5" descr="1"/>
          <p:cNvPicPr/>
          <p:nvPr/>
        </p:nvPicPr>
        <p:blipFill>
          <a:blip r:embed="rId5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308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PlaceHolder 3"/>
          <p:cNvSpPr>
            <a:spLocks noGrp="1"/>
          </p:cNvSpPr>
          <p:nvPr>
            <p:ph type="dt" idx="2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90" name="PlaceHolder 4"/>
          <p:cNvSpPr>
            <a:spLocks noGrp="1"/>
          </p:cNvSpPr>
          <p:nvPr>
            <p:ph type="ftr" idx="2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91" name="PlaceHolder 5"/>
          <p:cNvSpPr>
            <a:spLocks noGrp="1"/>
          </p:cNvSpPr>
          <p:nvPr>
            <p:ph type="sldNum" idx="2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6A02-29D7-4661-984D-75E9C72F0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6"/>
    <p:sldLayoutId id="2147484573" r:id="rId7"/>
    <p:sldLayoutId id="2147484574" r:id="rId8"/>
    <p:sldLayoutId id="2147484575" r:id="rId9"/>
    <p:sldLayoutId id="2147484576" r:id="rId10"/>
    <p:sldLayoutId id="2147484577" r:id="rId11"/>
    <p:sldLayoutId id="2147484578" r:id="rId12"/>
    <p:sldLayoutId id="2147484579" r:id="rId13"/>
    <p:sldLayoutId id="2147484580" r:id="rId14"/>
    <p:sldLayoutId id="2147484581" r:id="rId15"/>
    <p:sldLayoutId id="2147484582" r:id="rId16"/>
    <p:sldLayoutId id="2147484583" r:id="rId17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8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8" name="Picture 2" descr="thank_you_left"/>
          <p:cNvPicPr/>
          <p:nvPr/>
        </p:nvPicPr>
        <p:blipFill>
          <a:blip r:embed="rId2"/>
          <a:stretch/>
        </p:blipFill>
        <p:spPr>
          <a:xfrm>
            <a:off x="0" y="4492800"/>
            <a:ext cx="1908000" cy="2365200"/>
          </a:xfrm>
          <a:prstGeom prst="rect">
            <a:avLst/>
          </a:prstGeom>
          <a:ln w="0">
            <a:noFill/>
          </a:ln>
        </p:spPr>
      </p:pic>
      <p:pic>
        <p:nvPicPr>
          <p:cNvPr id="3129" name="Picture 3" descr="thank_you_leftback"/>
          <p:cNvPicPr/>
          <p:nvPr/>
        </p:nvPicPr>
        <p:blipFill>
          <a:blip r:embed="rId3"/>
          <a:stretch/>
        </p:blipFill>
        <p:spPr>
          <a:xfrm>
            <a:off x="0" y="0"/>
            <a:ext cx="1909800" cy="4508640"/>
          </a:xfrm>
          <a:prstGeom prst="rect">
            <a:avLst/>
          </a:prstGeom>
          <a:ln w="0">
            <a:noFill/>
          </a:ln>
        </p:spPr>
      </p:pic>
      <p:pic>
        <p:nvPicPr>
          <p:cNvPr id="3130" name="Picture 4" descr="河山图标"/>
          <p:cNvPicPr/>
          <p:nvPr/>
        </p:nvPicPr>
        <p:blipFill>
          <a:blip r:embed="rId4"/>
          <a:stretch/>
        </p:blipFill>
        <p:spPr>
          <a:xfrm>
            <a:off x="304812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3131" name="Picture 5" descr="1"/>
          <p:cNvPicPr/>
          <p:nvPr/>
        </p:nvPicPr>
        <p:blipFill>
          <a:blip r:embed="rId5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3132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 type="dt" idx="2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35" name="PlaceHolder 4"/>
          <p:cNvSpPr>
            <a:spLocks noGrp="1"/>
          </p:cNvSpPr>
          <p:nvPr>
            <p:ph type="ftr" idx="2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36" name="PlaceHolder 5"/>
          <p:cNvSpPr>
            <a:spLocks noGrp="1"/>
          </p:cNvSpPr>
          <p:nvPr>
            <p:ph type="sldNum" idx="2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6085-8F32-4231-85E8-81CA618FE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6"/>
    <p:sldLayoutId id="2147484586" r:id="rId7"/>
    <p:sldLayoutId id="2147484587" r:id="rId8"/>
    <p:sldLayoutId id="2147484588" r:id="rId9"/>
    <p:sldLayoutId id="2147484589" r:id="rId10"/>
    <p:sldLayoutId id="2147484590" r:id="rId11"/>
    <p:sldLayoutId id="2147484591" r:id="rId12"/>
    <p:sldLayoutId id="2147484592" r:id="rId13"/>
    <p:sldLayoutId id="2147484593" r:id="rId14"/>
    <p:sldLayoutId id="2147484594" r:id="rId15"/>
    <p:sldLayoutId id="2147484595" r:id="rId16"/>
    <p:sldLayoutId id="2147484596" r:id="rId17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8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3" name="Picture 2" descr="thank_you_left"/>
          <p:cNvPicPr/>
          <p:nvPr/>
        </p:nvPicPr>
        <p:blipFill>
          <a:blip r:embed="rId2"/>
          <a:stretch/>
        </p:blipFill>
        <p:spPr>
          <a:xfrm>
            <a:off x="0" y="4492800"/>
            <a:ext cx="1908000" cy="2365200"/>
          </a:xfrm>
          <a:prstGeom prst="rect">
            <a:avLst/>
          </a:prstGeom>
          <a:ln w="0">
            <a:noFill/>
          </a:ln>
        </p:spPr>
      </p:pic>
      <p:pic>
        <p:nvPicPr>
          <p:cNvPr id="3174" name="Picture 3" descr="thank_you_leftback"/>
          <p:cNvPicPr/>
          <p:nvPr/>
        </p:nvPicPr>
        <p:blipFill>
          <a:blip r:embed="rId3"/>
          <a:stretch/>
        </p:blipFill>
        <p:spPr>
          <a:xfrm>
            <a:off x="0" y="0"/>
            <a:ext cx="1909800" cy="4508640"/>
          </a:xfrm>
          <a:prstGeom prst="rect">
            <a:avLst/>
          </a:prstGeom>
          <a:ln w="0">
            <a:noFill/>
          </a:ln>
        </p:spPr>
      </p:pic>
      <p:pic>
        <p:nvPicPr>
          <p:cNvPr id="3175" name="Picture 4" descr="河山图标"/>
          <p:cNvPicPr/>
          <p:nvPr/>
        </p:nvPicPr>
        <p:blipFill>
          <a:blip r:embed="rId4"/>
          <a:stretch/>
        </p:blipFill>
        <p:spPr>
          <a:xfrm>
            <a:off x="304812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3176" name="Picture 5" descr="1"/>
          <p:cNvPicPr/>
          <p:nvPr/>
        </p:nvPicPr>
        <p:blipFill>
          <a:blip r:embed="rId5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317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 type="dt" idx="2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 type="ftr" idx="2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81" name="PlaceHolder 5"/>
          <p:cNvSpPr>
            <a:spLocks noGrp="1"/>
          </p:cNvSpPr>
          <p:nvPr>
            <p:ph type="sldNum" idx="2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FBAF-FB2F-48A9-B7AD-E61F5637B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6"/>
    <p:sldLayoutId id="2147484599" r:id="rId7"/>
    <p:sldLayoutId id="2147484600" r:id="rId8"/>
    <p:sldLayoutId id="2147484601" r:id="rId9"/>
    <p:sldLayoutId id="2147484602" r:id="rId10"/>
    <p:sldLayoutId id="2147484603" r:id="rId11"/>
    <p:sldLayoutId id="2147484604" r:id="rId12"/>
    <p:sldLayoutId id="2147484605" r:id="rId13"/>
    <p:sldLayoutId id="2147484606" r:id="rId14"/>
    <p:sldLayoutId id="2147484607" r:id="rId15"/>
    <p:sldLayoutId id="2147484608" r:id="rId16"/>
    <p:sldLayoutId id="2147484609" r:id="rId17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8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8" name="Picture 2" descr="thank_you_left"/>
          <p:cNvPicPr/>
          <p:nvPr/>
        </p:nvPicPr>
        <p:blipFill>
          <a:blip r:embed="rId2"/>
          <a:stretch/>
        </p:blipFill>
        <p:spPr>
          <a:xfrm>
            <a:off x="0" y="4492800"/>
            <a:ext cx="1908000" cy="2365200"/>
          </a:xfrm>
          <a:prstGeom prst="rect">
            <a:avLst/>
          </a:prstGeom>
          <a:ln w="0">
            <a:noFill/>
          </a:ln>
        </p:spPr>
      </p:pic>
      <p:pic>
        <p:nvPicPr>
          <p:cNvPr id="3219" name="Picture 3" descr="thank_you_leftback"/>
          <p:cNvPicPr/>
          <p:nvPr/>
        </p:nvPicPr>
        <p:blipFill>
          <a:blip r:embed="rId3"/>
          <a:stretch/>
        </p:blipFill>
        <p:spPr>
          <a:xfrm>
            <a:off x="0" y="0"/>
            <a:ext cx="1909800" cy="4508640"/>
          </a:xfrm>
          <a:prstGeom prst="rect">
            <a:avLst/>
          </a:prstGeom>
          <a:ln w="0">
            <a:noFill/>
          </a:ln>
        </p:spPr>
      </p:pic>
      <p:pic>
        <p:nvPicPr>
          <p:cNvPr id="3220" name="Picture 4" descr="河山图标"/>
          <p:cNvPicPr/>
          <p:nvPr/>
        </p:nvPicPr>
        <p:blipFill>
          <a:blip r:embed="rId4"/>
          <a:stretch/>
        </p:blipFill>
        <p:spPr>
          <a:xfrm>
            <a:off x="304812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3221" name="Picture 5" descr="1"/>
          <p:cNvPicPr/>
          <p:nvPr/>
        </p:nvPicPr>
        <p:blipFill>
          <a:blip r:embed="rId5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3222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 type="dt" idx="2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 type="ftr" idx="2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26" name="PlaceHolder 5"/>
          <p:cNvSpPr>
            <a:spLocks noGrp="1"/>
          </p:cNvSpPr>
          <p:nvPr>
            <p:ph type="sldNum" idx="2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5647-AFD6-4343-A7C1-DC1F2E36D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6"/>
    <p:sldLayoutId id="2147484612" r:id="rId7"/>
    <p:sldLayoutId id="2147484613" r:id="rId8"/>
    <p:sldLayoutId id="2147484614" r:id="rId9"/>
    <p:sldLayoutId id="2147484615" r:id="rId10"/>
    <p:sldLayoutId id="2147484616" r:id="rId11"/>
    <p:sldLayoutId id="2147484617" r:id="rId12"/>
    <p:sldLayoutId id="2147484618" r:id="rId13"/>
    <p:sldLayoutId id="2147484619" r:id="rId14"/>
    <p:sldLayoutId id="2147484620" r:id="rId15"/>
    <p:sldLayoutId id="2147484621" r:id="rId16"/>
    <p:sldLayoutId id="2147484622" r:id="rId17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8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3" name="Picture 2" descr="thank_you_left"/>
          <p:cNvPicPr/>
          <p:nvPr/>
        </p:nvPicPr>
        <p:blipFill>
          <a:blip r:embed="rId2"/>
          <a:stretch/>
        </p:blipFill>
        <p:spPr>
          <a:xfrm>
            <a:off x="0" y="4492800"/>
            <a:ext cx="1908000" cy="2365200"/>
          </a:xfrm>
          <a:prstGeom prst="rect">
            <a:avLst/>
          </a:prstGeom>
          <a:ln w="0">
            <a:noFill/>
          </a:ln>
        </p:spPr>
      </p:pic>
      <p:pic>
        <p:nvPicPr>
          <p:cNvPr id="3264" name="Picture 3" descr="thank_you_leftback"/>
          <p:cNvPicPr/>
          <p:nvPr/>
        </p:nvPicPr>
        <p:blipFill>
          <a:blip r:embed="rId3"/>
          <a:stretch/>
        </p:blipFill>
        <p:spPr>
          <a:xfrm>
            <a:off x="0" y="0"/>
            <a:ext cx="1909800" cy="4508640"/>
          </a:xfrm>
          <a:prstGeom prst="rect">
            <a:avLst/>
          </a:prstGeom>
          <a:ln w="0">
            <a:noFill/>
          </a:ln>
        </p:spPr>
      </p:pic>
      <p:pic>
        <p:nvPicPr>
          <p:cNvPr id="3265" name="Picture 4" descr="河山图标"/>
          <p:cNvPicPr/>
          <p:nvPr/>
        </p:nvPicPr>
        <p:blipFill>
          <a:blip r:embed="rId4"/>
          <a:stretch/>
        </p:blipFill>
        <p:spPr>
          <a:xfrm>
            <a:off x="304812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3266" name="Picture 5" descr="1"/>
          <p:cNvPicPr/>
          <p:nvPr/>
        </p:nvPicPr>
        <p:blipFill>
          <a:blip r:embed="rId5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326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PlaceHolder 3"/>
          <p:cNvSpPr>
            <a:spLocks noGrp="1"/>
          </p:cNvSpPr>
          <p:nvPr>
            <p:ph type="dt" idx="2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70" name="PlaceHolder 4"/>
          <p:cNvSpPr>
            <a:spLocks noGrp="1"/>
          </p:cNvSpPr>
          <p:nvPr>
            <p:ph type="ftr" idx="2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71" name="PlaceHolder 5"/>
          <p:cNvSpPr>
            <a:spLocks noGrp="1"/>
          </p:cNvSpPr>
          <p:nvPr>
            <p:ph type="sldNum" idx="2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75CC-E9E2-4D75-8F57-16025BBD5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6"/>
    <p:sldLayoutId id="2147484625" r:id="rId7"/>
    <p:sldLayoutId id="2147484626" r:id="rId8"/>
    <p:sldLayoutId id="2147484627" r:id="rId9"/>
    <p:sldLayoutId id="2147484628" r:id="rId10"/>
    <p:sldLayoutId id="2147484629" r:id="rId11"/>
    <p:sldLayoutId id="2147484630" r:id="rId12"/>
    <p:sldLayoutId id="2147484631" r:id="rId13"/>
    <p:sldLayoutId id="2147484632" r:id="rId14"/>
    <p:sldLayoutId id="2147484633" r:id="rId15"/>
    <p:sldLayoutId id="2147484634" r:id="rId16"/>
    <p:sldLayoutId id="2147484635" r:id="rId17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8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8" name="Picture 2" descr="thank_you_left"/>
          <p:cNvPicPr/>
          <p:nvPr/>
        </p:nvPicPr>
        <p:blipFill>
          <a:blip r:embed="rId2"/>
          <a:stretch/>
        </p:blipFill>
        <p:spPr>
          <a:xfrm>
            <a:off x="0" y="4492800"/>
            <a:ext cx="1908000" cy="2365200"/>
          </a:xfrm>
          <a:prstGeom prst="rect">
            <a:avLst/>
          </a:prstGeom>
          <a:ln w="0">
            <a:noFill/>
          </a:ln>
        </p:spPr>
      </p:pic>
      <p:pic>
        <p:nvPicPr>
          <p:cNvPr id="3309" name="Picture 3" descr="thank_you_leftback"/>
          <p:cNvPicPr/>
          <p:nvPr/>
        </p:nvPicPr>
        <p:blipFill>
          <a:blip r:embed="rId3"/>
          <a:stretch/>
        </p:blipFill>
        <p:spPr>
          <a:xfrm>
            <a:off x="0" y="0"/>
            <a:ext cx="1909800" cy="4508640"/>
          </a:xfrm>
          <a:prstGeom prst="rect">
            <a:avLst/>
          </a:prstGeom>
          <a:ln w="0">
            <a:noFill/>
          </a:ln>
        </p:spPr>
      </p:pic>
      <p:pic>
        <p:nvPicPr>
          <p:cNvPr id="3310" name="Picture 4" descr="河山图标"/>
          <p:cNvPicPr/>
          <p:nvPr/>
        </p:nvPicPr>
        <p:blipFill>
          <a:blip r:embed="rId4"/>
          <a:stretch/>
        </p:blipFill>
        <p:spPr>
          <a:xfrm>
            <a:off x="304812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3311" name="Picture 5" descr="1"/>
          <p:cNvPicPr/>
          <p:nvPr/>
        </p:nvPicPr>
        <p:blipFill>
          <a:blip r:embed="rId5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3312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2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2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2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CFAE-7B1A-48A2-87B6-A97BDACED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6"/>
    <p:sldLayoutId id="2147484638" r:id="rId7"/>
    <p:sldLayoutId id="2147484639" r:id="rId8"/>
    <p:sldLayoutId id="2147484640" r:id="rId9"/>
    <p:sldLayoutId id="2147484641" r:id="rId10"/>
    <p:sldLayoutId id="2147484642" r:id="rId11"/>
    <p:sldLayoutId id="2147484643" r:id="rId12"/>
    <p:sldLayoutId id="2147484644" r:id="rId13"/>
    <p:sldLayoutId id="2147484645" r:id="rId14"/>
    <p:sldLayoutId id="2147484646" r:id="rId15"/>
    <p:sldLayoutId id="2147484647" r:id="rId16"/>
    <p:sldLayoutId id="2147484648" r:id="rId17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8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3" name="Picture 2" descr="thank_you_left"/>
          <p:cNvPicPr/>
          <p:nvPr/>
        </p:nvPicPr>
        <p:blipFill>
          <a:blip r:embed="rId2"/>
          <a:stretch/>
        </p:blipFill>
        <p:spPr>
          <a:xfrm>
            <a:off x="0" y="4492800"/>
            <a:ext cx="1908000" cy="2365200"/>
          </a:xfrm>
          <a:prstGeom prst="rect">
            <a:avLst/>
          </a:prstGeom>
          <a:ln w="0">
            <a:noFill/>
          </a:ln>
        </p:spPr>
      </p:pic>
      <p:pic>
        <p:nvPicPr>
          <p:cNvPr id="3354" name="Picture 3" descr="thank_you_leftback"/>
          <p:cNvPicPr/>
          <p:nvPr/>
        </p:nvPicPr>
        <p:blipFill>
          <a:blip r:embed="rId3"/>
          <a:stretch/>
        </p:blipFill>
        <p:spPr>
          <a:xfrm>
            <a:off x="0" y="0"/>
            <a:ext cx="1909800" cy="4508640"/>
          </a:xfrm>
          <a:prstGeom prst="rect">
            <a:avLst/>
          </a:prstGeom>
          <a:ln w="0">
            <a:noFill/>
          </a:ln>
        </p:spPr>
      </p:pic>
      <p:pic>
        <p:nvPicPr>
          <p:cNvPr id="3355" name="Picture 4" descr="河山图标"/>
          <p:cNvPicPr/>
          <p:nvPr/>
        </p:nvPicPr>
        <p:blipFill>
          <a:blip r:embed="rId4"/>
          <a:stretch/>
        </p:blipFill>
        <p:spPr>
          <a:xfrm>
            <a:off x="304812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3356" name="Picture 5" descr="1"/>
          <p:cNvPicPr/>
          <p:nvPr/>
        </p:nvPicPr>
        <p:blipFill>
          <a:blip r:embed="rId5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335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 type="dt" idx="2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60" name="PlaceHolder 4"/>
          <p:cNvSpPr>
            <a:spLocks noGrp="1"/>
          </p:cNvSpPr>
          <p:nvPr>
            <p:ph type="ftr" idx="2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61" name="PlaceHolder 5"/>
          <p:cNvSpPr>
            <a:spLocks noGrp="1"/>
          </p:cNvSpPr>
          <p:nvPr>
            <p:ph type="sldNum" idx="2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019C-9CA9-4EB9-A535-992945C48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6"/>
    <p:sldLayoutId id="2147484651" r:id="rId7"/>
    <p:sldLayoutId id="2147484652" r:id="rId8"/>
    <p:sldLayoutId id="2147484653" r:id="rId9"/>
    <p:sldLayoutId id="2147484654" r:id="rId10"/>
    <p:sldLayoutId id="2147484655" r:id="rId11"/>
    <p:sldLayoutId id="2147484656" r:id="rId12"/>
    <p:sldLayoutId id="2147484657" r:id="rId13"/>
    <p:sldLayoutId id="2147484658" r:id="rId14"/>
    <p:sldLayoutId id="2147484659" r:id="rId15"/>
    <p:sldLayoutId id="2147484660" r:id="rId16"/>
    <p:sldLayoutId id="2147484661" r:id="rId17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8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8" name="Picture 2" descr="thank_you_left"/>
          <p:cNvPicPr/>
          <p:nvPr/>
        </p:nvPicPr>
        <p:blipFill>
          <a:blip r:embed="rId2"/>
          <a:stretch/>
        </p:blipFill>
        <p:spPr>
          <a:xfrm>
            <a:off x="0" y="4492800"/>
            <a:ext cx="1908000" cy="2365200"/>
          </a:xfrm>
          <a:prstGeom prst="rect">
            <a:avLst/>
          </a:prstGeom>
          <a:ln w="0">
            <a:noFill/>
          </a:ln>
        </p:spPr>
      </p:pic>
      <p:pic>
        <p:nvPicPr>
          <p:cNvPr id="3399" name="Picture 3" descr="thank_you_leftback"/>
          <p:cNvPicPr/>
          <p:nvPr/>
        </p:nvPicPr>
        <p:blipFill>
          <a:blip r:embed="rId3"/>
          <a:stretch/>
        </p:blipFill>
        <p:spPr>
          <a:xfrm>
            <a:off x="0" y="0"/>
            <a:ext cx="1909800" cy="4508640"/>
          </a:xfrm>
          <a:prstGeom prst="rect">
            <a:avLst/>
          </a:prstGeom>
          <a:ln w="0">
            <a:noFill/>
          </a:ln>
        </p:spPr>
      </p:pic>
      <p:pic>
        <p:nvPicPr>
          <p:cNvPr id="3400" name="Picture 4" descr="河山图标"/>
          <p:cNvPicPr/>
          <p:nvPr/>
        </p:nvPicPr>
        <p:blipFill>
          <a:blip r:embed="rId4"/>
          <a:stretch/>
        </p:blipFill>
        <p:spPr>
          <a:xfrm>
            <a:off x="304812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3401" name="Picture 5" descr="1"/>
          <p:cNvPicPr/>
          <p:nvPr/>
        </p:nvPicPr>
        <p:blipFill>
          <a:blip r:embed="rId5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3402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PlaceHolder 3"/>
          <p:cNvSpPr>
            <a:spLocks noGrp="1"/>
          </p:cNvSpPr>
          <p:nvPr>
            <p:ph type="dt" idx="2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405" name="PlaceHolder 4"/>
          <p:cNvSpPr>
            <a:spLocks noGrp="1"/>
          </p:cNvSpPr>
          <p:nvPr>
            <p:ph type="ftr" idx="2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406" name="PlaceHolder 5"/>
          <p:cNvSpPr>
            <a:spLocks noGrp="1"/>
          </p:cNvSpPr>
          <p:nvPr>
            <p:ph type="sldNum" idx="2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5665-9B4E-483E-A5A2-A3375F67F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6"/>
    <p:sldLayoutId id="2147484664" r:id="rId7"/>
    <p:sldLayoutId id="2147484665" r:id="rId8"/>
    <p:sldLayoutId id="2147484666" r:id="rId9"/>
    <p:sldLayoutId id="2147484667" r:id="rId10"/>
    <p:sldLayoutId id="2147484668" r:id="rId11"/>
    <p:sldLayoutId id="2147484669" r:id="rId12"/>
    <p:sldLayoutId id="2147484670" r:id="rId13"/>
    <p:sldLayoutId id="2147484671" r:id="rId14"/>
    <p:sldLayoutId id="2147484672" r:id="rId15"/>
    <p:sldLayoutId id="2147484673" r:id="rId16"/>
    <p:sldLayoutId id="2147484674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puppies"/>
          <p:cNvPicPr/>
          <p:nvPr/>
        </p:nvPicPr>
        <p:blipFill>
          <a:blip r:embed="rId2"/>
          <a:stretch/>
        </p:blipFill>
        <p:spPr>
          <a:xfrm>
            <a:off x="0" y="-4680"/>
            <a:ext cx="9144000" cy="1272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河山图标"/>
          <p:cNvPicPr/>
          <p:nvPr/>
        </p:nvPicPr>
        <p:blipFill>
          <a:blip r:embed="rId3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1"/>
          <p:cNvPicPr/>
          <p:nvPr/>
        </p:nvPicPr>
        <p:blipFill>
          <a:blip r:embed="rId4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3469-9330-4303-A9A6-F6C49D5D8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8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3" name="Picture 2" descr="thank_you_left"/>
          <p:cNvPicPr/>
          <p:nvPr/>
        </p:nvPicPr>
        <p:blipFill>
          <a:blip r:embed="rId2"/>
          <a:stretch/>
        </p:blipFill>
        <p:spPr>
          <a:xfrm>
            <a:off x="0" y="4492800"/>
            <a:ext cx="1908000" cy="2365200"/>
          </a:xfrm>
          <a:prstGeom prst="rect">
            <a:avLst/>
          </a:prstGeom>
          <a:ln w="0">
            <a:noFill/>
          </a:ln>
        </p:spPr>
      </p:pic>
      <p:pic>
        <p:nvPicPr>
          <p:cNvPr id="3444" name="Picture 3" descr="thank_you_leftback"/>
          <p:cNvPicPr/>
          <p:nvPr/>
        </p:nvPicPr>
        <p:blipFill>
          <a:blip r:embed="rId3"/>
          <a:stretch/>
        </p:blipFill>
        <p:spPr>
          <a:xfrm>
            <a:off x="0" y="0"/>
            <a:ext cx="1909800" cy="4508640"/>
          </a:xfrm>
          <a:prstGeom prst="rect">
            <a:avLst/>
          </a:prstGeom>
          <a:ln w="0">
            <a:noFill/>
          </a:ln>
        </p:spPr>
      </p:pic>
      <p:pic>
        <p:nvPicPr>
          <p:cNvPr id="3445" name="Picture 4" descr="河山图标"/>
          <p:cNvPicPr/>
          <p:nvPr/>
        </p:nvPicPr>
        <p:blipFill>
          <a:blip r:embed="rId4"/>
          <a:stretch/>
        </p:blipFill>
        <p:spPr>
          <a:xfrm>
            <a:off x="304812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3446" name="Picture 5" descr="1"/>
          <p:cNvPicPr/>
          <p:nvPr/>
        </p:nvPicPr>
        <p:blipFill>
          <a:blip r:embed="rId5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344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PlaceHolder 3"/>
          <p:cNvSpPr>
            <a:spLocks noGrp="1"/>
          </p:cNvSpPr>
          <p:nvPr>
            <p:ph type="dt" idx="23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450" name="PlaceHolder 4"/>
          <p:cNvSpPr>
            <a:spLocks noGrp="1"/>
          </p:cNvSpPr>
          <p:nvPr>
            <p:ph type="ftr" idx="2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451" name="PlaceHolder 5"/>
          <p:cNvSpPr>
            <a:spLocks noGrp="1"/>
          </p:cNvSpPr>
          <p:nvPr>
            <p:ph type="sldNum" idx="24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820E-8FCA-43CD-9A9B-A145E848C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6"/>
    <p:sldLayoutId id="2147484677" r:id="rId7"/>
    <p:sldLayoutId id="2147484678" r:id="rId8"/>
    <p:sldLayoutId id="2147484679" r:id="rId9"/>
    <p:sldLayoutId id="2147484680" r:id="rId10"/>
    <p:sldLayoutId id="2147484681" r:id="rId11"/>
    <p:sldLayoutId id="2147484682" r:id="rId12"/>
    <p:sldLayoutId id="2147484683" r:id="rId13"/>
    <p:sldLayoutId id="2147484684" r:id="rId14"/>
    <p:sldLayoutId id="2147484685" r:id="rId15"/>
    <p:sldLayoutId id="2147484686" r:id="rId16"/>
    <p:sldLayoutId id="2147484687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5D0E-33E2-4249-8CB2-BC64C748FB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6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.wmf"/><Relationship Id="rId12" Type="http://schemas.openxmlformats.org/officeDocument/2006/relationships/slideLayout" Target="../slideLayouts/slideLayout7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7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7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7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4.wmf"/><Relationship Id="rId3" Type="http://schemas.openxmlformats.org/officeDocument/2006/relationships/image" Target="../media/image18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2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0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6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6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70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70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70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7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70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7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70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70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7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69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5" name="Picture 2" descr="u=111629297,836824017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6" name="Text Box 3"/>
          <p:cNvSpPr/>
          <p:nvPr/>
        </p:nvSpPr>
        <p:spPr>
          <a:xfrm>
            <a:off x="4284720" y="479736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497" name="Text Box 4"/>
          <p:cNvSpPr/>
          <p:nvPr/>
        </p:nvSpPr>
        <p:spPr>
          <a:xfrm>
            <a:off x="250920" y="1981080"/>
            <a:ext cx="8893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请准备好你的数学课本、</a:t>
            </a:r>
            <a:endParaRPr b="0" lang="en-US" sz="54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笔记本</a:t>
            </a:r>
            <a:r>
              <a:rPr b="1" lang="zh-CN" sz="5400" spc="-1" strike="noStrike">
                <a:solidFill>
                  <a:srgbClr val="402000"/>
                </a:solidFill>
                <a:latin typeface="Times New Roman"/>
              </a:rPr>
              <a:t>以及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学习用具</a:t>
            </a:r>
            <a:r>
              <a:rPr b="1" lang="zh-CN" sz="5400" spc="-1" strike="noStrike">
                <a:solidFill>
                  <a:srgbClr val="402000"/>
                </a:solidFill>
                <a:latin typeface="Times New Roman"/>
              </a:rPr>
              <a:t>等。</a:t>
            </a:r>
            <a:endParaRPr b="0" lang="en-US" sz="5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3498" name="Picture 5" descr="线条3"/>
          <p:cNvPicPr/>
          <p:nvPr/>
        </p:nvPicPr>
        <p:blipFill>
          <a:blip r:embed="rId2"/>
          <a:stretch/>
        </p:blipFill>
        <p:spPr>
          <a:xfrm>
            <a:off x="3203640" y="5084640"/>
            <a:ext cx="3429000" cy="198720"/>
          </a:xfrm>
          <a:prstGeom prst="rect">
            <a:avLst/>
          </a:prstGeom>
          <a:ln w="0">
            <a:noFill/>
          </a:ln>
        </p:spPr>
      </p:pic>
      <p:pic>
        <p:nvPicPr>
          <p:cNvPr id="3499" name="开头.MP3" descr=""/>
          <p:cNvPicPr/>
          <p:nvPr/>
        </p:nvPicPr>
        <p:blipFill>
          <a:blip r:embed="rId3"/>
          <a:stretch/>
        </p:blipFill>
        <p:spPr>
          <a:xfrm>
            <a:off x="485928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49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49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1372" fill="hold"/>
                                        <p:tgtEl>
                                          <p:spTgt spid="3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Rectangle 2"/>
          <p:cNvSpPr/>
          <p:nvPr/>
        </p:nvSpPr>
        <p:spPr>
          <a:xfrm>
            <a:off x="142920" y="1052640"/>
            <a:ext cx="2743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03" name="Rectangle 3"/>
          <p:cNvSpPr/>
          <p:nvPr/>
        </p:nvSpPr>
        <p:spPr>
          <a:xfrm>
            <a:off x="179280" y="115920"/>
            <a:ext cx="885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隶书"/>
                <a:ea typeface="黑体"/>
              </a:rPr>
              <a:t>直接画函数             的图象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黑体"/>
              </a:rPr>
              <a:t> 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4" name="Object 5"/>
              <p:cNvSpPr txBox="1"/>
              <p:nvPr/>
            </p:nvSpPr>
            <p:spPr>
              <a:xfrm>
                <a:off x="2313000" y="1244520"/>
                <a:ext cx="29066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5" name="Object 6"/>
              <p:cNvSpPr txBox="1"/>
              <p:nvPr/>
            </p:nvSpPr>
            <p:spPr>
              <a:xfrm>
                <a:off x="2604960" y="2036880"/>
                <a:ext cx="29689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06" name="Text Box 7"/>
          <p:cNvSpPr/>
          <p:nvPr/>
        </p:nvSpPr>
        <p:spPr>
          <a:xfrm>
            <a:off x="142920" y="232416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取二次项系数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7" name="Object 8"/>
              <p:cNvSpPr txBox="1"/>
              <p:nvPr/>
            </p:nvSpPr>
            <p:spPr>
              <a:xfrm>
                <a:off x="2604960" y="2900520"/>
                <a:ext cx="43419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08" name="Text Box 9"/>
          <p:cNvSpPr/>
          <p:nvPr/>
        </p:nvSpPr>
        <p:spPr>
          <a:xfrm>
            <a:off x="1619280" y="3116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配方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9" name="Object 10"/>
              <p:cNvSpPr txBox="1"/>
              <p:nvPr/>
            </p:nvSpPr>
            <p:spPr>
              <a:xfrm>
                <a:off x="2627280" y="3692520"/>
                <a:ext cx="25639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10" name="Text Box 11"/>
          <p:cNvSpPr/>
          <p:nvPr/>
        </p:nvSpPr>
        <p:spPr>
          <a:xfrm>
            <a:off x="1619280" y="39816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整理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1" name="Object 12"/>
              <p:cNvSpPr txBox="1"/>
              <p:nvPr/>
            </p:nvSpPr>
            <p:spPr>
              <a:xfrm>
                <a:off x="2644920" y="4552920"/>
                <a:ext cx="25016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2" name="Text Box 13"/>
          <p:cNvSpPr/>
          <p:nvPr/>
        </p:nvSpPr>
        <p:spPr>
          <a:xfrm>
            <a:off x="106200" y="481968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简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掉中括号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13" name="Text Box 16"/>
          <p:cNvSpPr/>
          <p:nvPr/>
        </p:nvSpPr>
        <p:spPr>
          <a:xfrm>
            <a:off x="1567440" y="1386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黑体"/>
              </a:rPr>
              <a:t>解：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4" name="Object 17"/>
              <p:cNvSpPr txBox="1"/>
              <p:nvPr/>
            </p:nvSpPr>
            <p:spPr>
              <a:xfrm>
                <a:off x="2987640" y="-100080"/>
                <a:ext cx="290844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3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Rectangle 5"/>
          <p:cNvSpPr/>
          <p:nvPr/>
        </p:nvSpPr>
        <p:spPr>
          <a:xfrm>
            <a:off x="396720" y="1052640"/>
            <a:ext cx="8136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隶书"/>
              </a:rPr>
              <a:t>根据顶点式确定开口方向</a:t>
            </a:r>
            <a:r>
              <a:rPr b="1" lang="en-US" sz="2800" spc="-1" strike="noStrike">
                <a:solidFill>
                  <a:srgbClr val="3333cc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</a:rPr>
              <a:t>对称轴</a:t>
            </a:r>
            <a:r>
              <a:rPr b="1" lang="en-US" sz="2800" spc="-1" strike="noStrike">
                <a:solidFill>
                  <a:srgbClr val="3333cc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</a:rPr>
              <a:t>顶点坐标</a:t>
            </a:r>
            <a:r>
              <a:rPr b="1" lang="en-US" sz="2800" spc="-1" strike="noStrike">
                <a:solidFill>
                  <a:srgbClr val="3333cc"/>
                </a:solidFill>
                <a:latin typeface="隶书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graphicFrame>
        <p:nvGraphicFramePr>
          <p:cNvPr id="3616" name=""/>
          <p:cNvGraphicFramePr/>
          <p:nvPr/>
        </p:nvGraphicFramePr>
        <p:xfrm>
          <a:off x="263520" y="4692600"/>
          <a:ext cx="8880480" cy="1473120"/>
        </p:xfrm>
        <a:graphic>
          <a:graphicData uri="http://schemas.openxmlformats.org/drawingml/2006/table">
            <a:tbl>
              <a:tblPr/>
              <a:tblGrid>
                <a:gridCol w="1855800"/>
                <a:gridCol w="779400"/>
                <a:gridCol w="779400"/>
                <a:gridCol w="793800"/>
                <a:gridCol w="762120"/>
                <a:gridCol w="777960"/>
                <a:gridCol w="777600"/>
                <a:gridCol w="798480"/>
                <a:gridCol w="777960"/>
                <a:gridCol w="777960"/>
              </a:tblGrid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隶书"/>
                          <a:ea typeface="隶书"/>
                        </a:rPr>
                        <a:t>x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隶书"/>
                          <a:ea typeface="隶书"/>
                        </a:rPr>
                        <a:t>3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隶书"/>
                          <a:ea typeface="隶书"/>
                        </a:rPr>
                        <a:t>4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隶书"/>
                          <a:ea typeface="隶书"/>
                        </a:rPr>
                        <a:t>5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隶书"/>
                          <a:ea typeface="隶书"/>
                        </a:rPr>
                        <a:t>6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隶书"/>
                          <a:ea typeface="隶书"/>
                        </a:rPr>
                        <a:t>7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隶书"/>
                          <a:ea typeface="隶书"/>
                        </a:rPr>
                        <a:t>8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隶书"/>
                          <a:ea typeface="隶书"/>
                        </a:rPr>
                        <a:t>9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2000"/>
                          </a:solidFill>
                          <a:latin typeface="隶书"/>
                          <a:ea typeface="隶书"/>
                        </a:rPr>
                        <a:t> 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617" name="Object 41"/>
              <p:cNvSpPr txBox="1"/>
              <p:nvPr/>
            </p:nvSpPr>
            <p:spPr>
              <a:xfrm>
                <a:off x="250920" y="5299200"/>
                <a:ext cx="186372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8" name="Rectangle 42"/>
          <p:cNvSpPr/>
          <p:nvPr/>
        </p:nvSpPr>
        <p:spPr>
          <a:xfrm>
            <a:off x="393840" y="4118040"/>
            <a:ext cx="8281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隶书"/>
              </a:rPr>
              <a:t>列表</a:t>
            </a:r>
            <a:r>
              <a:rPr b="1" lang="en-US" sz="2800" spc="-1" strike="noStrike">
                <a:solidFill>
                  <a:srgbClr val="3333cc"/>
                </a:solidFill>
                <a:latin typeface="隶书"/>
              </a:rPr>
              <a:t>: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</a:rPr>
              <a:t>利用图像的对称性</a:t>
            </a:r>
            <a:r>
              <a:rPr b="1" lang="en-US" sz="2800" spc="-1" strike="noStrike">
                <a:solidFill>
                  <a:srgbClr val="3333cc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</a:rPr>
              <a:t>选取适当值列表计算</a:t>
            </a:r>
            <a:r>
              <a:rPr b="1" lang="en-US" sz="2800" spc="-1" strike="noStrike">
                <a:solidFill>
                  <a:srgbClr val="3333cc"/>
                </a:solidFill>
                <a:latin typeface="隶书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graphicFrame>
        <p:nvGraphicFramePr>
          <p:cNvPr id="3619" name=""/>
          <p:cNvGraphicFramePr/>
          <p:nvPr/>
        </p:nvGraphicFramePr>
        <p:xfrm>
          <a:off x="263520" y="4724280"/>
          <a:ext cx="8880480" cy="1441440"/>
        </p:xfrm>
        <a:graphic>
          <a:graphicData uri="http://schemas.openxmlformats.org/drawingml/2006/table">
            <a:tbl>
              <a:tblPr/>
              <a:tblGrid>
                <a:gridCol w="1855800"/>
                <a:gridCol w="779400"/>
                <a:gridCol w="779400"/>
                <a:gridCol w="793800"/>
                <a:gridCol w="762120"/>
                <a:gridCol w="777960"/>
                <a:gridCol w="777600"/>
                <a:gridCol w="798480"/>
                <a:gridCol w="777960"/>
                <a:gridCol w="777960"/>
              </a:tblGrid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隶书"/>
                          <a:ea typeface="隶书"/>
                        </a:rPr>
                        <a:t>7.5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隶书"/>
                          <a:ea typeface="隶书"/>
                        </a:rPr>
                        <a:t>5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隶书"/>
                          <a:ea typeface="隶书"/>
                        </a:rPr>
                        <a:t>3.5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隶书"/>
                          <a:ea typeface="隶书"/>
                        </a:rPr>
                        <a:t>3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隶书"/>
                          <a:ea typeface="隶书"/>
                        </a:rPr>
                        <a:t>3.5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隶书"/>
                          <a:ea typeface="隶书"/>
                        </a:rPr>
                        <a:t>5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隶书"/>
                          <a:ea typeface="隶书"/>
                        </a:rPr>
                        <a:t>7.5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0" name="Rectangle 78"/>
          <p:cNvSpPr/>
          <p:nvPr/>
        </p:nvSpPr>
        <p:spPr>
          <a:xfrm>
            <a:off x="1333440" y="1628640"/>
            <a:ext cx="48229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∵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a=  &gt;0,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开口向上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;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对称轴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直线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x=6;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顶点坐标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:(6,3)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21" name="Rectangle 80"/>
          <p:cNvSpPr/>
          <p:nvPr/>
        </p:nvSpPr>
        <p:spPr>
          <a:xfrm>
            <a:off x="179280" y="115920"/>
            <a:ext cx="770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隶书"/>
                <a:ea typeface="黑体"/>
              </a:rPr>
              <a:t>直接画函数             的图象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黑体"/>
              </a:rPr>
              <a:t> 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2" name="Object 81"/>
              <p:cNvSpPr txBox="1"/>
              <p:nvPr/>
            </p:nvSpPr>
            <p:spPr>
              <a:xfrm>
                <a:off x="2916360" y="-100080"/>
                <a:ext cx="302400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3" name="Object 83"/>
              <p:cNvSpPr txBox="1"/>
              <p:nvPr/>
            </p:nvSpPr>
            <p:spPr>
              <a:xfrm>
                <a:off x="2182680" y="1557360"/>
                <a:ext cx="301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Rectangle 5"/>
          <p:cNvSpPr/>
          <p:nvPr/>
        </p:nvSpPr>
        <p:spPr>
          <a:xfrm>
            <a:off x="179280" y="115920"/>
            <a:ext cx="770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隶书"/>
                <a:ea typeface="黑体"/>
              </a:rPr>
              <a:t>直接画函数             的图象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黑体"/>
              </a:rPr>
              <a:t> 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5" name="Object 6"/>
              <p:cNvSpPr txBox="1"/>
              <p:nvPr/>
            </p:nvSpPr>
            <p:spPr>
              <a:xfrm>
                <a:off x="2916360" y="-100080"/>
                <a:ext cx="302400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6" name="Rectangle 7"/>
          <p:cNvSpPr/>
          <p:nvPr/>
        </p:nvSpPr>
        <p:spPr>
          <a:xfrm>
            <a:off x="396720" y="1052640"/>
            <a:ext cx="8136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隶书"/>
              </a:rPr>
              <a:t>描点、连线，画出函数           图像</a:t>
            </a:r>
            <a:r>
              <a:rPr b="1" lang="en-US" sz="2800" spc="-1" strike="noStrike">
                <a:solidFill>
                  <a:srgbClr val="3333cc"/>
                </a:solidFill>
                <a:latin typeface="隶书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27" name="Text Box 42"/>
          <p:cNvSpPr/>
          <p:nvPr/>
        </p:nvSpPr>
        <p:spPr>
          <a:xfrm>
            <a:off x="2747880" y="4741920"/>
            <a:ext cx="514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3628" name="Group 47"/>
          <p:cNvGrpSpPr/>
          <p:nvPr/>
        </p:nvGrpSpPr>
        <p:grpSpPr>
          <a:xfrm>
            <a:off x="1978200" y="2487600"/>
            <a:ext cx="2952720" cy="3384720"/>
            <a:chOff x="1978200" y="2487600"/>
            <a:chExt cx="2952720" cy="3384720"/>
          </a:xfrm>
        </p:grpSpPr>
        <p:sp>
          <p:nvSpPr>
            <p:cNvPr id="3629" name="Freeform 48"/>
            <p:cNvSpPr/>
            <p:nvPr/>
          </p:nvSpPr>
          <p:spPr>
            <a:xfrm>
              <a:off x="1978200" y="2487600"/>
              <a:ext cx="2952720" cy="2694960"/>
            </a:xfrm>
            <a:custGeom>
              <a:avLst/>
              <a:gdLst/>
              <a:ahLst/>
              <a:rect l="l" t="t" r="r" b="b"/>
              <a:pathLst>
                <a:path w="1543" h="2064">
                  <a:moveTo>
                    <a:pt x="0" y="0"/>
                  </a:moveTo>
                  <a:lnTo>
                    <a:pt x="6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0" y="144"/>
                  </a:lnTo>
                  <a:lnTo>
                    <a:pt x="36" y="180"/>
                  </a:lnTo>
                  <a:lnTo>
                    <a:pt x="42" y="216"/>
                  </a:lnTo>
                  <a:lnTo>
                    <a:pt x="48" y="246"/>
                  </a:lnTo>
                  <a:lnTo>
                    <a:pt x="54" y="282"/>
                  </a:lnTo>
                  <a:lnTo>
                    <a:pt x="60" y="318"/>
                  </a:lnTo>
                  <a:lnTo>
                    <a:pt x="72" y="348"/>
                  </a:lnTo>
                  <a:lnTo>
                    <a:pt x="78" y="384"/>
                  </a:lnTo>
                  <a:lnTo>
                    <a:pt x="84" y="414"/>
                  </a:lnTo>
                  <a:lnTo>
                    <a:pt x="90" y="450"/>
                  </a:lnTo>
                  <a:lnTo>
                    <a:pt x="96" y="480"/>
                  </a:lnTo>
                  <a:lnTo>
                    <a:pt x="102" y="510"/>
                  </a:lnTo>
                  <a:lnTo>
                    <a:pt x="108" y="546"/>
                  </a:lnTo>
                  <a:lnTo>
                    <a:pt x="120" y="576"/>
                  </a:lnTo>
                  <a:lnTo>
                    <a:pt x="126" y="606"/>
                  </a:lnTo>
                  <a:lnTo>
                    <a:pt x="132" y="636"/>
                  </a:lnTo>
                  <a:lnTo>
                    <a:pt x="138" y="666"/>
                  </a:lnTo>
                  <a:lnTo>
                    <a:pt x="144" y="696"/>
                  </a:lnTo>
                  <a:lnTo>
                    <a:pt x="150" y="726"/>
                  </a:lnTo>
                  <a:lnTo>
                    <a:pt x="156" y="756"/>
                  </a:lnTo>
                  <a:lnTo>
                    <a:pt x="168" y="786"/>
                  </a:lnTo>
                  <a:lnTo>
                    <a:pt x="174" y="816"/>
                  </a:lnTo>
                  <a:lnTo>
                    <a:pt x="180" y="840"/>
                  </a:lnTo>
                  <a:lnTo>
                    <a:pt x="186" y="870"/>
                  </a:lnTo>
                  <a:lnTo>
                    <a:pt x="192" y="900"/>
                  </a:lnTo>
                  <a:lnTo>
                    <a:pt x="198" y="924"/>
                  </a:lnTo>
                  <a:lnTo>
                    <a:pt x="204" y="954"/>
                  </a:lnTo>
                  <a:lnTo>
                    <a:pt x="216" y="978"/>
                  </a:lnTo>
                  <a:lnTo>
                    <a:pt x="222" y="1002"/>
                  </a:lnTo>
                  <a:lnTo>
                    <a:pt x="228" y="1032"/>
                  </a:lnTo>
                  <a:lnTo>
                    <a:pt x="234" y="1056"/>
                  </a:lnTo>
                  <a:lnTo>
                    <a:pt x="240" y="1080"/>
                  </a:lnTo>
                  <a:lnTo>
                    <a:pt x="246" y="1104"/>
                  </a:lnTo>
                  <a:lnTo>
                    <a:pt x="252" y="1134"/>
                  </a:lnTo>
                  <a:lnTo>
                    <a:pt x="264" y="1158"/>
                  </a:lnTo>
                  <a:lnTo>
                    <a:pt x="270" y="1182"/>
                  </a:lnTo>
                  <a:lnTo>
                    <a:pt x="276" y="1206"/>
                  </a:lnTo>
                  <a:lnTo>
                    <a:pt x="282" y="1230"/>
                  </a:lnTo>
                  <a:lnTo>
                    <a:pt x="288" y="1248"/>
                  </a:lnTo>
                  <a:lnTo>
                    <a:pt x="294" y="1272"/>
                  </a:lnTo>
                  <a:lnTo>
                    <a:pt x="300" y="1296"/>
                  </a:lnTo>
                  <a:lnTo>
                    <a:pt x="312" y="1320"/>
                  </a:lnTo>
                  <a:lnTo>
                    <a:pt x="318" y="1338"/>
                  </a:lnTo>
                  <a:lnTo>
                    <a:pt x="324" y="1362"/>
                  </a:lnTo>
                  <a:lnTo>
                    <a:pt x="330" y="1380"/>
                  </a:lnTo>
                  <a:lnTo>
                    <a:pt x="336" y="1404"/>
                  </a:lnTo>
                  <a:lnTo>
                    <a:pt x="342" y="1422"/>
                  </a:lnTo>
                  <a:lnTo>
                    <a:pt x="348" y="1446"/>
                  </a:lnTo>
                  <a:lnTo>
                    <a:pt x="360" y="1464"/>
                  </a:lnTo>
                  <a:lnTo>
                    <a:pt x="366" y="1482"/>
                  </a:lnTo>
                  <a:lnTo>
                    <a:pt x="372" y="1500"/>
                  </a:lnTo>
                  <a:lnTo>
                    <a:pt x="378" y="1524"/>
                  </a:lnTo>
                  <a:lnTo>
                    <a:pt x="384" y="1542"/>
                  </a:lnTo>
                  <a:lnTo>
                    <a:pt x="390" y="1560"/>
                  </a:lnTo>
                  <a:lnTo>
                    <a:pt x="396" y="1578"/>
                  </a:lnTo>
                  <a:lnTo>
                    <a:pt x="408" y="1596"/>
                  </a:lnTo>
                  <a:lnTo>
                    <a:pt x="414" y="1614"/>
                  </a:lnTo>
                  <a:lnTo>
                    <a:pt x="420" y="1626"/>
                  </a:lnTo>
                  <a:lnTo>
                    <a:pt x="426" y="1644"/>
                  </a:lnTo>
                  <a:lnTo>
                    <a:pt x="432" y="1662"/>
                  </a:lnTo>
                  <a:lnTo>
                    <a:pt x="438" y="1680"/>
                  </a:lnTo>
                  <a:lnTo>
                    <a:pt x="444" y="1692"/>
                  </a:lnTo>
                  <a:lnTo>
                    <a:pt x="456" y="1710"/>
                  </a:lnTo>
                  <a:lnTo>
                    <a:pt x="462" y="1722"/>
                  </a:lnTo>
                  <a:lnTo>
                    <a:pt x="468" y="1740"/>
                  </a:lnTo>
                  <a:lnTo>
                    <a:pt x="474" y="1752"/>
                  </a:lnTo>
                  <a:lnTo>
                    <a:pt x="480" y="1764"/>
                  </a:lnTo>
                  <a:lnTo>
                    <a:pt x="486" y="1782"/>
                  </a:lnTo>
                  <a:lnTo>
                    <a:pt x="492" y="1794"/>
                  </a:lnTo>
                  <a:lnTo>
                    <a:pt x="504" y="1806"/>
                  </a:lnTo>
                  <a:lnTo>
                    <a:pt x="510" y="1818"/>
                  </a:lnTo>
                  <a:lnTo>
                    <a:pt x="516" y="1830"/>
                  </a:lnTo>
                  <a:lnTo>
                    <a:pt x="522" y="1842"/>
                  </a:lnTo>
                  <a:lnTo>
                    <a:pt x="528" y="1854"/>
                  </a:lnTo>
                  <a:lnTo>
                    <a:pt x="534" y="1866"/>
                  </a:lnTo>
                  <a:lnTo>
                    <a:pt x="540" y="1878"/>
                  </a:lnTo>
                  <a:lnTo>
                    <a:pt x="552" y="1890"/>
                  </a:lnTo>
                  <a:lnTo>
                    <a:pt x="558" y="1902"/>
                  </a:lnTo>
                  <a:lnTo>
                    <a:pt x="564" y="1908"/>
                  </a:lnTo>
                  <a:lnTo>
                    <a:pt x="570" y="1920"/>
                  </a:lnTo>
                  <a:lnTo>
                    <a:pt x="576" y="1932"/>
                  </a:lnTo>
                  <a:lnTo>
                    <a:pt x="582" y="1938"/>
                  </a:lnTo>
                  <a:lnTo>
                    <a:pt x="588" y="1950"/>
                  </a:lnTo>
                  <a:lnTo>
                    <a:pt x="600" y="1956"/>
                  </a:lnTo>
                  <a:lnTo>
                    <a:pt x="606" y="1962"/>
                  </a:lnTo>
                  <a:lnTo>
                    <a:pt x="612" y="1974"/>
                  </a:lnTo>
                  <a:lnTo>
                    <a:pt x="618" y="1980"/>
                  </a:lnTo>
                  <a:lnTo>
                    <a:pt x="624" y="1986"/>
                  </a:lnTo>
                  <a:lnTo>
                    <a:pt x="630" y="1992"/>
                  </a:lnTo>
                  <a:lnTo>
                    <a:pt x="636" y="1998"/>
                  </a:lnTo>
                  <a:lnTo>
                    <a:pt x="648" y="2004"/>
                  </a:lnTo>
                  <a:lnTo>
                    <a:pt x="654" y="2010"/>
                  </a:lnTo>
                  <a:lnTo>
                    <a:pt x="660" y="2016"/>
                  </a:lnTo>
                  <a:lnTo>
                    <a:pt x="666" y="2022"/>
                  </a:lnTo>
                  <a:lnTo>
                    <a:pt x="672" y="2028"/>
                  </a:lnTo>
                  <a:lnTo>
                    <a:pt x="678" y="2034"/>
                  </a:lnTo>
                  <a:lnTo>
                    <a:pt x="684" y="2040"/>
                  </a:lnTo>
                  <a:lnTo>
                    <a:pt x="690" y="2040"/>
                  </a:lnTo>
                  <a:lnTo>
                    <a:pt x="702" y="2046"/>
                  </a:lnTo>
                  <a:lnTo>
                    <a:pt x="708" y="2046"/>
                  </a:lnTo>
                  <a:lnTo>
                    <a:pt x="714" y="2052"/>
                  </a:lnTo>
                  <a:lnTo>
                    <a:pt x="720" y="2052"/>
                  </a:lnTo>
                  <a:lnTo>
                    <a:pt x="726" y="2058"/>
                  </a:lnTo>
                  <a:lnTo>
                    <a:pt x="732" y="2058"/>
                  </a:lnTo>
                  <a:lnTo>
                    <a:pt x="738" y="2058"/>
                  </a:lnTo>
                  <a:lnTo>
                    <a:pt x="750" y="2064"/>
                  </a:lnTo>
                  <a:lnTo>
                    <a:pt x="756" y="2064"/>
                  </a:lnTo>
                  <a:lnTo>
                    <a:pt x="762" y="2064"/>
                  </a:lnTo>
                  <a:lnTo>
                    <a:pt x="768" y="2064"/>
                  </a:lnTo>
                  <a:lnTo>
                    <a:pt x="774" y="2064"/>
                  </a:lnTo>
                  <a:lnTo>
                    <a:pt x="781" y="2064"/>
                  </a:lnTo>
                  <a:lnTo>
                    <a:pt x="787" y="2064"/>
                  </a:lnTo>
                  <a:lnTo>
                    <a:pt x="799" y="2064"/>
                  </a:lnTo>
                  <a:lnTo>
                    <a:pt x="805" y="2064"/>
                  </a:lnTo>
                  <a:lnTo>
                    <a:pt x="811" y="2058"/>
                  </a:lnTo>
                  <a:lnTo>
                    <a:pt x="817" y="2058"/>
                  </a:lnTo>
                  <a:lnTo>
                    <a:pt x="823" y="2058"/>
                  </a:lnTo>
                  <a:lnTo>
                    <a:pt x="829" y="2052"/>
                  </a:lnTo>
                  <a:lnTo>
                    <a:pt x="835" y="2052"/>
                  </a:lnTo>
                  <a:lnTo>
                    <a:pt x="847" y="2046"/>
                  </a:lnTo>
                  <a:lnTo>
                    <a:pt x="853" y="2046"/>
                  </a:lnTo>
                  <a:lnTo>
                    <a:pt x="859" y="2040"/>
                  </a:lnTo>
                  <a:lnTo>
                    <a:pt x="865" y="2034"/>
                  </a:lnTo>
                  <a:lnTo>
                    <a:pt x="871" y="2034"/>
                  </a:lnTo>
                  <a:lnTo>
                    <a:pt x="877" y="2028"/>
                  </a:lnTo>
                  <a:lnTo>
                    <a:pt x="883" y="2022"/>
                  </a:lnTo>
                  <a:lnTo>
                    <a:pt x="895" y="2016"/>
                  </a:lnTo>
                  <a:lnTo>
                    <a:pt x="901" y="2010"/>
                  </a:lnTo>
                  <a:lnTo>
                    <a:pt x="907" y="2004"/>
                  </a:lnTo>
                  <a:lnTo>
                    <a:pt x="913" y="1998"/>
                  </a:lnTo>
                  <a:lnTo>
                    <a:pt x="919" y="1992"/>
                  </a:lnTo>
                  <a:lnTo>
                    <a:pt x="925" y="1986"/>
                  </a:lnTo>
                  <a:lnTo>
                    <a:pt x="931" y="1974"/>
                  </a:lnTo>
                  <a:lnTo>
                    <a:pt x="943" y="1968"/>
                  </a:lnTo>
                  <a:lnTo>
                    <a:pt x="949" y="1962"/>
                  </a:lnTo>
                  <a:lnTo>
                    <a:pt x="955" y="1950"/>
                  </a:lnTo>
                  <a:lnTo>
                    <a:pt x="961" y="1944"/>
                  </a:lnTo>
                  <a:lnTo>
                    <a:pt x="967" y="1938"/>
                  </a:lnTo>
                  <a:lnTo>
                    <a:pt x="973" y="1926"/>
                  </a:lnTo>
                  <a:lnTo>
                    <a:pt x="979" y="1914"/>
                  </a:lnTo>
                  <a:lnTo>
                    <a:pt x="991" y="1908"/>
                  </a:lnTo>
                  <a:lnTo>
                    <a:pt x="997" y="1896"/>
                  </a:lnTo>
                  <a:lnTo>
                    <a:pt x="1003" y="1884"/>
                  </a:lnTo>
                  <a:lnTo>
                    <a:pt x="1009" y="1872"/>
                  </a:lnTo>
                  <a:lnTo>
                    <a:pt x="1015" y="1866"/>
                  </a:lnTo>
                  <a:lnTo>
                    <a:pt x="1021" y="1854"/>
                  </a:lnTo>
                  <a:lnTo>
                    <a:pt x="1027" y="1842"/>
                  </a:lnTo>
                  <a:lnTo>
                    <a:pt x="1039" y="1830"/>
                  </a:lnTo>
                  <a:lnTo>
                    <a:pt x="1045" y="1818"/>
                  </a:lnTo>
                  <a:lnTo>
                    <a:pt x="1051" y="1800"/>
                  </a:lnTo>
                  <a:lnTo>
                    <a:pt x="1057" y="1788"/>
                  </a:lnTo>
                  <a:lnTo>
                    <a:pt x="1063" y="1776"/>
                  </a:lnTo>
                  <a:lnTo>
                    <a:pt x="1069" y="1764"/>
                  </a:lnTo>
                  <a:lnTo>
                    <a:pt x="1075" y="1746"/>
                  </a:lnTo>
                  <a:lnTo>
                    <a:pt x="1087" y="1734"/>
                  </a:lnTo>
                  <a:lnTo>
                    <a:pt x="1093" y="1716"/>
                  </a:lnTo>
                  <a:lnTo>
                    <a:pt x="1099" y="1704"/>
                  </a:lnTo>
                  <a:lnTo>
                    <a:pt x="1105" y="1686"/>
                  </a:lnTo>
                  <a:lnTo>
                    <a:pt x="1111" y="1674"/>
                  </a:lnTo>
                  <a:lnTo>
                    <a:pt x="1117" y="1656"/>
                  </a:lnTo>
                  <a:lnTo>
                    <a:pt x="1123" y="1638"/>
                  </a:lnTo>
                  <a:lnTo>
                    <a:pt x="1135" y="1620"/>
                  </a:lnTo>
                  <a:lnTo>
                    <a:pt x="1141" y="1608"/>
                  </a:lnTo>
                  <a:lnTo>
                    <a:pt x="1147" y="1590"/>
                  </a:lnTo>
                  <a:lnTo>
                    <a:pt x="1153" y="1572"/>
                  </a:lnTo>
                  <a:lnTo>
                    <a:pt x="1159" y="1554"/>
                  </a:lnTo>
                  <a:lnTo>
                    <a:pt x="1165" y="1536"/>
                  </a:lnTo>
                  <a:lnTo>
                    <a:pt x="1171" y="1518"/>
                  </a:lnTo>
                  <a:lnTo>
                    <a:pt x="1183" y="1494"/>
                  </a:lnTo>
                  <a:lnTo>
                    <a:pt x="1189" y="1476"/>
                  </a:lnTo>
                  <a:lnTo>
                    <a:pt x="1195" y="1458"/>
                  </a:lnTo>
                  <a:lnTo>
                    <a:pt x="1201" y="1440"/>
                  </a:lnTo>
                  <a:lnTo>
                    <a:pt x="1207" y="1416"/>
                  </a:lnTo>
                  <a:lnTo>
                    <a:pt x="1213" y="1398"/>
                  </a:lnTo>
                  <a:lnTo>
                    <a:pt x="1219" y="1374"/>
                  </a:lnTo>
                  <a:lnTo>
                    <a:pt x="1231" y="1356"/>
                  </a:lnTo>
                  <a:lnTo>
                    <a:pt x="1237" y="1332"/>
                  </a:lnTo>
                  <a:lnTo>
                    <a:pt x="1243" y="1308"/>
                  </a:lnTo>
                  <a:lnTo>
                    <a:pt x="1249" y="1290"/>
                  </a:lnTo>
                  <a:lnTo>
                    <a:pt x="1255" y="1266"/>
                  </a:lnTo>
                  <a:lnTo>
                    <a:pt x="1261" y="1242"/>
                  </a:lnTo>
                  <a:lnTo>
                    <a:pt x="1267" y="1218"/>
                  </a:lnTo>
                  <a:lnTo>
                    <a:pt x="1279" y="1194"/>
                  </a:lnTo>
                  <a:lnTo>
                    <a:pt x="1285" y="1170"/>
                  </a:lnTo>
                  <a:lnTo>
                    <a:pt x="1291" y="1146"/>
                  </a:lnTo>
                  <a:lnTo>
                    <a:pt x="1297" y="1122"/>
                  </a:lnTo>
                  <a:lnTo>
                    <a:pt x="1303" y="1098"/>
                  </a:lnTo>
                  <a:lnTo>
                    <a:pt x="1309" y="1074"/>
                  </a:lnTo>
                  <a:lnTo>
                    <a:pt x="1315" y="1050"/>
                  </a:lnTo>
                  <a:lnTo>
                    <a:pt x="1327" y="1020"/>
                  </a:lnTo>
                  <a:lnTo>
                    <a:pt x="1333" y="996"/>
                  </a:lnTo>
                  <a:lnTo>
                    <a:pt x="1339" y="966"/>
                  </a:lnTo>
                  <a:lnTo>
                    <a:pt x="1345" y="942"/>
                  </a:lnTo>
                  <a:lnTo>
                    <a:pt x="1351" y="912"/>
                  </a:lnTo>
                  <a:lnTo>
                    <a:pt x="1357" y="888"/>
                  </a:lnTo>
                  <a:lnTo>
                    <a:pt x="1363" y="858"/>
                  </a:lnTo>
                  <a:lnTo>
                    <a:pt x="1375" y="834"/>
                  </a:lnTo>
                  <a:lnTo>
                    <a:pt x="1381" y="804"/>
                  </a:lnTo>
                  <a:lnTo>
                    <a:pt x="1387" y="774"/>
                  </a:lnTo>
                  <a:lnTo>
                    <a:pt x="1393" y="744"/>
                  </a:lnTo>
                  <a:lnTo>
                    <a:pt x="1399" y="714"/>
                  </a:lnTo>
                  <a:lnTo>
                    <a:pt x="1405" y="684"/>
                  </a:lnTo>
                  <a:lnTo>
                    <a:pt x="1411" y="654"/>
                  </a:lnTo>
                  <a:lnTo>
                    <a:pt x="1423" y="624"/>
                  </a:lnTo>
                  <a:lnTo>
                    <a:pt x="1429" y="594"/>
                  </a:lnTo>
                  <a:lnTo>
                    <a:pt x="1435" y="564"/>
                  </a:lnTo>
                  <a:lnTo>
                    <a:pt x="1441" y="534"/>
                  </a:lnTo>
                  <a:lnTo>
                    <a:pt x="1447" y="504"/>
                  </a:lnTo>
                  <a:lnTo>
                    <a:pt x="1453" y="468"/>
                  </a:lnTo>
                  <a:lnTo>
                    <a:pt x="1459" y="438"/>
                  </a:lnTo>
                  <a:lnTo>
                    <a:pt x="1471" y="402"/>
                  </a:lnTo>
                  <a:lnTo>
                    <a:pt x="1477" y="372"/>
                  </a:lnTo>
                  <a:lnTo>
                    <a:pt x="1483" y="336"/>
                  </a:lnTo>
                  <a:lnTo>
                    <a:pt x="1489" y="306"/>
                  </a:lnTo>
                  <a:lnTo>
                    <a:pt x="1495" y="270"/>
                  </a:lnTo>
                  <a:lnTo>
                    <a:pt x="1501" y="234"/>
                  </a:lnTo>
                  <a:lnTo>
                    <a:pt x="1507" y="204"/>
                  </a:lnTo>
                  <a:lnTo>
                    <a:pt x="1519" y="168"/>
                  </a:lnTo>
                  <a:lnTo>
                    <a:pt x="1525" y="132"/>
                  </a:lnTo>
                  <a:lnTo>
                    <a:pt x="1531" y="96"/>
                  </a:lnTo>
                  <a:lnTo>
                    <a:pt x="1537" y="60"/>
                  </a:lnTo>
                  <a:lnTo>
                    <a:pt x="1543" y="24"/>
                  </a:lnTo>
                </a:path>
              </a:pathLst>
            </a:custGeom>
            <a:noFill/>
            <a:ln w="2844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630" name="Line 49"/>
            <p:cNvSpPr/>
            <p:nvPr/>
          </p:nvSpPr>
          <p:spPr>
            <a:xfrm>
              <a:off x="3454560" y="2487600"/>
              <a:ext cx="0" cy="338472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3631" name="Group 69"/>
          <p:cNvGrpSpPr/>
          <p:nvPr/>
        </p:nvGrpSpPr>
        <p:grpSpPr>
          <a:xfrm>
            <a:off x="2266920" y="3784680"/>
            <a:ext cx="2303640" cy="1530720"/>
            <a:chOff x="2266920" y="3784680"/>
            <a:chExt cx="2303640" cy="1530720"/>
          </a:xfrm>
        </p:grpSpPr>
        <p:sp>
          <p:nvSpPr>
            <p:cNvPr id="3632" name="Text Box 57"/>
            <p:cNvSpPr/>
            <p:nvPr/>
          </p:nvSpPr>
          <p:spPr>
            <a:xfrm>
              <a:off x="3274920" y="500832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Times New Roman"/>
                </a:rPr>
                <a:t>●</a:t>
              </a:r>
              <a:endParaRPr b="0" lang="en-US" sz="1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633" name="Text Box 58"/>
            <p:cNvSpPr/>
            <p:nvPr/>
          </p:nvSpPr>
          <p:spPr>
            <a:xfrm>
              <a:off x="2914560" y="486396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Times New Roman"/>
                </a:rPr>
                <a:t>●</a:t>
              </a:r>
              <a:endParaRPr b="0" lang="en-US" sz="1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634" name="Text Box 64"/>
            <p:cNvSpPr/>
            <p:nvPr/>
          </p:nvSpPr>
          <p:spPr>
            <a:xfrm>
              <a:off x="3633840" y="486396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Times New Roman"/>
                </a:rPr>
                <a:t>●</a:t>
              </a:r>
              <a:endParaRPr b="0" lang="en-US" sz="1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635" name="Text Box 65"/>
            <p:cNvSpPr/>
            <p:nvPr/>
          </p:nvSpPr>
          <p:spPr>
            <a:xfrm>
              <a:off x="3994200" y="443196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Times New Roman"/>
                </a:rPr>
                <a:t>●</a:t>
              </a:r>
              <a:endParaRPr b="0" lang="en-US" sz="1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636" name="Text Box 66"/>
            <p:cNvSpPr/>
            <p:nvPr/>
          </p:nvSpPr>
          <p:spPr>
            <a:xfrm>
              <a:off x="2625840" y="443196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Times New Roman"/>
                </a:rPr>
                <a:t>●</a:t>
              </a:r>
              <a:endParaRPr b="0" lang="en-US" sz="1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637" name="Text Box 67"/>
            <p:cNvSpPr/>
            <p:nvPr/>
          </p:nvSpPr>
          <p:spPr>
            <a:xfrm>
              <a:off x="4281480" y="3784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Times New Roman"/>
                </a:rPr>
                <a:t>●</a:t>
              </a:r>
              <a:endParaRPr b="0" lang="en-US" sz="1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638" name="Text Box 68"/>
            <p:cNvSpPr/>
            <p:nvPr/>
          </p:nvSpPr>
          <p:spPr>
            <a:xfrm>
              <a:off x="2266920" y="3784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Times New Roman"/>
                </a:rPr>
                <a:t>●</a:t>
              </a:r>
              <a:endParaRPr b="0" lang="en-US" sz="1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3639" name="Text Box 70"/>
          <p:cNvSpPr/>
          <p:nvPr/>
        </p:nvSpPr>
        <p:spPr>
          <a:xfrm>
            <a:off x="2770200" y="51372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6,3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3640" name="Group 85"/>
          <p:cNvGrpSpPr/>
          <p:nvPr/>
        </p:nvGrpSpPr>
        <p:grpSpPr>
          <a:xfrm>
            <a:off x="395280" y="2344680"/>
            <a:ext cx="6118560" cy="4110120"/>
            <a:chOff x="395280" y="2344680"/>
            <a:chExt cx="6118560" cy="4110120"/>
          </a:xfrm>
        </p:grpSpPr>
        <p:grpSp>
          <p:nvGrpSpPr>
            <p:cNvPr id="3641" name="Group 82"/>
            <p:cNvGrpSpPr/>
            <p:nvPr/>
          </p:nvGrpSpPr>
          <p:grpSpPr>
            <a:xfrm>
              <a:off x="395280" y="2344680"/>
              <a:ext cx="6118560" cy="4108680"/>
              <a:chOff x="395280" y="2344680"/>
              <a:chExt cx="6118560" cy="4108680"/>
            </a:xfrm>
          </p:grpSpPr>
          <p:grpSp>
            <p:nvGrpSpPr>
              <p:cNvPr id="3642" name="Group 81"/>
              <p:cNvGrpSpPr/>
              <p:nvPr/>
            </p:nvGrpSpPr>
            <p:grpSpPr>
              <a:xfrm>
                <a:off x="395280" y="2344680"/>
                <a:ext cx="6118560" cy="4108680"/>
                <a:chOff x="395280" y="2344680"/>
                <a:chExt cx="6118560" cy="4108680"/>
              </a:xfrm>
            </p:grpSpPr>
            <p:pic>
              <p:nvPicPr>
                <p:cNvPr id="3643" name="Picture 14" descr=""/>
                <p:cNvPicPr/>
                <p:nvPr/>
              </p:nvPicPr>
              <p:blipFill>
                <a:blip r:embed="rId1"/>
                <a:srcRect l="20548" t="0" r="0" b="0"/>
                <a:stretch/>
              </p:blipFill>
              <p:spPr>
                <a:xfrm>
                  <a:off x="395280" y="2344680"/>
                  <a:ext cx="2770200" cy="2334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4" name="Picture 15" descr=""/>
                <p:cNvPicPr/>
                <p:nvPr/>
              </p:nvPicPr>
              <p:blipFill>
                <a:blip r:embed="rId2"/>
                <a:srcRect l="0" t="0" r="12330" b="0"/>
                <a:stretch/>
              </p:blipFill>
              <p:spPr>
                <a:xfrm>
                  <a:off x="3059280" y="2344680"/>
                  <a:ext cx="3055680" cy="2334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5" name="Picture 16" descr=""/>
                <p:cNvPicPr/>
                <p:nvPr/>
              </p:nvPicPr>
              <p:blipFill>
                <a:blip r:embed="rId3"/>
                <a:srcRect l="20548" t="0" r="0" b="25509"/>
                <a:stretch/>
              </p:blipFill>
              <p:spPr>
                <a:xfrm>
                  <a:off x="395280" y="4576680"/>
                  <a:ext cx="2770200" cy="1739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6" name="Picture 17" descr=""/>
                <p:cNvPicPr/>
                <p:nvPr/>
              </p:nvPicPr>
              <p:blipFill>
                <a:blip r:embed="rId4"/>
                <a:srcRect l="0" t="0" r="12330" b="25509"/>
                <a:stretch/>
              </p:blipFill>
              <p:spPr>
                <a:xfrm>
                  <a:off x="3059280" y="4574880"/>
                  <a:ext cx="3055680" cy="173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47" name="Line 18"/>
                <p:cNvSpPr/>
                <p:nvPr/>
              </p:nvSpPr>
              <p:spPr>
                <a:xfrm>
                  <a:off x="395280" y="6016320"/>
                  <a:ext cx="5730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arrow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648" name="Line 19"/>
                <p:cNvSpPr/>
                <p:nvPr/>
              </p:nvSpPr>
              <p:spPr>
                <a:xfrm flipV="1">
                  <a:off x="1403280" y="2423520"/>
                  <a:ext cx="0" cy="387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arrow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649" name="Text Box 20"/>
                <p:cNvSpPr/>
                <p:nvPr/>
              </p:nvSpPr>
              <p:spPr>
                <a:xfrm>
                  <a:off x="998640" y="587196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32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650" name="Text Box 21"/>
                <p:cNvSpPr/>
                <p:nvPr/>
              </p:nvSpPr>
              <p:spPr>
                <a:xfrm>
                  <a:off x="6129000" y="572436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1" name="Text Box 32"/>
              <p:cNvSpPr/>
              <p:nvPr/>
            </p:nvSpPr>
            <p:spPr>
              <a:xfrm>
                <a:off x="1017000" y="43574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sp>
          <p:nvSpPr>
            <p:cNvPr id="3652" name="Text Box 83"/>
            <p:cNvSpPr/>
            <p:nvPr/>
          </p:nvSpPr>
          <p:spPr>
            <a:xfrm>
              <a:off x="2916000" y="5873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653" name="Text Box 84"/>
            <p:cNvSpPr/>
            <p:nvPr/>
          </p:nvSpPr>
          <p:spPr>
            <a:xfrm>
              <a:off x="4526640" y="58734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54" name="Object 86"/>
              <p:cNvSpPr txBox="1"/>
              <p:nvPr/>
            </p:nvSpPr>
            <p:spPr>
              <a:xfrm>
                <a:off x="3635280" y="1773360"/>
                <a:ext cx="2664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5" name="Freeform 87"/>
          <p:cNvSpPr/>
          <p:nvPr/>
        </p:nvSpPr>
        <p:spPr>
          <a:xfrm>
            <a:off x="-108000" y="3325680"/>
            <a:ext cx="2952720" cy="2695680"/>
          </a:xfrm>
          <a:custGeom>
            <a:avLst/>
            <a:gdLst/>
            <a:ahLst/>
            <a:rect l="l" t="t" r="r" b="b"/>
            <a:pathLst>
              <a:path w="1543" h="2064">
                <a:moveTo>
                  <a:pt x="0" y="0"/>
                </a:moveTo>
                <a:lnTo>
                  <a:pt x="6" y="36"/>
                </a:lnTo>
                <a:lnTo>
                  <a:pt x="12" y="72"/>
                </a:lnTo>
                <a:lnTo>
                  <a:pt x="24" y="108"/>
                </a:lnTo>
                <a:lnTo>
                  <a:pt x="30" y="144"/>
                </a:lnTo>
                <a:lnTo>
                  <a:pt x="36" y="180"/>
                </a:lnTo>
                <a:lnTo>
                  <a:pt x="42" y="216"/>
                </a:lnTo>
                <a:lnTo>
                  <a:pt x="48" y="246"/>
                </a:lnTo>
                <a:lnTo>
                  <a:pt x="54" y="282"/>
                </a:lnTo>
                <a:lnTo>
                  <a:pt x="60" y="318"/>
                </a:lnTo>
                <a:lnTo>
                  <a:pt x="72" y="348"/>
                </a:lnTo>
                <a:lnTo>
                  <a:pt x="78" y="384"/>
                </a:lnTo>
                <a:lnTo>
                  <a:pt x="84" y="414"/>
                </a:lnTo>
                <a:lnTo>
                  <a:pt x="90" y="450"/>
                </a:lnTo>
                <a:lnTo>
                  <a:pt x="96" y="480"/>
                </a:lnTo>
                <a:lnTo>
                  <a:pt x="102" y="510"/>
                </a:lnTo>
                <a:lnTo>
                  <a:pt x="108" y="546"/>
                </a:lnTo>
                <a:lnTo>
                  <a:pt x="120" y="576"/>
                </a:lnTo>
                <a:lnTo>
                  <a:pt x="126" y="606"/>
                </a:lnTo>
                <a:lnTo>
                  <a:pt x="132" y="636"/>
                </a:lnTo>
                <a:lnTo>
                  <a:pt x="138" y="666"/>
                </a:lnTo>
                <a:lnTo>
                  <a:pt x="144" y="696"/>
                </a:lnTo>
                <a:lnTo>
                  <a:pt x="150" y="726"/>
                </a:lnTo>
                <a:lnTo>
                  <a:pt x="156" y="756"/>
                </a:lnTo>
                <a:lnTo>
                  <a:pt x="168" y="786"/>
                </a:lnTo>
                <a:lnTo>
                  <a:pt x="174" y="816"/>
                </a:lnTo>
                <a:lnTo>
                  <a:pt x="180" y="840"/>
                </a:lnTo>
                <a:lnTo>
                  <a:pt x="186" y="870"/>
                </a:lnTo>
                <a:lnTo>
                  <a:pt x="192" y="900"/>
                </a:lnTo>
                <a:lnTo>
                  <a:pt x="198" y="924"/>
                </a:lnTo>
                <a:lnTo>
                  <a:pt x="204" y="954"/>
                </a:lnTo>
                <a:lnTo>
                  <a:pt x="216" y="978"/>
                </a:lnTo>
                <a:lnTo>
                  <a:pt x="222" y="1002"/>
                </a:lnTo>
                <a:lnTo>
                  <a:pt x="228" y="1032"/>
                </a:lnTo>
                <a:lnTo>
                  <a:pt x="234" y="1056"/>
                </a:lnTo>
                <a:lnTo>
                  <a:pt x="240" y="1080"/>
                </a:lnTo>
                <a:lnTo>
                  <a:pt x="246" y="1104"/>
                </a:lnTo>
                <a:lnTo>
                  <a:pt x="252" y="1134"/>
                </a:lnTo>
                <a:lnTo>
                  <a:pt x="264" y="1158"/>
                </a:lnTo>
                <a:lnTo>
                  <a:pt x="270" y="1182"/>
                </a:lnTo>
                <a:lnTo>
                  <a:pt x="276" y="1206"/>
                </a:lnTo>
                <a:lnTo>
                  <a:pt x="282" y="1230"/>
                </a:lnTo>
                <a:lnTo>
                  <a:pt x="288" y="1248"/>
                </a:lnTo>
                <a:lnTo>
                  <a:pt x="294" y="1272"/>
                </a:lnTo>
                <a:lnTo>
                  <a:pt x="300" y="1296"/>
                </a:lnTo>
                <a:lnTo>
                  <a:pt x="312" y="1320"/>
                </a:lnTo>
                <a:lnTo>
                  <a:pt x="318" y="1338"/>
                </a:lnTo>
                <a:lnTo>
                  <a:pt x="324" y="1362"/>
                </a:lnTo>
                <a:lnTo>
                  <a:pt x="330" y="1380"/>
                </a:lnTo>
                <a:lnTo>
                  <a:pt x="336" y="1404"/>
                </a:lnTo>
                <a:lnTo>
                  <a:pt x="342" y="1422"/>
                </a:lnTo>
                <a:lnTo>
                  <a:pt x="348" y="1446"/>
                </a:lnTo>
                <a:lnTo>
                  <a:pt x="360" y="1464"/>
                </a:lnTo>
                <a:lnTo>
                  <a:pt x="366" y="1482"/>
                </a:lnTo>
                <a:lnTo>
                  <a:pt x="372" y="1500"/>
                </a:lnTo>
                <a:lnTo>
                  <a:pt x="378" y="1524"/>
                </a:lnTo>
                <a:lnTo>
                  <a:pt x="384" y="1542"/>
                </a:lnTo>
                <a:lnTo>
                  <a:pt x="390" y="1560"/>
                </a:lnTo>
                <a:lnTo>
                  <a:pt x="396" y="1578"/>
                </a:lnTo>
                <a:lnTo>
                  <a:pt x="408" y="1596"/>
                </a:lnTo>
                <a:lnTo>
                  <a:pt x="414" y="1614"/>
                </a:lnTo>
                <a:lnTo>
                  <a:pt x="420" y="1626"/>
                </a:lnTo>
                <a:lnTo>
                  <a:pt x="426" y="1644"/>
                </a:lnTo>
                <a:lnTo>
                  <a:pt x="432" y="1662"/>
                </a:lnTo>
                <a:lnTo>
                  <a:pt x="438" y="1680"/>
                </a:lnTo>
                <a:lnTo>
                  <a:pt x="444" y="1692"/>
                </a:lnTo>
                <a:lnTo>
                  <a:pt x="456" y="1710"/>
                </a:lnTo>
                <a:lnTo>
                  <a:pt x="462" y="1722"/>
                </a:lnTo>
                <a:lnTo>
                  <a:pt x="468" y="1740"/>
                </a:lnTo>
                <a:lnTo>
                  <a:pt x="474" y="1752"/>
                </a:lnTo>
                <a:lnTo>
                  <a:pt x="480" y="1764"/>
                </a:lnTo>
                <a:lnTo>
                  <a:pt x="486" y="1782"/>
                </a:lnTo>
                <a:lnTo>
                  <a:pt x="492" y="1794"/>
                </a:lnTo>
                <a:lnTo>
                  <a:pt x="504" y="1806"/>
                </a:lnTo>
                <a:lnTo>
                  <a:pt x="510" y="1818"/>
                </a:lnTo>
                <a:lnTo>
                  <a:pt x="516" y="1830"/>
                </a:lnTo>
                <a:lnTo>
                  <a:pt x="522" y="1842"/>
                </a:lnTo>
                <a:lnTo>
                  <a:pt x="528" y="1854"/>
                </a:lnTo>
                <a:lnTo>
                  <a:pt x="534" y="1866"/>
                </a:lnTo>
                <a:lnTo>
                  <a:pt x="540" y="1878"/>
                </a:lnTo>
                <a:lnTo>
                  <a:pt x="552" y="1890"/>
                </a:lnTo>
                <a:lnTo>
                  <a:pt x="558" y="1902"/>
                </a:lnTo>
                <a:lnTo>
                  <a:pt x="564" y="1908"/>
                </a:lnTo>
                <a:lnTo>
                  <a:pt x="570" y="1920"/>
                </a:lnTo>
                <a:lnTo>
                  <a:pt x="576" y="1932"/>
                </a:lnTo>
                <a:lnTo>
                  <a:pt x="582" y="1938"/>
                </a:lnTo>
                <a:lnTo>
                  <a:pt x="588" y="1950"/>
                </a:lnTo>
                <a:lnTo>
                  <a:pt x="600" y="1956"/>
                </a:lnTo>
                <a:lnTo>
                  <a:pt x="606" y="1962"/>
                </a:lnTo>
                <a:lnTo>
                  <a:pt x="612" y="1974"/>
                </a:lnTo>
                <a:lnTo>
                  <a:pt x="618" y="1980"/>
                </a:lnTo>
                <a:lnTo>
                  <a:pt x="624" y="1986"/>
                </a:lnTo>
                <a:lnTo>
                  <a:pt x="630" y="1992"/>
                </a:lnTo>
                <a:lnTo>
                  <a:pt x="636" y="1998"/>
                </a:lnTo>
                <a:lnTo>
                  <a:pt x="648" y="2004"/>
                </a:lnTo>
                <a:lnTo>
                  <a:pt x="654" y="2010"/>
                </a:lnTo>
                <a:lnTo>
                  <a:pt x="660" y="2016"/>
                </a:lnTo>
                <a:lnTo>
                  <a:pt x="666" y="2022"/>
                </a:lnTo>
                <a:lnTo>
                  <a:pt x="672" y="2028"/>
                </a:lnTo>
                <a:lnTo>
                  <a:pt x="678" y="2034"/>
                </a:lnTo>
                <a:lnTo>
                  <a:pt x="684" y="2040"/>
                </a:lnTo>
                <a:lnTo>
                  <a:pt x="690" y="2040"/>
                </a:lnTo>
                <a:lnTo>
                  <a:pt x="702" y="2046"/>
                </a:lnTo>
                <a:lnTo>
                  <a:pt x="708" y="2046"/>
                </a:lnTo>
                <a:lnTo>
                  <a:pt x="714" y="2052"/>
                </a:lnTo>
                <a:lnTo>
                  <a:pt x="720" y="2052"/>
                </a:lnTo>
                <a:lnTo>
                  <a:pt x="726" y="2058"/>
                </a:lnTo>
                <a:lnTo>
                  <a:pt x="732" y="2058"/>
                </a:lnTo>
                <a:lnTo>
                  <a:pt x="738" y="2058"/>
                </a:lnTo>
                <a:lnTo>
                  <a:pt x="750" y="2064"/>
                </a:lnTo>
                <a:lnTo>
                  <a:pt x="756" y="2064"/>
                </a:lnTo>
                <a:lnTo>
                  <a:pt x="762" y="2064"/>
                </a:lnTo>
                <a:lnTo>
                  <a:pt x="768" y="2064"/>
                </a:lnTo>
                <a:lnTo>
                  <a:pt x="774" y="2064"/>
                </a:lnTo>
                <a:lnTo>
                  <a:pt x="781" y="2064"/>
                </a:lnTo>
                <a:lnTo>
                  <a:pt x="787" y="2064"/>
                </a:lnTo>
                <a:lnTo>
                  <a:pt x="799" y="2064"/>
                </a:lnTo>
                <a:lnTo>
                  <a:pt x="805" y="2064"/>
                </a:lnTo>
                <a:lnTo>
                  <a:pt x="811" y="2058"/>
                </a:lnTo>
                <a:lnTo>
                  <a:pt x="817" y="2058"/>
                </a:lnTo>
                <a:lnTo>
                  <a:pt x="823" y="2058"/>
                </a:lnTo>
                <a:lnTo>
                  <a:pt x="829" y="2052"/>
                </a:lnTo>
                <a:lnTo>
                  <a:pt x="835" y="2052"/>
                </a:lnTo>
                <a:lnTo>
                  <a:pt x="847" y="2046"/>
                </a:lnTo>
                <a:lnTo>
                  <a:pt x="853" y="2046"/>
                </a:lnTo>
                <a:lnTo>
                  <a:pt x="859" y="2040"/>
                </a:lnTo>
                <a:lnTo>
                  <a:pt x="865" y="2034"/>
                </a:lnTo>
                <a:lnTo>
                  <a:pt x="871" y="2034"/>
                </a:lnTo>
                <a:lnTo>
                  <a:pt x="877" y="2028"/>
                </a:lnTo>
                <a:lnTo>
                  <a:pt x="883" y="2022"/>
                </a:lnTo>
                <a:lnTo>
                  <a:pt x="895" y="2016"/>
                </a:lnTo>
                <a:lnTo>
                  <a:pt x="901" y="2010"/>
                </a:lnTo>
                <a:lnTo>
                  <a:pt x="907" y="2004"/>
                </a:lnTo>
                <a:lnTo>
                  <a:pt x="913" y="1998"/>
                </a:lnTo>
                <a:lnTo>
                  <a:pt x="919" y="1992"/>
                </a:lnTo>
                <a:lnTo>
                  <a:pt x="925" y="1986"/>
                </a:lnTo>
                <a:lnTo>
                  <a:pt x="931" y="1974"/>
                </a:lnTo>
                <a:lnTo>
                  <a:pt x="943" y="1968"/>
                </a:lnTo>
                <a:lnTo>
                  <a:pt x="949" y="1962"/>
                </a:lnTo>
                <a:lnTo>
                  <a:pt x="955" y="1950"/>
                </a:lnTo>
                <a:lnTo>
                  <a:pt x="961" y="1944"/>
                </a:lnTo>
                <a:lnTo>
                  <a:pt x="967" y="1938"/>
                </a:lnTo>
                <a:lnTo>
                  <a:pt x="973" y="1926"/>
                </a:lnTo>
                <a:lnTo>
                  <a:pt x="979" y="1914"/>
                </a:lnTo>
                <a:lnTo>
                  <a:pt x="991" y="1908"/>
                </a:lnTo>
                <a:lnTo>
                  <a:pt x="997" y="1896"/>
                </a:lnTo>
                <a:lnTo>
                  <a:pt x="1003" y="1884"/>
                </a:lnTo>
                <a:lnTo>
                  <a:pt x="1009" y="1872"/>
                </a:lnTo>
                <a:lnTo>
                  <a:pt x="1015" y="1866"/>
                </a:lnTo>
                <a:lnTo>
                  <a:pt x="1021" y="1854"/>
                </a:lnTo>
                <a:lnTo>
                  <a:pt x="1027" y="1842"/>
                </a:lnTo>
                <a:lnTo>
                  <a:pt x="1039" y="1830"/>
                </a:lnTo>
                <a:lnTo>
                  <a:pt x="1045" y="1818"/>
                </a:lnTo>
                <a:lnTo>
                  <a:pt x="1051" y="1800"/>
                </a:lnTo>
                <a:lnTo>
                  <a:pt x="1057" y="1788"/>
                </a:lnTo>
                <a:lnTo>
                  <a:pt x="1063" y="1776"/>
                </a:lnTo>
                <a:lnTo>
                  <a:pt x="1069" y="1764"/>
                </a:lnTo>
                <a:lnTo>
                  <a:pt x="1075" y="1746"/>
                </a:lnTo>
                <a:lnTo>
                  <a:pt x="1087" y="1734"/>
                </a:lnTo>
                <a:lnTo>
                  <a:pt x="1093" y="1716"/>
                </a:lnTo>
                <a:lnTo>
                  <a:pt x="1099" y="1704"/>
                </a:lnTo>
                <a:lnTo>
                  <a:pt x="1105" y="1686"/>
                </a:lnTo>
                <a:lnTo>
                  <a:pt x="1111" y="1674"/>
                </a:lnTo>
                <a:lnTo>
                  <a:pt x="1117" y="1656"/>
                </a:lnTo>
                <a:lnTo>
                  <a:pt x="1123" y="1638"/>
                </a:lnTo>
                <a:lnTo>
                  <a:pt x="1135" y="1620"/>
                </a:lnTo>
                <a:lnTo>
                  <a:pt x="1141" y="1608"/>
                </a:lnTo>
                <a:lnTo>
                  <a:pt x="1147" y="1590"/>
                </a:lnTo>
                <a:lnTo>
                  <a:pt x="1153" y="1572"/>
                </a:lnTo>
                <a:lnTo>
                  <a:pt x="1159" y="1554"/>
                </a:lnTo>
                <a:lnTo>
                  <a:pt x="1165" y="1536"/>
                </a:lnTo>
                <a:lnTo>
                  <a:pt x="1171" y="1518"/>
                </a:lnTo>
                <a:lnTo>
                  <a:pt x="1183" y="1494"/>
                </a:lnTo>
                <a:lnTo>
                  <a:pt x="1189" y="1476"/>
                </a:lnTo>
                <a:lnTo>
                  <a:pt x="1195" y="1458"/>
                </a:lnTo>
                <a:lnTo>
                  <a:pt x="1201" y="1440"/>
                </a:lnTo>
                <a:lnTo>
                  <a:pt x="1207" y="1416"/>
                </a:lnTo>
                <a:lnTo>
                  <a:pt x="1213" y="1398"/>
                </a:lnTo>
                <a:lnTo>
                  <a:pt x="1219" y="1374"/>
                </a:lnTo>
                <a:lnTo>
                  <a:pt x="1231" y="1356"/>
                </a:lnTo>
                <a:lnTo>
                  <a:pt x="1237" y="1332"/>
                </a:lnTo>
                <a:lnTo>
                  <a:pt x="1243" y="1308"/>
                </a:lnTo>
                <a:lnTo>
                  <a:pt x="1249" y="1290"/>
                </a:lnTo>
                <a:lnTo>
                  <a:pt x="1255" y="1266"/>
                </a:lnTo>
                <a:lnTo>
                  <a:pt x="1261" y="1242"/>
                </a:lnTo>
                <a:lnTo>
                  <a:pt x="1267" y="1218"/>
                </a:lnTo>
                <a:lnTo>
                  <a:pt x="1279" y="1194"/>
                </a:lnTo>
                <a:lnTo>
                  <a:pt x="1285" y="1170"/>
                </a:lnTo>
                <a:lnTo>
                  <a:pt x="1291" y="1146"/>
                </a:lnTo>
                <a:lnTo>
                  <a:pt x="1297" y="1122"/>
                </a:lnTo>
                <a:lnTo>
                  <a:pt x="1303" y="1098"/>
                </a:lnTo>
                <a:lnTo>
                  <a:pt x="1309" y="1074"/>
                </a:lnTo>
                <a:lnTo>
                  <a:pt x="1315" y="1050"/>
                </a:lnTo>
                <a:lnTo>
                  <a:pt x="1327" y="1020"/>
                </a:lnTo>
                <a:lnTo>
                  <a:pt x="1333" y="996"/>
                </a:lnTo>
                <a:lnTo>
                  <a:pt x="1339" y="966"/>
                </a:lnTo>
                <a:lnTo>
                  <a:pt x="1345" y="942"/>
                </a:lnTo>
                <a:lnTo>
                  <a:pt x="1351" y="912"/>
                </a:lnTo>
                <a:lnTo>
                  <a:pt x="1357" y="888"/>
                </a:lnTo>
                <a:lnTo>
                  <a:pt x="1363" y="858"/>
                </a:lnTo>
                <a:lnTo>
                  <a:pt x="1375" y="834"/>
                </a:lnTo>
                <a:lnTo>
                  <a:pt x="1381" y="804"/>
                </a:lnTo>
                <a:lnTo>
                  <a:pt x="1387" y="774"/>
                </a:lnTo>
                <a:lnTo>
                  <a:pt x="1393" y="744"/>
                </a:lnTo>
                <a:lnTo>
                  <a:pt x="1399" y="714"/>
                </a:lnTo>
                <a:lnTo>
                  <a:pt x="1405" y="684"/>
                </a:lnTo>
                <a:lnTo>
                  <a:pt x="1411" y="654"/>
                </a:lnTo>
                <a:lnTo>
                  <a:pt x="1423" y="624"/>
                </a:lnTo>
                <a:lnTo>
                  <a:pt x="1429" y="594"/>
                </a:lnTo>
                <a:lnTo>
                  <a:pt x="1435" y="564"/>
                </a:lnTo>
                <a:lnTo>
                  <a:pt x="1441" y="534"/>
                </a:lnTo>
                <a:lnTo>
                  <a:pt x="1447" y="504"/>
                </a:lnTo>
                <a:lnTo>
                  <a:pt x="1453" y="468"/>
                </a:lnTo>
                <a:lnTo>
                  <a:pt x="1459" y="438"/>
                </a:lnTo>
                <a:lnTo>
                  <a:pt x="1471" y="402"/>
                </a:lnTo>
                <a:lnTo>
                  <a:pt x="1477" y="372"/>
                </a:lnTo>
                <a:lnTo>
                  <a:pt x="1483" y="336"/>
                </a:lnTo>
                <a:lnTo>
                  <a:pt x="1489" y="306"/>
                </a:lnTo>
                <a:lnTo>
                  <a:pt x="1495" y="270"/>
                </a:lnTo>
                <a:lnTo>
                  <a:pt x="1501" y="234"/>
                </a:lnTo>
                <a:lnTo>
                  <a:pt x="1507" y="204"/>
                </a:lnTo>
                <a:lnTo>
                  <a:pt x="1519" y="168"/>
                </a:lnTo>
                <a:lnTo>
                  <a:pt x="1525" y="132"/>
                </a:lnTo>
                <a:lnTo>
                  <a:pt x="1531" y="96"/>
                </a:lnTo>
                <a:lnTo>
                  <a:pt x="1537" y="60"/>
                </a:lnTo>
                <a:lnTo>
                  <a:pt x="1543" y="24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56" name="Freeform 88"/>
          <p:cNvSpPr/>
          <p:nvPr/>
        </p:nvSpPr>
        <p:spPr>
          <a:xfrm>
            <a:off x="1979640" y="3325680"/>
            <a:ext cx="2952720" cy="2695680"/>
          </a:xfrm>
          <a:custGeom>
            <a:avLst/>
            <a:gdLst/>
            <a:ahLst/>
            <a:rect l="l" t="t" r="r" b="b"/>
            <a:pathLst>
              <a:path w="1543" h="2064">
                <a:moveTo>
                  <a:pt x="0" y="0"/>
                </a:moveTo>
                <a:lnTo>
                  <a:pt x="6" y="36"/>
                </a:lnTo>
                <a:lnTo>
                  <a:pt x="12" y="72"/>
                </a:lnTo>
                <a:lnTo>
                  <a:pt x="24" y="108"/>
                </a:lnTo>
                <a:lnTo>
                  <a:pt x="30" y="144"/>
                </a:lnTo>
                <a:lnTo>
                  <a:pt x="36" y="180"/>
                </a:lnTo>
                <a:lnTo>
                  <a:pt x="42" y="216"/>
                </a:lnTo>
                <a:lnTo>
                  <a:pt x="48" y="246"/>
                </a:lnTo>
                <a:lnTo>
                  <a:pt x="54" y="282"/>
                </a:lnTo>
                <a:lnTo>
                  <a:pt x="60" y="318"/>
                </a:lnTo>
                <a:lnTo>
                  <a:pt x="72" y="348"/>
                </a:lnTo>
                <a:lnTo>
                  <a:pt x="78" y="384"/>
                </a:lnTo>
                <a:lnTo>
                  <a:pt x="84" y="414"/>
                </a:lnTo>
                <a:lnTo>
                  <a:pt x="90" y="450"/>
                </a:lnTo>
                <a:lnTo>
                  <a:pt x="96" y="480"/>
                </a:lnTo>
                <a:lnTo>
                  <a:pt x="102" y="510"/>
                </a:lnTo>
                <a:lnTo>
                  <a:pt x="108" y="546"/>
                </a:lnTo>
                <a:lnTo>
                  <a:pt x="120" y="576"/>
                </a:lnTo>
                <a:lnTo>
                  <a:pt x="126" y="606"/>
                </a:lnTo>
                <a:lnTo>
                  <a:pt x="132" y="636"/>
                </a:lnTo>
                <a:lnTo>
                  <a:pt x="138" y="666"/>
                </a:lnTo>
                <a:lnTo>
                  <a:pt x="144" y="696"/>
                </a:lnTo>
                <a:lnTo>
                  <a:pt x="150" y="726"/>
                </a:lnTo>
                <a:lnTo>
                  <a:pt x="156" y="756"/>
                </a:lnTo>
                <a:lnTo>
                  <a:pt x="168" y="786"/>
                </a:lnTo>
                <a:lnTo>
                  <a:pt x="174" y="816"/>
                </a:lnTo>
                <a:lnTo>
                  <a:pt x="180" y="840"/>
                </a:lnTo>
                <a:lnTo>
                  <a:pt x="186" y="870"/>
                </a:lnTo>
                <a:lnTo>
                  <a:pt x="192" y="900"/>
                </a:lnTo>
                <a:lnTo>
                  <a:pt x="198" y="924"/>
                </a:lnTo>
                <a:lnTo>
                  <a:pt x="204" y="954"/>
                </a:lnTo>
                <a:lnTo>
                  <a:pt x="216" y="978"/>
                </a:lnTo>
                <a:lnTo>
                  <a:pt x="222" y="1002"/>
                </a:lnTo>
                <a:lnTo>
                  <a:pt x="228" y="1032"/>
                </a:lnTo>
                <a:lnTo>
                  <a:pt x="234" y="1056"/>
                </a:lnTo>
                <a:lnTo>
                  <a:pt x="240" y="1080"/>
                </a:lnTo>
                <a:lnTo>
                  <a:pt x="246" y="1104"/>
                </a:lnTo>
                <a:lnTo>
                  <a:pt x="252" y="1134"/>
                </a:lnTo>
                <a:lnTo>
                  <a:pt x="264" y="1158"/>
                </a:lnTo>
                <a:lnTo>
                  <a:pt x="270" y="1182"/>
                </a:lnTo>
                <a:lnTo>
                  <a:pt x="276" y="1206"/>
                </a:lnTo>
                <a:lnTo>
                  <a:pt x="282" y="1230"/>
                </a:lnTo>
                <a:lnTo>
                  <a:pt x="288" y="1248"/>
                </a:lnTo>
                <a:lnTo>
                  <a:pt x="294" y="1272"/>
                </a:lnTo>
                <a:lnTo>
                  <a:pt x="300" y="1296"/>
                </a:lnTo>
                <a:lnTo>
                  <a:pt x="312" y="1320"/>
                </a:lnTo>
                <a:lnTo>
                  <a:pt x="318" y="1338"/>
                </a:lnTo>
                <a:lnTo>
                  <a:pt x="324" y="1362"/>
                </a:lnTo>
                <a:lnTo>
                  <a:pt x="330" y="1380"/>
                </a:lnTo>
                <a:lnTo>
                  <a:pt x="336" y="1404"/>
                </a:lnTo>
                <a:lnTo>
                  <a:pt x="342" y="1422"/>
                </a:lnTo>
                <a:lnTo>
                  <a:pt x="348" y="1446"/>
                </a:lnTo>
                <a:lnTo>
                  <a:pt x="360" y="1464"/>
                </a:lnTo>
                <a:lnTo>
                  <a:pt x="366" y="1482"/>
                </a:lnTo>
                <a:lnTo>
                  <a:pt x="372" y="1500"/>
                </a:lnTo>
                <a:lnTo>
                  <a:pt x="378" y="1524"/>
                </a:lnTo>
                <a:lnTo>
                  <a:pt x="384" y="1542"/>
                </a:lnTo>
                <a:lnTo>
                  <a:pt x="390" y="1560"/>
                </a:lnTo>
                <a:lnTo>
                  <a:pt x="396" y="1578"/>
                </a:lnTo>
                <a:lnTo>
                  <a:pt x="408" y="1596"/>
                </a:lnTo>
                <a:lnTo>
                  <a:pt x="414" y="1614"/>
                </a:lnTo>
                <a:lnTo>
                  <a:pt x="420" y="1626"/>
                </a:lnTo>
                <a:lnTo>
                  <a:pt x="426" y="1644"/>
                </a:lnTo>
                <a:lnTo>
                  <a:pt x="432" y="1662"/>
                </a:lnTo>
                <a:lnTo>
                  <a:pt x="438" y="1680"/>
                </a:lnTo>
                <a:lnTo>
                  <a:pt x="444" y="1692"/>
                </a:lnTo>
                <a:lnTo>
                  <a:pt x="456" y="1710"/>
                </a:lnTo>
                <a:lnTo>
                  <a:pt x="462" y="1722"/>
                </a:lnTo>
                <a:lnTo>
                  <a:pt x="468" y="1740"/>
                </a:lnTo>
                <a:lnTo>
                  <a:pt x="474" y="1752"/>
                </a:lnTo>
                <a:lnTo>
                  <a:pt x="480" y="1764"/>
                </a:lnTo>
                <a:lnTo>
                  <a:pt x="486" y="1782"/>
                </a:lnTo>
                <a:lnTo>
                  <a:pt x="492" y="1794"/>
                </a:lnTo>
                <a:lnTo>
                  <a:pt x="504" y="1806"/>
                </a:lnTo>
                <a:lnTo>
                  <a:pt x="510" y="1818"/>
                </a:lnTo>
                <a:lnTo>
                  <a:pt x="516" y="1830"/>
                </a:lnTo>
                <a:lnTo>
                  <a:pt x="522" y="1842"/>
                </a:lnTo>
                <a:lnTo>
                  <a:pt x="528" y="1854"/>
                </a:lnTo>
                <a:lnTo>
                  <a:pt x="534" y="1866"/>
                </a:lnTo>
                <a:lnTo>
                  <a:pt x="540" y="1878"/>
                </a:lnTo>
                <a:lnTo>
                  <a:pt x="552" y="1890"/>
                </a:lnTo>
                <a:lnTo>
                  <a:pt x="558" y="1902"/>
                </a:lnTo>
                <a:lnTo>
                  <a:pt x="564" y="1908"/>
                </a:lnTo>
                <a:lnTo>
                  <a:pt x="570" y="1920"/>
                </a:lnTo>
                <a:lnTo>
                  <a:pt x="576" y="1932"/>
                </a:lnTo>
                <a:lnTo>
                  <a:pt x="582" y="1938"/>
                </a:lnTo>
                <a:lnTo>
                  <a:pt x="588" y="1950"/>
                </a:lnTo>
                <a:lnTo>
                  <a:pt x="600" y="1956"/>
                </a:lnTo>
                <a:lnTo>
                  <a:pt x="606" y="1962"/>
                </a:lnTo>
                <a:lnTo>
                  <a:pt x="612" y="1974"/>
                </a:lnTo>
                <a:lnTo>
                  <a:pt x="618" y="1980"/>
                </a:lnTo>
                <a:lnTo>
                  <a:pt x="624" y="1986"/>
                </a:lnTo>
                <a:lnTo>
                  <a:pt x="630" y="1992"/>
                </a:lnTo>
                <a:lnTo>
                  <a:pt x="636" y="1998"/>
                </a:lnTo>
                <a:lnTo>
                  <a:pt x="648" y="2004"/>
                </a:lnTo>
                <a:lnTo>
                  <a:pt x="654" y="2010"/>
                </a:lnTo>
                <a:lnTo>
                  <a:pt x="660" y="2016"/>
                </a:lnTo>
                <a:lnTo>
                  <a:pt x="666" y="2022"/>
                </a:lnTo>
                <a:lnTo>
                  <a:pt x="672" y="2028"/>
                </a:lnTo>
                <a:lnTo>
                  <a:pt x="678" y="2034"/>
                </a:lnTo>
                <a:lnTo>
                  <a:pt x="684" y="2040"/>
                </a:lnTo>
                <a:lnTo>
                  <a:pt x="690" y="2040"/>
                </a:lnTo>
                <a:lnTo>
                  <a:pt x="702" y="2046"/>
                </a:lnTo>
                <a:lnTo>
                  <a:pt x="708" y="2046"/>
                </a:lnTo>
                <a:lnTo>
                  <a:pt x="714" y="2052"/>
                </a:lnTo>
                <a:lnTo>
                  <a:pt x="720" y="2052"/>
                </a:lnTo>
                <a:lnTo>
                  <a:pt x="726" y="2058"/>
                </a:lnTo>
                <a:lnTo>
                  <a:pt x="732" y="2058"/>
                </a:lnTo>
                <a:lnTo>
                  <a:pt x="738" y="2058"/>
                </a:lnTo>
                <a:lnTo>
                  <a:pt x="750" y="2064"/>
                </a:lnTo>
                <a:lnTo>
                  <a:pt x="756" y="2064"/>
                </a:lnTo>
                <a:lnTo>
                  <a:pt x="762" y="2064"/>
                </a:lnTo>
                <a:lnTo>
                  <a:pt x="768" y="2064"/>
                </a:lnTo>
                <a:lnTo>
                  <a:pt x="774" y="2064"/>
                </a:lnTo>
                <a:lnTo>
                  <a:pt x="781" y="2064"/>
                </a:lnTo>
                <a:lnTo>
                  <a:pt x="787" y="2064"/>
                </a:lnTo>
                <a:lnTo>
                  <a:pt x="799" y="2064"/>
                </a:lnTo>
                <a:lnTo>
                  <a:pt x="805" y="2064"/>
                </a:lnTo>
                <a:lnTo>
                  <a:pt x="811" y="2058"/>
                </a:lnTo>
                <a:lnTo>
                  <a:pt x="817" y="2058"/>
                </a:lnTo>
                <a:lnTo>
                  <a:pt x="823" y="2058"/>
                </a:lnTo>
                <a:lnTo>
                  <a:pt x="829" y="2052"/>
                </a:lnTo>
                <a:lnTo>
                  <a:pt x="835" y="2052"/>
                </a:lnTo>
                <a:lnTo>
                  <a:pt x="847" y="2046"/>
                </a:lnTo>
                <a:lnTo>
                  <a:pt x="853" y="2046"/>
                </a:lnTo>
                <a:lnTo>
                  <a:pt x="859" y="2040"/>
                </a:lnTo>
                <a:lnTo>
                  <a:pt x="865" y="2034"/>
                </a:lnTo>
                <a:lnTo>
                  <a:pt x="871" y="2034"/>
                </a:lnTo>
                <a:lnTo>
                  <a:pt x="877" y="2028"/>
                </a:lnTo>
                <a:lnTo>
                  <a:pt x="883" y="2022"/>
                </a:lnTo>
                <a:lnTo>
                  <a:pt x="895" y="2016"/>
                </a:lnTo>
                <a:lnTo>
                  <a:pt x="901" y="2010"/>
                </a:lnTo>
                <a:lnTo>
                  <a:pt x="907" y="2004"/>
                </a:lnTo>
                <a:lnTo>
                  <a:pt x="913" y="1998"/>
                </a:lnTo>
                <a:lnTo>
                  <a:pt x="919" y="1992"/>
                </a:lnTo>
                <a:lnTo>
                  <a:pt x="925" y="1986"/>
                </a:lnTo>
                <a:lnTo>
                  <a:pt x="931" y="1974"/>
                </a:lnTo>
                <a:lnTo>
                  <a:pt x="943" y="1968"/>
                </a:lnTo>
                <a:lnTo>
                  <a:pt x="949" y="1962"/>
                </a:lnTo>
                <a:lnTo>
                  <a:pt x="955" y="1950"/>
                </a:lnTo>
                <a:lnTo>
                  <a:pt x="961" y="1944"/>
                </a:lnTo>
                <a:lnTo>
                  <a:pt x="967" y="1938"/>
                </a:lnTo>
                <a:lnTo>
                  <a:pt x="973" y="1926"/>
                </a:lnTo>
                <a:lnTo>
                  <a:pt x="979" y="1914"/>
                </a:lnTo>
                <a:lnTo>
                  <a:pt x="991" y="1908"/>
                </a:lnTo>
                <a:lnTo>
                  <a:pt x="997" y="1896"/>
                </a:lnTo>
                <a:lnTo>
                  <a:pt x="1003" y="1884"/>
                </a:lnTo>
                <a:lnTo>
                  <a:pt x="1009" y="1872"/>
                </a:lnTo>
                <a:lnTo>
                  <a:pt x="1015" y="1866"/>
                </a:lnTo>
                <a:lnTo>
                  <a:pt x="1021" y="1854"/>
                </a:lnTo>
                <a:lnTo>
                  <a:pt x="1027" y="1842"/>
                </a:lnTo>
                <a:lnTo>
                  <a:pt x="1039" y="1830"/>
                </a:lnTo>
                <a:lnTo>
                  <a:pt x="1045" y="1818"/>
                </a:lnTo>
                <a:lnTo>
                  <a:pt x="1051" y="1800"/>
                </a:lnTo>
                <a:lnTo>
                  <a:pt x="1057" y="1788"/>
                </a:lnTo>
                <a:lnTo>
                  <a:pt x="1063" y="1776"/>
                </a:lnTo>
                <a:lnTo>
                  <a:pt x="1069" y="1764"/>
                </a:lnTo>
                <a:lnTo>
                  <a:pt x="1075" y="1746"/>
                </a:lnTo>
                <a:lnTo>
                  <a:pt x="1087" y="1734"/>
                </a:lnTo>
                <a:lnTo>
                  <a:pt x="1093" y="1716"/>
                </a:lnTo>
                <a:lnTo>
                  <a:pt x="1099" y="1704"/>
                </a:lnTo>
                <a:lnTo>
                  <a:pt x="1105" y="1686"/>
                </a:lnTo>
                <a:lnTo>
                  <a:pt x="1111" y="1674"/>
                </a:lnTo>
                <a:lnTo>
                  <a:pt x="1117" y="1656"/>
                </a:lnTo>
                <a:lnTo>
                  <a:pt x="1123" y="1638"/>
                </a:lnTo>
                <a:lnTo>
                  <a:pt x="1135" y="1620"/>
                </a:lnTo>
                <a:lnTo>
                  <a:pt x="1141" y="1608"/>
                </a:lnTo>
                <a:lnTo>
                  <a:pt x="1147" y="1590"/>
                </a:lnTo>
                <a:lnTo>
                  <a:pt x="1153" y="1572"/>
                </a:lnTo>
                <a:lnTo>
                  <a:pt x="1159" y="1554"/>
                </a:lnTo>
                <a:lnTo>
                  <a:pt x="1165" y="1536"/>
                </a:lnTo>
                <a:lnTo>
                  <a:pt x="1171" y="1518"/>
                </a:lnTo>
                <a:lnTo>
                  <a:pt x="1183" y="1494"/>
                </a:lnTo>
                <a:lnTo>
                  <a:pt x="1189" y="1476"/>
                </a:lnTo>
                <a:lnTo>
                  <a:pt x="1195" y="1458"/>
                </a:lnTo>
                <a:lnTo>
                  <a:pt x="1201" y="1440"/>
                </a:lnTo>
                <a:lnTo>
                  <a:pt x="1207" y="1416"/>
                </a:lnTo>
                <a:lnTo>
                  <a:pt x="1213" y="1398"/>
                </a:lnTo>
                <a:lnTo>
                  <a:pt x="1219" y="1374"/>
                </a:lnTo>
                <a:lnTo>
                  <a:pt x="1231" y="1356"/>
                </a:lnTo>
                <a:lnTo>
                  <a:pt x="1237" y="1332"/>
                </a:lnTo>
                <a:lnTo>
                  <a:pt x="1243" y="1308"/>
                </a:lnTo>
                <a:lnTo>
                  <a:pt x="1249" y="1290"/>
                </a:lnTo>
                <a:lnTo>
                  <a:pt x="1255" y="1266"/>
                </a:lnTo>
                <a:lnTo>
                  <a:pt x="1261" y="1242"/>
                </a:lnTo>
                <a:lnTo>
                  <a:pt x="1267" y="1218"/>
                </a:lnTo>
                <a:lnTo>
                  <a:pt x="1279" y="1194"/>
                </a:lnTo>
                <a:lnTo>
                  <a:pt x="1285" y="1170"/>
                </a:lnTo>
                <a:lnTo>
                  <a:pt x="1291" y="1146"/>
                </a:lnTo>
                <a:lnTo>
                  <a:pt x="1297" y="1122"/>
                </a:lnTo>
                <a:lnTo>
                  <a:pt x="1303" y="1098"/>
                </a:lnTo>
                <a:lnTo>
                  <a:pt x="1309" y="1074"/>
                </a:lnTo>
                <a:lnTo>
                  <a:pt x="1315" y="1050"/>
                </a:lnTo>
                <a:lnTo>
                  <a:pt x="1327" y="1020"/>
                </a:lnTo>
                <a:lnTo>
                  <a:pt x="1333" y="996"/>
                </a:lnTo>
                <a:lnTo>
                  <a:pt x="1339" y="966"/>
                </a:lnTo>
                <a:lnTo>
                  <a:pt x="1345" y="942"/>
                </a:lnTo>
                <a:lnTo>
                  <a:pt x="1351" y="912"/>
                </a:lnTo>
                <a:lnTo>
                  <a:pt x="1357" y="888"/>
                </a:lnTo>
                <a:lnTo>
                  <a:pt x="1363" y="858"/>
                </a:lnTo>
                <a:lnTo>
                  <a:pt x="1375" y="834"/>
                </a:lnTo>
                <a:lnTo>
                  <a:pt x="1381" y="804"/>
                </a:lnTo>
                <a:lnTo>
                  <a:pt x="1387" y="774"/>
                </a:lnTo>
                <a:lnTo>
                  <a:pt x="1393" y="744"/>
                </a:lnTo>
                <a:lnTo>
                  <a:pt x="1399" y="714"/>
                </a:lnTo>
                <a:lnTo>
                  <a:pt x="1405" y="684"/>
                </a:lnTo>
                <a:lnTo>
                  <a:pt x="1411" y="654"/>
                </a:lnTo>
                <a:lnTo>
                  <a:pt x="1423" y="624"/>
                </a:lnTo>
                <a:lnTo>
                  <a:pt x="1429" y="594"/>
                </a:lnTo>
                <a:lnTo>
                  <a:pt x="1435" y="564"/>
                </a:lnTo>
                <a:lnTo>
                  <a:pt x="1441" y="534"/>
                </a:lnTo>
                <a:lnTo>
                  <a:pt x="1447" y="504"/>
                </a:lnTo>
                <a:lnTo>
                  <a:pt x="1453" y="468"/>
                </a:lnTo>
                <a:lnTo>
                  <a:pt x="1459" y="438"/>
                </a:lnTo>
                <a:lnTo>
                  <a:pt x="1471" y="402"/>
                </a:lnTo>
                <a:lnTo>
                  <a:pt x="1477" y="372"/>
                </a:lnTo>
                <a:lnTo>
                  <a:pt x="1483" y="336"/>
                </a:lnTo>
                <a:lnTo>
                  <a:pt x="1489" y="306"/>
                </a:lnTo>
                <a:lnTo>
                  <a:pt x="1495" y="270"/>
                </a:lnTo>
                <a:lnTo>
                  <a:pt x="1501" y="234"/>
                </a:lnTo>
                <a:lnTo>
                  <a:pt x="1507" y="204"/>
                </a:lnTo>
                <a:lnTo>
                  <a:pt x="1519" y="168"/>
                </a:lnTo>
                <a:lnTo>
                  <a:pt x="1525" y="132"/>
                </a:lnTo>
                <a:lnTo>
                  <a:pt x="1531" y="96"/>
                </a:lnTo>
                <a:lnTo>
                  <a:pt x="1537" y="60"/>
                </a:lnTo>
                <a:lnTo>
                  <a:pt x="1543" y="24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7" name="Object 89"/>
              <p:cNvSpPr txBox="1"/>
              <p:nvPr/>
            </p:nvSpPr>
            <p:spPr>
              <a:xfrm>
                <a:off x="4076640" y="906480"/>
                <a:ext cx="18637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58" name="Group 102"/>
          <p:cNvGrpSpPr/>
          <p:nvPr/>
        </p:nvGrpSpPr>
        <p:grpSpPr>
          <a:xfrm>
            <a:off x="6227640" y="1557360"/>
            <a:ext cx="2916360" cy="4970160"/>
            <a:chOff x="6227640" y="1557360"/>
            <a:chExt cx="2916360" cy="4970160"/>
          </a:xfrm>
        </p:grpSpPr>
        <p:sp>
          <p:nvSpPr>
            <p:cNvPr id="3659" name="Text Box 90"/>
            <p:cNvSpPr/>
            <p:nvPr/>
          </p:nvSpPr>
          <p:spPr>
            <a:xfrm>
              <a:off x="6227640" y="1557360"/>
              <a:ext cx="2916360" cy="4970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问题：</a:t>
              </a: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看图像说说抛物线</a:t>
              </a: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增减性。</a:t>
              </a: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怎样平移抛物线</a:t>
              </a: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可以得到抛物线        </a:t>
              </a: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？</a:t>
              </a: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660" name="Group 101"/>
            <p:cNvGrpSpPr/>
            <p:nvPr/>
          </p:nvGrpSpPr>
          <p:grpSpPr>
            <a:xfrm>
              <a:off x="6372360" y="2492280"/>
              <a:ext cx="2592360" cy="3625920"/>
              <a:chOff x="6372360" y="2492280"/>
              <a:chExt cx="2592360" cy="3625920"/>
            </a:xfrm>
          </p:grpSpPr>
          <mc:AlternateContent>
            <mc:Choice xmlns:a14="http://schemas.microsoft.com/office/drawing/2010/main" Requires="a14">
              <p:sp>
                <p:nvSpPr>
                  <p:cNvPr id="3661" name="Object 92"/>
                  <p:cNvSpPr txBox="1"/>
                  <p:nvPr/>
                </p:nvSpPr>
                <p:spPr>
                  <a:xfrm>
                    <a:off x="6588000" y="2492280"/>
                    <a:ext cx="2376720" cy="817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662" name="Object 93"/>
                  <p:cNvSpPr txBox="1"/>
                  <p:nvPr/>
                </p:nvSpPr>
                <p:spPr>
                  <a:xfrm>
                    <a:off x="6372360" y="5300640"/>
                    <a:ext cx="2376360" cy="817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663" name="Object 99"/>
                  <p:cNvSpPr txBox="1"/>
                  <p:nvPr/>
                </p:nvSpPr>
                <p:spPr>
                  <a:xfrm>
                    <a:off x="7020000" y="4149720"/>
                    <a:ext cx="1150920" cy="817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2000"/>
                                        <p:tgtEl>
                                          <p:spTgt spid="3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3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3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22222E-006 L 0.22847 2.22222E-006 E">
                                      <p:cBhvr>
                                        <p:cTn id="346" dur="2000" fill="hold"/>
                                        <p:tgtEl>
                                          <p:spTgt spid="3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9" dur="500"/>
                                        <p:tgtEl>
                                          <p:spTgt spid="3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1.11111E-006 L 0.00017 -0.12593 E">
                                      <p:cBhvr>
                                        <p:cTn id="355" dur="2000" fill="hold"/>
                                        <p:tgtEl>
                                          <p:spTgt spid="3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4" name="Picture 12" descr="u=111629297,836824017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5" name="Text Box 3"/>
          <p:cNvSpPr/>
          <p:nvPr/>
        </p:nvSpPr>
        <p:spPr>
          <a:xfrm>
            <a:off x="811080" y="870120"/>
            <a:ext cx="640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11111"/>
                </a:solidFill>
                <a:latin typeface="Times New Roman"/>
                <a:ea typeface="楷体_GB2312"/>
              </a:rPr>
              <a:t>二次函数 </a:t>
            </a:r>
            <a:r>
              <a:rPr b="1" lang="zh-CN" sz="4000" spc="-1" strike="noStrike">
                <a:solidFill>
                  <a:srgbClr val="111111"/>
                </a:solidFill>
                <a:latin typeface="Times New Roman"/>
                <a:ea typeface="楷体_GB2312"/>
              </a:rPr>
              <a:t>y= —x </a:t>
            </a:r>
            <a:r>
              <a:rPr b="1" lang="zh-CN" sz="4000" spc="-1" strike="noStrike">
                <a:solidFill>
                  <a:srgbClr val="111111"/>
                </a:solidFill>
                <a:latin typeface="Times New Roman"/>
              </a:rPr>
              <a:t>－</a:t>
            </a:r>
            <a:r>
              <a:rPr b="1" lang="zh-CN" sz="4000" spc="-1" strike="noStrike">
                <a:solidFill>
                  <a:srgbClr val="111111"/>
                </a:solidFill>
                <a:latin typeface="Times New Roman"/>
                <a:ea typeface="楷体_GB2312"/>
              </a:rPr>
              <a:t>6x +21</a:t>
            </a:r>
            <a:r>
              <a:rPr b="1" lang="zh-CN" sz="4000" spc="-1" strike="noStrike">
                <a:solidFill>
                  <a:srgbClr val="111111"/>
                </a:solidFill>
                <a:latin typeface="Times New Roman"/>
                <a:ea typeface="楷体_GB2312"/>
              </a:rPr>
              <a:t>图象的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11111"/>
                </a:solidFill>
                <a:latin typeface="Times New Roman"/>
                <a:ea typeface="楷体_GB2312"/>
              </a:rPr>
              <a:t>画法</a:t>
            </a: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：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66" name="Text Box 4"/>
          <p:cNvSpPr/>
          <p:nvPr/>
        </p:nvSpPr>
        <p:spPr>
          <a:xfrm>
            <a:off x="837000" y="2400480"/>
            <a:ext cx="450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(1)“</a:t>
            </a: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化” ：化成顶点式 ；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67" name="Text Box 5"/>
          <p:cNvSpPr/>
          <p:nvPr/>
        </p:nvSpPr>
        <p:spPr>
          <a:xfrm>
            <a:off x="3573360" y="3357720"/>
            <a:ext cx="192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(2)“</a:t>
            </a: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定”：确定开口方向、对称轴、顶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点坐标；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68" name="Text Box 6"/>
          <p:cNvSpPr/>
          <p:nvPr/>
        </p:nvSpPr>
        <p:spPr>
          <a:xfrm>
            <a:off x="2756160" y="4724280"/>
            <a:ext cx="216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(3)“</a:t>
            </a: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画”：列表、描点、连线。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69" name="Text Box 7"/>
          <p:cNvSpPr/>
          <p:nvPr/>
        </p:nvSpPr>
        <p:spPr>
          <a:xfrm>
            <a:off x="3276720" y="119700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70" name="Text Box 8"/>
          <p:cNvSpPr/>
          <p:nvPr/>
        </p:nvSpPr>
        <p:spPr>
          <a:xfrm>
            <a:off x="3203640" y="549360"/>
            <a:ext cx="65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2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71" name="Text Box 9"/>
          <p:cNvSpPr/>
          <p:nvPr/>
        </p:nvSpPr>
        <p:spPr>
          <a:xfrm>
            <a:off x="3924360" y="90792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72" name="AutoShape 10"/>
          <p:cNvSpPr/>
          <p:nvPr/>
        </p:nvSpPr>
        <p:spPr>
          <a:xfrm>
            <a:off x="250920" y="189000"/>
            <a:ext cx="1800000" cy="576000"/>
          </a:xfrm>
          <a:prstGeom prst="flowChartAlternateProcess">
            <a:avLst/>
          </a:prstGeom>
          <a:gradFill rotWithShape="0">
            <a:gsLst>
              <a:gs pos="0">
                <a:srgbClr val="00cc00"/>
              </a:gs>
              <a:gs pos="50000">
                <a:srgbClr val="e7fae7"/>
              </a:gs>
              <a:gs pos="100000">
                <a:srgbClr val="00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73" name="WordArt 11"/>
          <p:cNvSpPr txBox="1"/>
          <p:nvPr/>
        </p:nvSpPr>
        <p:spPr>
          <a:xfrm>
            <a:off x="324000" y="333360"/>
            <a:ext cx="158400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归纳：</a:t>
            </a:r>
            <a:endParaRPr b="1" lang="en-US" sz="9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l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3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4" name="Picture 17" descr="u=111629297,836824017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5" name="Rectangle 2"/>
          <p:cNvSpPr/>
          <p:nvPr/>
        </p:nvSpPr>
        <p:spPr>
          <a:xfrm>
            <a:off x="1187280" y="1844640"/>
            <a:ext cx="774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²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+bx+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称轴和顶点坐标．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黑体"/>
              </a:rPr>
              <a:t>函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黑体"/>
              </a:rPr>
              <a:t>y=ax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Tahoma"/>
              </a:rPr>
              <a:t>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ahoma"/>
              </a:rPr>
              <a:t>+bx+c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黑体"/>
              </a:rPr>
              <a:t>的顶点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7" name="Picture 4" descr="Q_011"/>
          <p:cNvPicPr/>
          <p:nvPr/>
        </p:nvPicPr>
        <p:blipFill>
          <a:blip r:embed="rId2"/>
          <a:stretch/>
        </p:blipFill>
        <p:spPr>
          <a:xfrm>
            <a:off x="7236000" y="1268280"/>
            <a:ext cx="522000" cy="609840"/>
          </a:xfrm>
          <a:prstGeom prst="rect">
            <a:avLst/>
          </a:prstGeom>
          <a:ln w="0">
            <a:noFill/>
          </a:ln>
        </p:spPr>
      </p:pic>
      <p:sp>
        <p:nvSpPr>
          <p:cNvPr id="3678" name="Rectangle 5"/>
          <p:cNvSpPr/>
          <p:nvPr/>
        </p:nvSpPr>
        <p:spPr>
          <a:xfrm>
            <a:off x="250920" y="2637000"/>
            <a:ext cx="15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配方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9" name="Object 6"/>
              <p:cNvSpPr txBox="1"/>
              <p:nvPr/>
            </p:nvSpPr>
            <p:spPr>
              <a:xfrm>
                <a:off x="2771640" y="2276640"/>
                <a:ext cx="2438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0" name="Object 7"/>
              <p:cNvSpPr txBox="1"/>
              <p:nvPr/>
            </p:nvSpPr>
            <p:spPr>
              <a:xfrm>
                <a:off x="2987640" y="2997360"/>
                <a:ext cx="27194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1" name="Text Box 8"/>
          <p:cNvSpPr/>
          <p:nvPr/>
        </p:nvSpPr>
        <p:spPr>
          <a:xfrm>
            <a:off x="6443640" y="306864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ahoma"/>
              </a:rPr>
              <a:t>提取二次项系数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2" name="Object 9"/>
              <p:cNvSpPr txBox="1"/>
              <p:nvPr/>
            </p:nvSpPr>
            <p:spPr>
              <a:xfrm>
                <a:off x="2916360" y="3860640"/>
                <a:ext cx="456084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x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bar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3" name="Text Box 10"/>
          <p:cNvSpPr/>
          <p:nvPr/>
        </p:nvSpPr>
        <p:spPr>
          <a:xfrm>
            <a:off x="7315200" y="38862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ahoma"/>
              </a:rPr>
              <a:t>配方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:</a:t>
            </a:r>
            <a:r>
              <a:rPr b="1" lang="zh-CN" sz="2000" spc="-1" strike="noStrike">
                <a:solidFill>
                  <a:srgbClr val="402000"/>
                </a:solidFill>
                <a:latin typeface="Tahoma"/>
              </a:rPr>
              <a:t>加上再减去一次项系数绝对值一半的平方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4" name="Object 11"/>
              <p:cNvSpPr txBox="1"/>
              <p:nvPr/>
            </p:nvSpPr>
            <p:spPr>
              <a:xfrm>
                <a:off x="2987640" y="4869000"/>
                <a:ext cx="3352680" cy="10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5" name="Text Box 12"/>
          <p:cNvSpPr/>
          <p:nvPr/>
        </p:nvSpPr>
        <p:spPr>
          <a:xfrm>
            <a:off x="6248520" y="5229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ahoma"/>
              </a:rPr>
              <a:t>整理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:</a:t>
            </a:r>
            <a:r>
              <a:rPr b="1" lang="zh-CN" sz="2000" spc="-1" strike="noStrike">
                <a:solidFill>
                  <a:srgbClr val="402000"/>
                </a:solidFill>
                <a:latin typeface="Tahoma"/>
              </a:rPr>
              <a:t>前三项化为平方形式</a:t>
            </a:r>
            <a:r>
              <a:rPr b="1" lang="en-US" sz="2000" spc="-1" strike="noStrike">
                <a:solidFill>
                  <a:srgbClr val="402000"/>
                </a:solidFill>
                <a:latin typeface="Tahoma"/>
              </a:rPr>
              <a:t>,</a:t>
            </a:r>
            <a:r>
              <a:rPr b="1" lang="zh-CN" sz="2000" spc="-1" strike="noStrike">
                <a:solidFill>
                  <a:srgbClr val="402000"/>
                </a:solidFill>
                <a:latin typeface="Tahoma"/>
              </a:rPr>
              <a:t>后两项合并同类项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6" name="Object 13"/>
              <p:cNvSpPr txBox="1"/>
              <p:nvPr/>
            </p:nvSpPr>
            <p:spPr>
              <a:xfrm>
                <a:off x="2987640" y="5931000"/>
                <a:ext cx="30844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7" name="Text Box 14"/>
          <p:cNvSpPr/>
          <p:nvPr/>
        </p:nvSpPr>
        <p:spPr>
          <a:xfrm>
            <a:off x="6114960" y="6237360"/>
            <a:ext cx="30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ahoma"/>
              </a:rPr>
              <a:t>化简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:</a:t>
            </a:r>
            <a:r>
              <a:rPr b="1" lang="zh-CN" sz="2000" spc="-1" strike="noStrike">
                <a:solidFill>
                  <a:srgbClr val="402000"/>
                </a:solidFill>
                <a:latin typeface="Tahoma"/>
              </a:rPr>
              <a:t>去掉中括号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88" name="Text Box 15"/>
          <p:cNvSpPr/>
          <p:nvPr/>
        </p:nvSpPr>
        <p:spPr>
          <a:xfrm>
            <a:off x="152280" y="4876920"/>
            <a:ext cx="2362320" cy="12520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ahoma"/>
              </a:rPr>
              <a:t>这个结果通常称为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ahoma"/>
              </a:rPr>
              <a:t>顶点坐标公式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graphicFrame>
        <p:nvGraphicFramePr>
          <p:cNvPr id="3689" name="Object 16"/>
          <p:cNvGraphicFramePr/>
          <p:nvPr/>
        </p:nvGraphicFramePr>
        <p:xfrm>
          <a:off x="3151080" y="106200"/>
          <a:ext cx="5046840" cy="103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1080" y="106200"/>
                    <a:ext cx="504684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1" name="AutoShape 18"/>
          <p:cNvSpPr/>
          <p:nvPr/>
        </p:nvSpPr>
        <p:spPr>
          <a:xfrm>
            <a:off x="250920" y="333360"/>
            <a:ext cx="1800000" cy="576360"/>
          </a:xfrm>
          <a:prstGeom prst="flowChartAlternateProcess">
            <a:avLst/>
          </a:prstGeom>
          <a:gradFill rotWithShape="0">
            <a:gsLst>
              <a:gs pos="0">
                <a:srgbClr val="00cc00"/>
              </a:gs>
              <a:gs pos="50000">
                <a:srgbClr val="e7fae7"/>
              </a:gs>
              <a:gs pos="100000">
                <a:srgbClr val="00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92" name="WordArt 19"/>
          <p:cNvSpPr txBox="1"/>
          <p:nvPr/>
        </p:nvSpPr>
        <p:spPr>
          <a:xfrm>
            <a:off x="395280" y="404640"/>
            <a:ext cx="144000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问题：</a:t>
            </a:r>
            <a:endParaRPr b="1" lang="en-US" sz="9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3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3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3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3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3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3952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13744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般地，我们可以用配方法将                      配方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5" name="Object 10"/>
              <p:cNvSpPr txBox="1"/>
              <p:nvPr/>
            </p:nvSpPr>
            <p:spPr>
              <a:xfrm>
                <a:off x="324000" y="1700280"/>
                <a:ext cx="85327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9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8" name="Object 6"/>
              <p:cNvSpPr txBox="1"/>
              <p:nvPr/>
            </p:nvSpPr>
            <p:spPr>
              <a:xfrm>
                <a:off x="5003640" y="1284120"/>
                <a:ext cx="18720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9" name="Text Box 9"/>
          <p:cNvSpPr/>
          <p:nvPr/>
        </p:nvSpPr>
        <p:spPr>
          <a:xfrm>
            <a:off x="1166760" y="2570040"/>
            <a:ext cx="27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00" name="Text Box 12"/>
          <p:cNvSpPr/>
          <p:nvPr/>
        </p:nvSpPr>
        <p:spPr>
          <a:xfrm>
            <a:off x="250920" y="2997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由此可见函数的图像与函数的图像的形状、开口方向均相同，只是位置不同，可以通过平移得到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3701" name="Group 31"/>
          <p:cNvGrpSpPr/>
          <p:nvPr/>
        </p:nvGrpSpPr>
        <p:grpSpPr>
          <a:xfrm>
            <a:off x="1308240" y="3716280"/>
            <a:ext cx="5355720" cy="733320"/>
            <a:chOff x="1308240" y="3716280"/>
            <a:chExt cx="5355720" cy="733320"/>
          </a:xfrm>
        </p:grpSpPr>
        <p:sp>
          <p:nvSpPr>
            <p:cNvPr id="3702" name="Text Box 13"/>
            <p:cNvSpPr/>
            <p:nvPr/>
          </p:nvSpPr>
          <p:spPr>
            <a:xfrm>
              <a:off x="1308240" y="3807000"/>
              <a:ext cx="535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﹙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﹚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二次函数       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 a≠0)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的图象是一条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；</a:t>
              </a: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03" name="Object 14"/>
                <p:cNvSpPr txBox="1"/>
                <p:nvPr/>
              </p:nvSpPr>
              <p:spPr>
                <a:xfrm>
                  <a:off x="2050920" y="3716280"/>
                  <a:ext cx="165600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04" name="Text Box 16"/>
          <p:cNvSpPr/>
          <p:nvPr/>
        </p:nvSpPr>
        <p:spPr>
          <a:xfrm>
            <a:off x="395280" y="43657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称轴是直线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； 顶点坐标是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                             )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05" name="Text Box 20"/>
          <p:cNvSpPr/>
          <p:nvPr/>
        </p:nvSpPr>
        <p:spPr>
          <a:xfrm>
            <a:off x="6294960" y="3716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抛物线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06" name="Text Box 21"/>
          <p:cNvSpPr/>
          <p:nvPr/>
        </p:nvSpPr>
        <p:spPr>
          <a:xfrm>
            <a:off x="2411280" y="436572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=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7" name="Object 22"/>
              <p:cNvSpPr txBox="1"/>
              <p:nvPr/>
            </p:nvSpPr>
            <p:spPr>
              <a:xfrm>
                <a:off x="2771640" y="4221000"/>
                <a:ext cx="631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8" name="Text Box 23"/>
          <p:cNvSpPr/>
          <p:nvPr/>
        </p:nvSpPr>
        <p:spPr>
          <a:xfrm>
            <a:off x="5056200" y="437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9" name="Object 32"/>
              <p:cNvSpPr txBox="1"/>
              <p:nvPr/>
            </p:nvSpPr>
            <p:spPr>
              <a:xfrm>
                <a:off x="5292720" y="4149720"/>
                <a:ext cx="1655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710" name="Picture 33" descr="444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3711" name="Text Box 34"/>
          <p:cNvSpPr/>
          <p:nvPr/>
        </p:nvSpPr>
        <p:spPr>
          <a:xfrm>
            <a:off x="5362560" y="115920"/>
            <a:ext cx="36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6.1.3.1 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二次函数                            的图像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12" name="Text Box 35"/>
          <p:cNvSpPr/>
          <p:nvPr/>
        </p:nvSpPr>
        <p:spPr>
          <a:xfrm>
            <a:off x="0" y="189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教版九年级下册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次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3" name="Object 36"/>
              <p:cNvSpPr txBox="1"/>
              <p:nvPr/>
            </p:nvSpPr>
            <p:spPr>
              <a:xfrm>
                <a:off x="6875640" y="260280"/>
                <a:ext cx="13683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3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3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3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3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3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Text Box 2"/>
          <p:cNvSpPr/>
          <p:nvPr/>
        </p:nvSpPr>
        <p:spPr>
          <a:xfrm>
            <a:off x="934920" y="18576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二次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函数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y=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+bx+c(a≠0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图象和性质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15" name="Text Box 3"/>
          <p:cNvSpPr/>
          <p:nvPr/>
        </p:nvSpPr>
        <p:spPr>
          <a:xfrm>
            <a:off x="407880" y="884160"/>
            <a:ext cx="20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顶点坐标与对称轴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16" name="Text Box 4"/>
          <p:cNvSpPr/>
          <p:nvPr/>
        </p:nvSpPr>
        <p:spPr>
          <a:xfrm>
            <a:off x="346320" y="13161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置与开口方向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17" name="Text Box 5"/>
          <p:cNvSpPr/>
          <p:nvPr/>
        </p:nvSpPr>
        <p:spPr>
          <a:xfrm>
            <a:off x="283680" y="174780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增减性与最值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graphicFrame>
        <p:nvGraphicFramePr>
          <p:cNvPr id="3718" name=""/>
          <p:cNvGraphicFramePr/>
          <p:nvPr/>
        </p:nvGraphicFramePr>
        <p:xfrm>
          <a:off x="131760" y="2781360"/>
          <a:ext cx="8859960" cy="3886200"/>
        </p:xfrm>
        <a:graphic>
          <a:graphicData uri="http://schemas.openxmlformats.org/drawingml/2006/table">
            <a:tbl>
              <a:tblPr/>
              <a:tblGrid>
                <a:gridCol w="1428840"/>
                <a:gridCol w="3678120"/>
                <a:gridCol w="3753000"/>
              </a:tblGrid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9" name="Text Box 40"/>
          <p:cNvSpPr/>
          <p:nvPr/>
        </p:nvSpPr>
        <p:spPr>
          <a:xfrm>
            <a:off x="282600" y="282888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20" name="Text Box 41"/>
          <p:cNvSpPr/>
          <p:nvPr/>
        </p:nvSpPr>
        <p:spPr>
          <a:xfrm>
            <a:off x="120600" y="338292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顶点坐标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21" name="Text Box 42"/>
          <p:cNvSpPr/>
          <p:nvPr/>
        </p:nvSpPr>
        <p:spPr>
          <a:xfrm>
            <a:off x="282600" y="391644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称轴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22" name="Text Box 43"/>
          <p:cNvSpPr/>
          <p:nvPr/>
        </p:nvSpPr>
        <p:spPr>
          <a:xfrm>
            <a:off x="501480" y="444960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23" name="Text Box 44"/>
          <p:cNvSpPr/>
          <p:nvPr/>
        </p:nvSpPr>
        <p:spPr>
          <a:xfrm>
            <a:off x="152280" y="498312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口方向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24" name="Text Box 45"/>
          <p:cNvSpPr/>
          <p:nvPr/>
        </p:nvSpPr>
        <p:spPr>
          <a:xfrm>
            <a:off x="304920" y="5572080"/>
            <a:ext cx="13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增减性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25" name="Text Box 46"/>
          <p:cNvSpPr/>
          <p:nvPr/>
        </p:nvSpPr>
        <p:spPr>
          <a:xfrm>
            <a:off x="457200" y="612612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值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26" name="Text Box 47"/>
          <p:cNvSpPr/>
          <p:nvPr/>
        </p:nvSpPr>
        <p:spPr>
          <a:xfrm>
            <a:off x="1896840" y="2836800"/>
            <a:ext cx="29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y=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+bx+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a&gt;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27" name="Text Box 48"/>
          <p:cNvSpPr/>
          <p:nvPr/>
        </p:nvSpPr>
        <p:spPr>
          <a:xfrm>
            <a:off x="5635440" y="2781360"/>
            <a:ext cx="29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y=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+bx+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a&lt;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28" name="Text Box 49"/>
          <p:cNvSpPr/>
          <p:nvPr/>
        </p:nvSpPr>
        <p:spPr>
          <a:xfrm>
            <a:off x="1981080" y="4505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符号确定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29" name="Text Box 50"/>
          <p:cNvSpPr/>
          <p:nvPr/>
        </p:nvSpPr>
        <p:spPr>
          <a:xfrm>
            <a:off x="6147360" y="4489560"/>
            <a:ext cx="19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符号确定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30" name="Text Box 51"/>
          <p:cNvSpPr/>
          <p:nvPr/>
        </p:nvSpPr>
        <p:spPr>
          <a:xfrm>
            <a:off x="2868480" y="4962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上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31" name="Text Box 52"/>
          <p:cNvSpPr/>
          <p:nvPr/>
        </p:nvSpPr>
        <p:spPr>
          <a:xfrm>
            <a:off x="6449760" y="4962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下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32" name="Text Box 53"/>
          <p:cNvSpPr/>
          <p:nvPr/>
        </p:nvSpPr>
        <p:spPr>
          <a:xfrm>
            <a:off x="1600200" y="549576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在对称轴的左侧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的增大而减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在对称轴的右侧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的增大而增大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33" name="Text Box 54"/>
          <p:cNvSpPr/>
          <p:nvPr/>
        </p:nvSpPr>
        <p:spPr>
          <a:xfrm>
            <a:off x="5257800" y="549576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在对称轴的左侧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的增大而增大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在对称轴的右侧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的增大而减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34" name="Text Box 55"/>
          <p:cNvSpPr/>
          <p:nvPr/>
        </p:nvSpPr>
        <p:spPr>
          <a:xfrm>
            <a:off x="0" y="2251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图形填表：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5" name="Object 60"/>
              <p:cNvSpPr txBox="1"/>
              <p:nvPr/>
            </p:nvSpPr>
            <p:spPr>
              <a:xfrm>
                <a:off x="2438280" y="3286080"/>
                <a:ext cx="16542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6" name="Object 61"/>
              <p:cNvSpPr txBox="1"/>
              <p:nvPr/>
            </p:nvSpPr>
            <p:spPr>
              <a:xfrm>
                <a:off x="6118200" y="3286080"/>
                <a:ext cx="16542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7" name="Object 62"/>
              <p:cNvSpPr txBox="1"/>
              <p:nvPr/>
            </p:nvSpPr>
            <p:spPr>
              <a:xfrm>
                <a:off x="2603520" y="3900600"/>
                <a:ext cx="13222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直线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8" name="Object 63"/>
              <p:cNvSpPr txBox="1"/>
              <p:nvPr/>
            </p:nvSpPr>
            <p:spPr>
              <a:xfrm>
                <a:off x="6373800" y="3895560"/>
                <a:ext cx="13222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直线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9" name="Object 64"/>
              <p:cNvSpPr txBox="1"/>
              <p:nvPr/>
            </p:nvSpPr>
            <p:spPr>
              <a:xfrm>
                <a:off x="1852560" y="6086520"/>
                <a:ext cx="31305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时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最小值为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0" name="Object 65"/>
              <p:cNvSpPr txBox="1"/>
              <p:nvPr/>
            </p:nvSpPr>
            <p:spPr>
              <a:xfrm>
                <a:off x="5327640" y="6070680"/>
                <a:ext cx="31305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时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最大值为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41" name="Line 6"/>
          <p:cNvSpPr/>
          <p:nvPr/>
        </p:nvSpPr>
        <p:spPr>
          <a:xfrm>
            <a:off x="3995640" y="2506680"/>
            <a:ext cx="2303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42" name="Line 7"/>
          <p:cNvSpPr/>
          <p:nvPr/>
        </p:nvSpPr>
        <p:spPr>
          <a:xfrm flipV="1">
            <a:off x="4498920" y="907560"/>
            <a:ext cx="0" cy="25923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43" name="Line 8"/>
          <p:cNvSpPr/>
          <p:nvPr/>
        </p:nvSpPr>
        <p:spPr>
          <a:xfrm>
            <a:off x="4930920" y="901800"/>
            <a:ext cx="0" cy="256680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44" name="未知"/>
          <p:cNvSpPr/>
          <p:nvPr/>
        </p:nvSpPr>
        <p:spPr>
          <a:xfrm>
            <a:off x="4140360" y="765000"/>
            <a:ext cx="1800000" cy="1944720"/>
          </a:xfrm>
          <a:custGeom>
            <a:avLst/>
            <a:gdLst/>
            <a:ahLst/>
            <a:rect l="l" t="t" r="r" b="b"/>
            <a:pathLst>
              <a:path w="1034" h="585">
                <a:moveTo>
                  <a:pt x="0" y="18"/>
                </a:moveTo>
                <a:cubicBezTo>
                  <a:pt x="80" y="114"/>
                  <a:pt x="308" y="585"/>
                  <a:pt x="480" y="582"/>
                </a:cubicBezTo>
                <a:cubicBezTo>
                  <a:pt x="652" y="579"/>
                  <a:pt x="919" y="121"/>
                  <a:pt x="1034" y="0"/>
                </a:cubicBez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45" name="Line 10"/>
          <p:cNvSpPr/>
          <p:nvPr/>
        </p:nvSpPr>
        <p:spPr>
          <a:xfrm>
            <a:off x="6805440" y="1266840"/>
            <a:ext cx="2303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46" name="Line 11"/>
          <p:cNvSpPr/>
          <p:nvPr/>
        </p:nvSpPr>
        <p:spPr>
          <a:xfrm flipV="1">
            <a:off x="7308720" y="482400"/>
            <a:ext cx="0" cy="25923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47" name="Line 12"/>
          <p:cNvSpPr/>
          <p:nvPr/>
        </p:nvSpPr>
        <p:spPr>
          <a:xfrm>
            <a:off x="7956720" y="476280"/>
            <a:ext cx="0" cy="256680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48" name="未知"/>
          <p:cNvSpPr/>
          <p:nvPr/>
        </p:nvSpPr>
        <p:spPr>
          <a:xfrm flipV="1">
            <a:off x="7113600" y="907560"/>
            <a:ext cx="1779480" cy="1494000"/>
          </a:xfrm>
          <a:custGeom>
            <a:avLst/>
            <a:gdLst/>
            <a:ahLst/>
            <a:rect l="l" t="t" r="r" b="b"/>
            <a:pathLst>
              <a:path w="1034" h="585">
                <a:moveTo>
                  <a:pt x="0" y="18"/>
                </a:moveTo>
                <a:cubicBezTo>
                  <a:pt x="80" y="114"/>
                  <a:pt x="308" y="585"/>
                  <a:pt x="480" y="582"/>
                </a:cubicBezTo>
                <a:cubicBezTo>
                  <a:pt x="652" y="579"/>
                  <a:pt x="919" y="121"/>
                  <a:pt x="1034" y="0"/>
                </a:cubicBez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3749" name="未知" descr=""/>
          <p:cNvPicPr/>
          <p:nvPr/>
        </p:nvPicPr>
        <p:blipFill>
          <a:blip r:embed="rId1"/>
          <a:stretch/>
        </p:blipFill>
        <p:spPr>
          <a:xfrm>
            <a:off x="4452840" y="1908000"/>
            <a:ext cx="96840" cy="43200"/>
          </a:xfrm>
          <a:prstGeom prst="rect">
            <a:avLst/>
          </a:prstGeom>
          <a:ln w="0">
            <a:noFill/>
          </a:ln>
        </p:spPr>
      </p:pic>
      <p:pic>
        <p:nvPicPr>
          <p:cNvPr id="3750" name="未知" descr=""/>
          <p:cNvPicPr/>
          <p:nvPr/>
        </p:nvPicPr>
        <p:blipFill>
          <a:blip r:embed="rId2"/>
          <a:stretch/>
        </p:blipFill>
        <p:spPr>
          <a:xfrm>
            <a:off x="7256520" y="2479680"/>
            <a:ext cx="128520" cy="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500"/>
                                        <p:tgtEl>
                                          <p:spTgt spid="3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4" dur="500"/>
                                        <p:tgtEl>
                                          <p:spTgt spid="3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Text Box 2"/>
          <p:cNvSpPr/>
          <p:nvPr/>
        </p:nvSpPr>
        <p:spPr>
          <a:xfrm>
            <a:off x="324000" y="83664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写出下列抛物线的开口方向、对称轴及顶点坐标．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何值时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值最小（大）？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2" name="Object 3"/>
              <p:cNvSpPr txBox="1"/>
              <p:nvPr/>
            </p:nvSpPr>
            <p:spPr>
              <a:xfrm>
                <a:off x="2077920" y="1557360"/>
                <a:ext cx="15843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3" name="Object 4"/>
              <p:cNvSpPr txBox="1"/>
              <p:nvPr/>
            </p:nvSpPr>
            <p:spPr>
              <a:xfrm>
                <a:off x="5246640" y="1413000"/>
                <a:ext cx="1943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4" name="Object 5"/>
              <p:cNvSpPr txBox="1"/>
              <p:nvPr/>
            </p:nvSpPr>
            <p:spPr>
              <a:xfrm>
                <a:off x="2008080" y="2243160"/>
                <a:ext cx="2087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5" name="Object 6"/>
              <p:cNvSpPr txBox="1"/>
              <p:nvPr/>
            </p:nvSpPr>
            <p:spPr>
              <a:xfrm>
                <a:off x="5246640" y="2060640"/>
                <a:ext cx="18734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6" name="Rectangle 7"/>
          <p:cNvSpPr/>
          <p:nvPr/>
        </p:nvSpPr>
        <p:spPr>
          <a:xfrm>
            <a:off x="4541760" y="2260440"/>
            <a:ext cx="10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57" name="Rectangle 8"/>
          <p:cNvSpPr/>
          <p:nvPr/>
        </p:nvSpPr>
        <p:spPr>
          <a:xfrm>
            <a:off x="1332000" y="22892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58" name="Rectangle 9"/>
          <p:cNvSpPr/>
          <p:nvPr/>
        </p:nvSpPr>
        <p:spPr>
          <a:xfrm>
            <a:off x="4527720" y="155736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59" name="Rectangle 10"/>
          <p:cNvSpPr/>
          <p:nvPr/>
        </p:nvSpPr>
        <p:spPr>
          <a:xfrm>
            <a:off x="1332000" y="162864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60" name="Rectangle 11"/>
          <p:cNvSpPr/>
          <p:nvPr/>
        </p:nvSpPr>
        <p:spPr>
          <a:xfrm>
            <a:off x="539640" y="189000"/>
            <a:ext cx="27385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61" name="Text Box 12"/>
          <p:cNvSpPr/>
          <p:nvPr/>
        </p:nvSpPr>
        <p:spPr>
          <a:xfrm>
            <a:off x="250920" y="292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(1)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&gt; 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抛物线开口向上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graphicFrame>
        <p:nvGraphicFramePr>
          <p:cNvPr id="3762" name="Object 13"/>
          <p:cNvGraphicFramePr/>
          <p:nvPr/>
        </p:nvGraphicFramePr>
        <p:xfrm>
          <a:off x="1042920" y="3429000"/>
          <a:ext cx="2303640" cy="81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3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3429000"/>
                    <a:ext cx="230364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4" name="Object 14"/>
          <p:cNvGraphicFramePr/>
          <p:nvPr/>
        </p:nvGraphicFramePr>
        <p:xfrm>
          <a:off x="3884760" y="3403440"/>
          <a:ext cx="2093760" cy="86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65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4760" y="3403440"/>
                    <a:ext cx="20937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6" name="Object 15"/>
          <p:cNvGraphicFramePr/>
          <p:nvPr/>
        </p:nvGraphicFramePr>
        <p:xfrm>
          <a:off x="826920" y="4365720"/>
          <a:ext cx="3384720" cy="94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67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4365720"/>
                    <a:ext cx="33847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8" name="Object 16"/>
          <p:cNvGraphicFramePr/>
          <p:nvPr/>
        </p:nvGraphicFramePr>
        <p:xfrm>
          <a:off x="1042920" y="5157720"/>
          <a:ext cx="2303640" cy="978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69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5157720"/>
                    <a:ext cx="230364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0" name="Object 17"/>
          <p:cNvGraphicFramePr/>
          <p:nvPr/>
        </p:nvGraphicFramePr>
        <p:xfrm>
          <a:off x="971640" y="5975280"/>
          <a:ext cx="3529080" cy="882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771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71640" y="5975280"/>
                    <a:ext cx="35290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1" dur="500"/>
                                        <p:tgtEl>
                                          <p:spTgt spid="3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4" dur="500"/>
                                        <p:tgtEl>
                                          <p:spTgt spid="3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3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0" dur="500"/>
                                        <p:tgtEl>
                                          <p:spTgt spid="3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3" dur="500"/>
                                        <p:tgtEl>
                                          <p:spTgt spid="3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6" dur="500"/>
                                        <p:tgtEl>
                                          <p:spTgt spid="3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9" dur="500"/>
                                        <p:tgtEl>
                                          <p:spTgt spid="3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2" dur="500"/>
                                        <p:tgtEl>
                                          <p:spTgt spid="3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5" dur="500"/>
                                        <p:tgtEl>
                                          <p:spTgt spid="3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Text Box 2"/>
          <p:cNvSpPr/>
          <p:nvPr/>
        </p:nvSpPr>
        <p:spPr>
          <a:xfrm>
            <a:off x="826920" y="1592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&lt; 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抛物线开口向下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graphicFrame>
        <p:nvGraphicFramePr>
          <p:cNvPr id="3773" name="Object 3"/>
          <p:cNvGraphicFramePr/>
          <p:nvPr/>
        </p:nvGraphicFramePr>
        <p:xfrm>
          <a:off x="1332000" y="2195640"/>
          <a:ext cx="2592360" cy="9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195640"/>
                    <a:ext cx="259236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5" name="Object 4"/>
          <p:cNvGraphicFramePr/>
          <p:nvPr/>
        </p:nvGraphicFramePr>
        <p:xfrm>
          <a:off x="4265640" y="2060640"/>
          <a:ext cx="2198520" cy="104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5640" y="2060640"/>
                    <a:ext cx="219852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7" name="Object 5"/>
          <p:cNvGraphicFramePr/>
          <p:nvPr/>
        </p:nvGraphicFramePr>
        <p:xfrm>
          <a:off x="1538280" y="3665520"/>
          <a:ext cx="285768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7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38280" y="3665520"/>
                    <a:ext cx="28576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9" name="Object 6"/>
          <p:cNvGraphicFramePr/>
          <p:nvPr/>
        </p:nvGraphicFramePr>
        <p:xfrm>
          <a:off x="1566720" y="4651200"/>
          <a:ext cx="21783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8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66720" y="4651200"/>
                    <a:ext cx="21783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1" name="Object 7"/>
          <p:cNvGraphicFramePr/>
          <p:nvPr/>
        </p:nvGraphicFramePr>
        <p:xfrm>
          <a:off x="1647720" y="5551560"/>
          <a:ext cx="3043440" cy="541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8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47720" y="5551560"/>
                    <a:ext cx="30434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83" name="Object 8"/>
              <p:cNvSpPr txBox="1"/>
              <p:nvPr/>
            </p:nvSpPr>
            <p:spPr>
              <a:xfrm>
                <a:off x="1979640" y="866880"/>
                <a:ext cx="1942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4" name="Rectangle 9"/>
          <p:cNvSpPr/>
          <p:nvPr/>
        </p:nvSpPr>
        <p:spPr>
          <a:xfrm>
            <a:off x="1258920" y="1015920"/>
            <a:ext cx="10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3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3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2000"/>
                                        <p:tgtEl>
                                          <p:spTgt spid="3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Text Box 2"/>
          <p:cNvSpPr/>
          <p:nvPr/>
        </p:nvSpPr>
        <p:spPr>
          <a:xfrm>
            <a:off x="684360" y="17002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&lt; 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抛物线开口向下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graphicFrame>
        <p:nvGraphicFramePr>
          <p:cNvPr id="3786" name="Object 3"/>
          <p:cNvGraphicFramePr/>
          <p:nvPr/>
        </p:nvGraphicFramePr>
        <p:xfrm>
          <a:off x="1384200" y="2157480"/>
          <a:ext cx="2487600" cy="9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2157480"/>
                    <a:ext cx="24876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8" name="Object 4"/>
          <p:cNvGraphicFramePr/>
          <p:nvPr/>
        </p:nvGraphicFramePr>
        <p:xfrm>
          <a:off x="4316400" y="2022480"/>
          <a:ext cx="3638520" cy="99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8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16400" y="2022480"/>
                    <a:ext cx="363852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0" name="Object 5"/>
          <p:cNvGraphicFramePr/>
          <p:nvPr/>
        </p:nvGraphicFramePr>
        <p:xfrm>
          <a:off x="1593720" y="3627360"/>
          <a:ext cx="2746440" cy="5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9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93720" y="3627360"/>
                    <a:ext cx="274644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2" name="Object 6"/>
          <p:cNvGraphicFramePr/>
          <p:nvPr/>
        </p:nvGraphicFramePr>
        <p:xfrm>
          <a:off x="1728720" y="4614840"/>
          <a:ext cx="1989360" cy="50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9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8720" y="4614840"/>
                    <a:ext cx="1989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4" name="Object 7"/>
          <p:cNvGraphicFramePr/>
          <p:nvPr/>
        </p:nvGraphicFramePr>
        <p:xfrm>
          <a:off x="1706400" y="5551560"/>
          <a:ext cx="2930760" cy="541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9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06400" y="5551560"/>
                    <a:ext cx="29307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96" name="Object 8"/>
              <p:cNvSpPr txBox="1"/>
              <p:nvPr/>
            </p:nvSpPr>
            <p:spPr>
              <a:xfrm>
                <a:off x="1692360" y="981000"/>
                <a:ext cx="20876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7" name="Rectangle 9"/>
          <p:cNvSpPr/>
          <p:nvPr/>
        </p:nvSpPr>
        <p:spPr>
          <a:xfrm>
            <a:off x="971640" y="105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3" dur="500"/>
                                        <p:tgtEl>
                                          <p:spTgt spid="3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6" dur="500"/>
                                        <p:tgtEl>
                                          <p:spTgt spid="3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3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7" descr="u=111629297,836824017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1" name="Text Box 2"/>
          <p:cNvSpPr/>
          <p:nvPr/>
        </p:nvSpPr>
        <p:spPr>
          <a:xfrm>
            <a:off x="971640" y="1628640"/>
            <a:ext cx="785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一般地，抛物线</a:t>
            </a: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y=a(x-h)  +k</a:t>
            </a: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与</a:t>
            </a: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y=ax </a:t>
            </a: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的</a:t>
            </a:r>
            <a:r>
              <a:rPr b="1" lang="zh-CN" sz="4000" spc="-1" strike="noStrike" u="sng">
                <a:solidFill>
                  <a:srgbClr val="402000"/>
                </a:solidFill>
                <a:uFillTx/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相同，</a:t>
            </a:r>
            <a:r>
              <a:rPr b="1" lang="zh-CN" sz="4000" spc="-1" strike="noStrike" u="sng">
                <a:solidFill>
                  <a:srgbClr val="4020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不同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02" name="Text Box 3"/>
          <p:cNvSpPr/>
          <p:nvPr/>
        </p:nvSpPr>
        <p:spPr>
          <a:xfrm>
            <a:off x="7165440" y="162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03" name="Text Box 4"/>
          <p:cNvSpPr/>
          <p:nvPr/>
        </p:nvSpPr>
        <p:spPr>
          <a:xfrm>
            <a:off x="2125080" y="227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04" name="Text Box 15"/>
          <p:cNvSpPr/>
          <p:nvPr/>
        </p:nvSpPr>
        <p:spPr>
          <a:xfrm>
            <a:off x="3120480" y="220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状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05" name="Text Box 16"/>
          <p:cNvSpPr/>
          <p:nvPr/>
        </p:nvSpPr>
        <p:spPr>
          <a:xfrm>
            <a:off x="5856480" y="220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位置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06" name="Text Box 17"/>
          <p:cNvSpPr/>
          <p:nvPr/>
        </p:nvSpPr>
        <p:spPr>
          <a:xfrm>
            <a:off x="1692720" y="342900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07" name="Text Box 18"/>
          <p:cNvSpPr/>
          <p:nvPr/>
        </p:nvSpPr>
        <p:spPr>
          <a:xfrm>
            <a:off x="1405080" y="3573360"/>
            <a:ext cx="172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Arial"/>
              </a:rPr>
              <a:t>y=ax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08" name="Text Box 19"/>
          <p:cNvSpPr/>
          <p:nvPr/>
        </p:nvSpPr>
        <p:spPr>
          <a:xfrm>
            <a:off x="2557080" y="36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09" name="Text Box 20"/>
          <p:cNvSpPr/>
          <p:nvPr/>
        </p:nvSpPr>
        <p:spPr>
          <a:xfrm>
            <a:off x="5725080" y="3573360"/>
            <a:ext cx="27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Arial"/>
              </a:rPr>
              <a:t>y=a(x-h)  +k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10" name="Text Box 21"/>
          <p:cNvSpPr/>
          <p:nvPr/>
        </p:nvSpPr>
        <p:spPr>
          <a:xfrm>
            <a:off x="7452720" y="342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11" name="AutoShape 22"/>
          <p:cNvSpPr/>
          <p:nvPr/>
        </p:nvSpPr>
        <p:spPr>
          <a:xfrm>
            <a:off x="2917800" y="3860640"/>
            <a:ext cx="2951280" cy="289080"/>
          </a:xfrm>
          <a:prstGeom prst="rightArrow">
            <a:avLst>
              <a:gd name="adj1" fmla="val 50000"/>
              <a:gd name="adj2" fmla="val 25523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12" name="Text Box 23"/>
          <p:cNvSpPr/>
          <p:nvPr/>
        </p:nvSpPr>
        <p:spPr>
          <a:xfrm>
            <a:off x="3251880" y="3284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上加下减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13" name="Text Box 24"/>
          <p:cNvSpPr/>
          <p:nvPr/>
        </p:nvSpPr>
        <p:spPr>
          <a:xfrm>
            <a:off x="3323520" y="4005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左加右减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14" name="AutoShape 25"/>
          <p:cNvSpPr/>
          <p:nvPr/>
        </p:nvSpPr>
        <p:spPr>
          <a:xfrm>
            <a:off x="250920" y="260280"/>
            <a:ext cx="2592360" cy="576360"/>
          </a:xfrm>
          <a:prstGeom prst="flowChartAlternateProcess">
            <a:avLst/>
          </a:prstGeom>
          <a:gradFill rotWithShape="0">
            <a:gsLst>
              <a:gs pos="0">
                <a:srgbClr val="00cc00"/>
              </a:gs>
              <a:gs pos="50000">
                <a:srgbClr val="e7fae7"/>
              </a:gs>
              <a:gs pos="100000">
                <a:srgbClr val="00cc00"/>
              </a:gs>
            </a:gsLst>
            <a:lin ang="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15" name="WordArt 26"/>
          <p:cNvSpPr txBox="1"/>
          <p:nvPr/>
        </p:nvSpPr>
        <p:spPr>
          <a:xfrm>
            <a:off x="324000" y="333360"/>
            <a:ext cx="237636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知识回顾：</a:t>
            </a:r>
            <a:endParaRPr b="1" lang="en-US" sz="9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Text Box 2"/>
          <p:cNvSpPr/>
          <p:nvPr/>
        </p:nvSpPr>
        <p:spPr>
          <a:xfrm>
            <a:off x="755640" y="144792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.5 &gt; 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抛物线开口向上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graphicFrame>
        <p:nvGraphicFramePr>
          <p:cNvPr id="3799" name="Object 3"/>
          <p:cNvGraphicFramePr/>
          <p:nvPr/>
        </p:nvGraphicFramePr>
        <p:xfrm>
          <a:off x="1547640" y="1952640"/>
          <a:ext cx="230364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52640"/>
                    <a:ext cx="230364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1" name="Object 4"/>
          <p:cNvGraphicFramePr/>
          <p:nvPr/>
        </p:nvGraphicFramePr>
        <p:xfrm>
          <a:off x="4135320" y="1879560"/>
          <a:ext cx="3611520" cy="94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5320" y="1879560"/>
                    <a:ext cx="36115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3" name="Object 5"/>
          <p:cNvGraphicFramePr/>
          <p:nvPr/>
        </p:nvGraphicFramePr>
        <p:xfrm>
          <a:off x="1554120" y="3083040"/>
          <a:ext cx="2940120" cy="5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54120" y="3083040"/>
                    <a:ext cx="29401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5" name="Object 6"/>
          <p:cNvGraphicFramePr/>
          <p:nvPr/>
        </p:nvGraphicFramePr>
        <p:xfrm>
          <a:off x="1704960" y="3917880"/>
          <a:ext cx="1987560" cy="50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0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4960" y="3917880"/>
                    <a:ext cx="19875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7" name="Object 7"/>
          <p:cNvGraphicFramePr/>
          <p:nvPr/>
        </p:nvGraphicFramePr>
        <p:xfrm>
          <a:off x="1592280" y="4975200"/>
          <a:ext cx="3132000" cy="541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0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92280" y="4975200"/>
                    <a:ext cx="31320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09" name="Object 8"/>
              <p:cNvSpPr txBox="1"/>
              <p:nvPr/>
            </p:nvSpPr>
            <p:spPr>
              <a:xfrm>
                <a:off x="1762200" y="777960"/>
                <a:ext cx="18730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0" name="Rectangle 9"/>
          <p:cNvSpPr/>
          <p:nvPr/>
        </p:nvSpPr>
        <p:spPr>
          <a:xfrm>
            <a:off x="1057320" y="977760"/>
            <a:ext cx="10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3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3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1" name="Picture 7" descr="u=111629297,836824017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12" name="Group 2"/>
          <p:cNvGrpSpPr/>
          <p:nvPr/>
        </p:nvGrpSpPr>
        <p:grpSpPr>
          <a:xfrm>
            <a:off x="179280" y="588960"/>
            <a:ext cx="8964720" cy="2079000"/>
            <a:chOff x="179280" y="588960"/>
            <a:chExt cx="8964720" cy="2079000"/>
          </a:xfrm>
        </p:grpSpPr>
        <p:sp>
          <p:nvSpPr>
            <p:cNvPr id="3813" name="Rectangle 3"/>
            <p:cNvSpPr/>
            <p:nvPr/>
          </p:nvSpPr>
          <p:spPr>
            <a:xfrm>
              <a:off x="179280" y="780120"/>
              <a:ext cx="41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0099"/>
                  </a:solidFill>
                  <a:latin typeface="宋体"/>
                </a:rPr>
                <a:t>例</a:t>
              </a:r>
              <a:r>
                <a:rPr b="1" lang="zh-CN" sz="4000" spc="-1" strike="noStrike">
                  <a:solidFill>
                    <a:srgbClr val="990099"/>
                  </a:solidFill>
                  <a:latin typeface="宋体"/>
                </a:rPr>
                <a:t>1</a:t>
              </a:r>
              <a:r>
                <a:rPr b="1" lang="zh-CN" sz="4000" spc="-1" strike="noStrike">
                  <a:solidFill>
                    <a:srgbClr val="990099"/>
                  </a:solidFill>
                  <a:latin typeface="宋体"/>
                </a:rPr>
                <a:t>：指出抛物线</a:t>
              </a:r>
              <a:r>
                <a:rPr b="1" lang="zh-CN" sz="4000" spc="-1" strike="noStrike">
                  <a:solidFill>
                    <a:srgbClr val="ffff00"/>
                  </a:solidFill>
                  <a:latin typeface="宋体"/>
                </a:rPr>
                <a:t>:</a:t>
              </a:r>
              <a:endParaRPr b="0" lang="en-US" sz="4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aphicFrame>
          <p:nvGraphicFramePr>
            <p:cNvPr id="3814" name="Object 4"/>
            <p:cNvGraphicFramePr/>
            <p:nvPr/>
          </p:nvGraphicFramePr>
          <p:xfrm>
            <a:off x="4211640" y="588960"/>
            <a:ext cx="4376520" cy="984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15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211640" y="588960"/>
                      <a:ext cx="4376520" cy="98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6" name="Rectangle 5"/>
            <p:cNvSpPr/>
            <p:nvPr/>
          </p:nvSpPr>
          <p:spPr>
            <a:xfrm>
              <a:off x="179280" y="1964520"/>
              <a:ext cx="896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0099"/>
                  </a:solidFill>
                  <a:latin typeface="宋体"/>
                </a:rPr>
                <a:t>的开口方向，求出它的对称轴、顶点坐标、与</a:t>
              </a:r>
              <a:r>
                <a:rPr b="1" i="1" lang="en-US" sz="4000" spc="-1" strike="noStrike">
                  <a:solidFill>
                    <a:srgbClr val="990099"/>
                  </a:solidFill>
                  <a:latin typeface="Times New Roman"/>
                </a:rPr>
                <a:t>y</a:t>
              </a:r>
              <a:r>
                <a:rPr b="1" lang="zh-CN" sz="4000" spc="-1" strike="noStrike">
                  <a:solidFill>
                    <a:srgbClr val="990099"/>
                  </a:solidFill>
                  <a:latin typeface="宋体"/>
                </a:rPr>
                <a:t>轴的交点坐标、与</a:t>
              </a:r>
              <a:r>
                <a:rPr b="1" i="1" lang="en-US" sz="4000" spc="-1" strike="noStrike">
                  <a:solidFill>
                    <a:srgbClr val="990099"/>
                  </a:solidFill>
                  <a:latin typeface="Times New Roman"/>
                </a:rPr>
                <a:t>x</a:t>
              </a:r>
              <a:r>
                <a:rPr b="1" lang="zh-CN" sz="4000" spc="-1" strike="noStrike">
                  <a:solidFill>
                    <a:srgbClr val="990099"/>
                  </a:solidFill>
                  <a:latin typeface="宋体"/>
                </a:rPr>
                <a:t>轴的交点坐标。并画出草图。</a:t>
              </a:r>
              <a:endParaRPr b="0" lang="en-US" sz="40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3817" name="Rectangle 6"/>
          <p:cNvSpPr/>
          <p:nvPr/>
        </p:nvSpPr>
        <p:spPr>
          <a:xfrm>
            <a:off x="250920" y="399096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对于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y=ax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+bx+c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我们可以确定它的开口方向，求出它的对称轴、顶点坐标、与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轴的交点坐标、与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轴的交点坐标（有交点时），这样就可以画出它的大致图象</a:t>
            </a:r>
            <a:r>
              <a:rPr b="1" lang="zh-CN" sz="3600" spc="-1" strike="noStrike">
                <a:solidFill>
                  <a:srgbClr val="111111"/>
                </a:solidFill>
                <a:latin typeface="Tahoma"/>
              </a:rPr>
              <a:t>。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18" name="Rectangle 8"/>
          <p:cNvSpPr/>
          <p:nvPr/>
        </p:nvSpPr>
        <p:spPr>
          <a:xfrm>
            <a:off x="468360" y="3860640"/>
            <a:ext cx="7920000" cy="208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19" name="Text Box 9"/>
          <p:cNvSpPr/>
          <p:nvPr/>
        </p:nvSpPr>
        <p:spPr>
          <a:xfrm>
            <a:off x="611280" y="4005360"/>
            <a:ext cx="8137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=-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, 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开口向下，顶点坐标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/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，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轴交点坐标为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，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轴交点为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,0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4,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，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3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89" dur="2000"/>
                                        <p:tgtEl>
                                          <p:spTgt spid="3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92" dur="20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0" name="Picture 20" descr="u=111629297,836824017&amp;fm=0&amp;gp=0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1" name="Text Box 2"/>
          <p:cNvSpPr/>
          <p:nvPr/>
        </p:nvSpPr>
        <p:spPr>
          <a:xfrm>
            <a:off x="2771640" y="40464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111111"/>
                </a:solidFill>
                <a:latin typeface="Webdings"/>
                <a:ea typeface="Webdings"/>
              </a:rPr>
              <a:t>方法归纳</a:t>
            </a:r>
            <a:endParaRPr b="0" lang="en-US" sz="7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3822" name="Picture 3" descr="fea06"/>
          <p:cNvPicPr/>
          <p:nvPr/>
        </p:nvPicPr>
        <p:blipFill>
          <a:blip r:embed="rId2"/>
          <a:stretch/>
        </p:blipFill>
        <p:spPr>
          <a:xfrm>
            <a:off x="179280" y="333360"/>
            <a:ext cx="2795760" cy="2220840"/>
          </a:xfrm>
          <a:prstGeom prst="rect">
            <a:avLst/>
          </a:prstGeom>
          <a:ln w="0">
            <a:noFill/>
          </a:ln>
        </p:spPr>
      </p:pic>
      <p:grpSp>
        <p:nvGrpSpPr>
          <p:cNvPr id="3823" name="Group 4"/>
          <p:cNvGrpSpPr/>
          <p:nvPr/>
        </p:nvGrpSpPr>
        <p:grpSpPr>
          <a:xfrm>
            <a:off x="1332000" y="1413000"/>
            <a:ext cx="6911640" cy="7343640"/>
            <a:chOff x="1332000" y="1413000"/>
            <a:chExt cx="6911640" cy="7343640"/>
          </a:xfrm>
        </p:grpSpPr>
        <p:grpSp>
          <p:nvGrpSpPr>
            <p:cNvPr id="3824" name="Group 5"/>
            <p:cNvGrpSpPr/>
            <p:nvPr/>
          </p:nvGrpSpPr>
          <p:grpSpPr>
            <a:xfrm>
              <a:off x="1332000" y="1413000"/>
              <a:ext cx="6887880" cy="1668960"/>
              <a:chOff x="1332000" y="1413000"/>
              <a:chExt cx="6887880" cy="1668960"/>
            </a:xfrm>
          </p:grpSpPr>
          <p:pic>
            <p:nvPicPr>
              <p:cNvPr id="3825" name="Picture 6" descr="结构组织图_03"/>
              <p:cNvPicPr/>
              <p:nvPr/>
            </p:nvPicPr>
            <p:blipFill>
              <a:blip r:embed="rId3"/>
              <a:stretch/>
            </p:blipFill>
            <p:spPr>
              <a:xfrm>
                <a:off x="2410200" y="1528920"/>
                <a:ext cx="5809680" cy="15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6" name="Text Box 7"/>
              <p:cNvSpPr/>
              <p:nvPr/>
            </p:nvSpPr>
            <p:spPr>
              <a:xfrm>
                <a:off x="2409480" y="1861560"/>
                <a:ext cx="58071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ff00"/>
                    </a:solidFill>
                    <a:latin typeface="Arial"/>
                  </a:rPr>
                  <a:t>配方法</a:t>
                </a:r>
                <a:endParaRPr b="0" lang="en-US" sz="5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pic>
            <p:nvPicPr>
              <p:cNvPr id="3827" name="Picture 8" descr="包含关系(斜纹)_09"/>
              <p:cNvPicPr/>
              <p:nvPr/>
            </p:nvPicPr>
            <p:blipFill>
              <a:blip r:embed="rId4"/>
              <a:stretch/>
            </p:blipFill>
            <p:spPr>
              <a:xfrm>
                <a:off x="1332000" y="1413000"/>
                <a:ext cx="1008360" cy="166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8" name="Text Box 9"/>
              <p:cNvSpPr/>
              <p:nvPr/>
            </p:nvSpPr>
            <p:spPr>
              <a:xfrm>
                <a:off x="1531440" y="1742400"/>
                <a:ext cx="1719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111111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grpSp>
          <p:nvGrpSpPr>
            <p:cNvPr id="3829" name="Group 10"/>
            <p:cNvGrpSpPr/>
            <p:nvPr/>
          </p:nvGrpSpPr>
          <p:grpSpPr>
            <a:xfrm>
              <a:off x="1332000" y="4248720"/>
              <a:ext cx="6911640" cy="1668600"/>
              <a:chOff x="1332000" y="4248720"/>
              <a:chExt cx="6911640" cy="1668600"/>
            </a:xfrm>
          </p:grpSpPr>
          <p:pic>
            <p:nvPicPr>
              <p:cNvPr id="3830" name="Picture 11" descr="结构组织图_03"/>
              <p:cNvPicPr/>
              <p:nvPr/>
            </p:nvPicPr>
            <p:blipFill>
              <a:blip r:embed="rId5"/>
              <a:stretch/>
            </p:blipFill>
            <p:spPr>
              <a:xfrm>
                <a:off x="2433960" y="4299840"/>
                <a:ext cx="5809680" cy="15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1" name="Text Box 12"/>
              <p:cNvSpPr/>
              <p:nvPr/>
            </p:nvSpPr>
            <p:spPr>
              <a:xfrm>
                <a:off x="2433240" y="4632480"/>
                <a:ext cx="58071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ff00"/>
                    </a:solidFill>
                    <a:latin typeface="Arial"/>
                  </a:rPr>
                  <a:t>公式法</a:t>
                </a:r>
                <a:endParaRPr b="0" lang="en-US" sz="5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pic>
            <p:nvPicPr>
              <p:cNvPr id="3832" name="Picture 13" descr="包含关系(斜纹)_09"/>
              <p:cNvPicPr/>
              <p:nvPr/>
            </p:nvPicPr>
            <p:blipFill>
              <a:blip r:embed="rId6"/>
              <a:stretch/>
            </p:blipFill>
            <p:spPr>
              <a:xfrm>
                <a:off x="1332000" y="4248720"/>
                <a:ext cx="1008360" cy="166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3" name="Text Box 14"/>
              <p:cNvSpPr/>
              <p:nvPr/>
            </p:nvSpPr>
            <p:spPr>
              <a:xfrm>
                <a:off x="1594080" y="4610520"/>
                <a:ext cx="1716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111111"/>
                    </a:solidFill>
                    <a:latin typeface="Arial"/>
                  </a:rPr>
                  <a:t>2</a:t>
                </a:r>
                <a:endParaRPr b="0" lang="en-US" sz="4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grpSp>
          <p:nvGrpSpPr>
            <p:cNvPr id="3834" name="Group 15"/>
            <p:cNvGrpSpPr/>
            <p:nvPr/>
          </p:nvGrpSpPr>
          <p:grpSpPr>
            <a:xfrm>
              <a:off x="1332000" y="7087680"/>
              <a:ext cx="6911640" cy="1668960"/>
              <a:chOff x="1332000" y="7087680"/>
              <a:chExt cx="6911640" cy="1668960"/>
            </a:xfrm>
          </p:grpSpPr>
          <p:pic>
            <p:nvPicPr>
              <p:cNvPr id="3835" name="Picture 16" descr="结构组织图_03"/>
              <p:cNvPicPr/>
              <p:nvPr/>
            </p:nvPicPr>
            <p:blipFill>
              <a:blip r:embed="rId7"/>
              <a:stretch/>
            </p:blipFill>
            <p:spPr>
              <a:xfrm>
                <a:off x="2433960" y="7255440"/>
                <a:ext cx="5809680" cy="15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6" name="Text Box 17"/>
              <p:cNvSpPr/>
              <p:nvPr/>
            </p:nvSpPr>
            <p:spPr>
              <a:xfrm>
                <a:off x="2433240" y="7589520"/>
                <a:ext cx="580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pic>
            <p:nvPicPr>
              <p:cNvPr id="3837" name="Picture 18" descr="包含关系(斜纹)_09"/>
              <p:cNvPicPr/>
              <p:nvPr/>
            </p:nvPicPr>
            <p:blipFill>
              <a:blip r:embed="rId8"/>
              <a:stretch/>
            </p:blipFill>
            <p:spPr>
              <a:xfrm>
                <a:off x="1332000" y="7087680"/>
                <a:ext cx="1008360" cy="166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8" name="Text Box 19"/>
              <p:cNvSpPr/>
              <p:nvPr/>
            </p:nvSpPr>
            <p:spPr>
              <a:xfrm>
                <a:off x="1594080" y="7417080"/>
                <a:ext cx="171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</p:spTree>
  </p:cSld>
  <p:transition>
    <p:cover dir="l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2000" fill="hold"/>
                                        <p:tgtEl>
                                          <p:spTgt spid="3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2000" fill="hold"/>
                                        <p:tgtEl>
                                          <p:spTgt spid="3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9" name="Picture 27" descr="u=111629297,836824017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0" name="Rectangle 2"/>
          <p:cNvSpPr/>
          <p:nvPr/>
        </p:nvSpPr>
        <p:spPr>
          <a:xfrm>
            <a:off x="-100080" y="1557360"/>
            <a:ext cx="32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=2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5x+3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41" name="Rectangle 3"/>
          <p:cNvSpPr/>
          <p:nvPr/>
        </p:nvSpPr>
        <p:spPr>
          <a:xfrm>
            <a:off x="6133680" y="1557360"/>
            <a:ext cx="297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=(x-3)(x+2)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42" name="Rectangle 4"/>
          <p:cNvSpPr/>
          <p:nvPr/>
        </p:nvSpPr>
        <p:spPr>
          <a:xfrm>
            <a:off x="2484360" y="1557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y=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－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zh-CN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+4x-9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43" name="Text Box 5"/>
          <p:cNvSpPr/>
          <p:nvPr/>
        </p:nvSpPr>
        <p:spPr>
          <a:xfrm>
            <a:off x="3676320" y="9079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下列二次函数图像的开口、顶点、对称轴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44" name="Line 6"/>
          <p:cNvSpPr/>
          <p:nvPr/>
        </p:nvSpPr>
        <p:spPr>
          <a:xfrm>
            <a:off x="179280" y="4954680"/>
            <a:ext cx="2303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45" name="Line 7"/>
          <p:cNvSpPr/>
          <p:nvPr/>
        </p:nvSpPr>
        <p:spPr>
          <a:xfrm flipV="1">
            <a:off x="682560" y="3355560"/>
            <a:ext cx="0" cy="25923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46" name="Line 8"/>
          <p:cNvSpPr/>
          <p:nvPr/>
        </p:nvSpPr>
        <p:spPr>
          <a:xfrm>
            <a:off x="1114560" y="3349800"/>
            <a:ext cx="0" cy="256680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47" name="未知"/>
          <p:cNvSpPr/>
          <p:nvPr/>
        </p:nvSpPr>
        <p:spPr>
          <a:xfrm>
            <a:off x="324000" y="3213000"/>
            <a:ext cx="1800000" cy="1944720"/>
          </a:xfrm>
          <a:custGeom>
            <a:avLst/>
            <a:gdLst/>
            <a:ahLst/>
            <a:rect l="l" t="t" r="r" b="b"/>
            <a:pathLst>
              <a:path w="1034" h="585">
                <a:moveTo>
                  <a:pt x="0" y="18"/>
                </a:moveTo>
                <a:cubicBezTo>
                  <a:pt x="80" y="114"/>
                  <a:pt x="308" y="585"/>
                  <a:pt x="480" y="582"/>
                </a:cubicBezTo>
                <a:cubicBezTo>
                  <a:pt x="652" y="579"/>
                  <a:pt x="919" y="121"/>
                  <a:pt x="1034" y="0"/>
                </a:cubicBez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48" name="Line 10"/>
          <p:cNvSpPr/>
          <p:nvPr/>
        </p:nvSpPr>
        <p:spPr>
          <a:xfrm>
            <a:off x="2989440" y="4213080"/>
            <a:ext cx="2303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49" name="Line 11"/>
          <p:cNvSpPr/>
          <p:nvPr/>
        </p:nvSpPr>
        <p:spPr>
          <a:xfrm flipV="1">
            <a:off x="3492360" y="3428640"/>
            <a:ext cx="0" cy="25923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50" name="Line 12"/>
          <p:cNvSpPr/>
          <p:nvPr/>
        </p:nvSpPr>
        <p:spPr>
          <a:xfrm>
            <a:off x="4140360" y="3422520"/>
            <a:ext cx="0" cy="256716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51" name="未知"/>
          <p:cNvSpPr/>
          <p:nvPr/>
        </p:nvSpPr>
        <p:spPr>
          <a:xfrm flipV="1">
            <a:off x="3297240" y="4448160"/>
            <a:ext cx="1779480" cy="1494000"/>
          </a:xfrm>
          <a:custGeom>
            <a:avLst/>
            <a:gdLst/>
            <a:ahLst/>
            <a:rect l="l" t="t" r="r" b="b"/>
            <a:pathLst>
              <a:path w="1034" h="585">
                <a:moveTo>
                  <a:pt x="0" y="18"/>
                </a:moveTo>
                <a:cubicBezTo>
                  <a:pt x="80" y="114"/>
                  <a:pt x="308" y="585"/>
                  <a:pt x="480" y="582"/>
                </a:cubicBezTo>
                <a:cubicBezTo>
                  <a:pt x="652" y="579"/>
                  <a:pt x="919" y="121"/>
                  <a:pt x="1034" y="0"/>
                </a:cubicBez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52" name="Line 14"/>
          <p:cNvSpPr/>
          <p:nvPr/>
        </p:nvSpPr>
        <p:spPr>
          <a:xfrm>
            <a:off x="6443640" y="4645080"/>
            <a:ext cx="2303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53" name="Line 15"/>
          <p:cNvSpPr/>
          <p:nvPr/>
        </p:nvSpPr>
        <p:spPr>
          <a:xfrm flipV="1">
            <a:off x="7451640" y="3420720"/>
            <a:ext cx="0" cy="25923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54" name="Line 16"/>
          <p:cNvSpPr/>
          <p:nvPr/>
        </p:nvSpPr>
        <p:spPr>
          <a:xfrm>
            <a:off x="7596360" y="3414600"/>
            <a:ext cx="0" cy="256716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55" name="未知"/>
          <p:cNvSpPr/>
          <p:nvPr/>
        </p:nvSpPr>
        <p:spPr>
          <a:xfrm>
            <a:off x="6753240" y="3727440"/>
            <a:ext cx="1779480" cy="1925640"/>
          </a:xfrm>
          <a:custGeom>
            <a:avLst/>
            <a:gdLst/>
            <a:ahLst/>
            <a:rect l="l" t="t" r="r" b="b"/>
            <a:pathLst>
              <a:path w="1034" h="585">
                <a:moveTo>
                  <a:pt x="0" y="18"/>
                </a:moveTo>
                <a:cubicBezTo>
                  <a:pt x="80" y="114"/>
                  <a:pt x="308" y="585"/>
                  <a:pt x="480" y="582"/>
                </a:cubicBezTo>
                <a:cubicBezTo>
                  <a:pt x="652" y="579"/>
                  <a:pt x="919" y="121"/>
                  <a:pt x="1034" y="0"/>
                </a:cubicBez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6" name="Object 18"/>
              <p:cNvSpPr txBox="1"/>
              <p:nvPr/>
            </p:nvSpPr>
            <p:spPr>
              <a:xfrm>
                <a:off x="3995640" y="1413000"/>
                <a:ext cx="3747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7" name="Text Box 19"/>
          <p:cNvSpPr/>
          <p:nvPr/>
        </p:nvSpPr>
        <p:spPr>
          <a:xfrm>
            <a:off x="415440" y="2562120"/>
            <a:ext cx="1632960" cy="58140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请画出草图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3858" name="未知" descr=""/>
          <p:cNvPicPr/>
          <p:nvPr/>
        </p:nvPicPr>
        <p:blipFill>
          <a:blip r:embed="rId2"/>
          <a:stretch/>
        </p:blipFill>
        <p:spPr>
          <a:xfrm>
            <a:off x="638280" y="4356000"/>
            <a:ext cx="95040" cy="42840"/>
          </a:xfrm>
          <a:prstGeom prst="rect">
            <a:avLst/>
          </a:prstGeom>
          <a:ln w="0">
            <a:noFill/>
          </a:ln>
        </p:spPr>
      </p:pic>
      <p:pic>
        <p:nvPicPr>
          <p:cNvPr id="3859" name="未知" descr=""/>
          <p:cNvPicPr/>
          <p:nvPr/>
        </p:nvPicPr>
        <p:blipFill>
          <a:blip r:embed="rId3"/>
          <a:stretch/>
        </p:blipFill>
        <p:spPr>
          <a:xfrm>
            <a:off x="3441600" y="5425920"/>
            <a:ext cx="127080" cy="360"/>
          </a:xfrm>
          <a:prstGeom prst="rect">
            <a:avLst/>
          </a:prstGeom>
          <a:ln w="0">
            <a:noFill/>
          </a:ln>
        </p:spPr>
      </p:pic>
      <p:pic>
        <p:nvPicPr>
          <p:cNvPr id="3860" name="未知" descr=""/>
          <p:cNvPicPr/>
          <p:nvPr/>
        </p:nvPicPr>
        <p:blipFill>
          <a:blip r:embed="rId4"/>
          <a:stretch/>
        </p:blipFill>
        <p:spPr>
          <a:xfrm>
            <a:off x="7427880" y="5506920"/>
            <a:ext cx="111240" cy="42840"/>
          </a:xfrm>
          <a:prstGeom prst="rect">
            <a:avLst/>
          </a:prstGeom>
          <a:ln w="0">
            <a:noFill/>
          </a:ln>
        </p:spPr>
      </p:pic>
      <p:sp>
        <p:nvSpPr>
          <p:cNvPr id="3861" name="Text Box 24"/>
          <p:cNvSpPr/>
          <p:nvPr/>
        </p:nvSpPr>
        <p:spPr>
          <a:xfrm>
            <a:off x="0" y="4221000"/>
            <a:ext cx="3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62" name="Text Box 25"/>
          <p:cNvSpPr/>
          <p:nvPr/>
        </p:nvSpPr>
        <p:spPr>
          <a:xfrm>
            <a:off x="2916360" y="52293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63" name="Text Box 26"/>
          <p:cNvSpPr/>
          <p:nvPr/>
        </p:nvSpPr>
        <p:spPr>
          <a:xfrm>
            <a:off x="6877080" y="5373720"/>
            <a:ext cx="8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64" name="AutoShape 28"/>
          <p:cNvSpPr/>
          <p:nvPr/>
        </p:nvSpPr>
        <p:spPr>
          <a:xfrm>
            <a:off x="179280" y="333360"/>
            <a:ext cx="1584360" cy="576360"/>
          </a:xfrm>
          <a:prstGeom prst="flowChartAlternateProcess">
            <a:avLst/>
          </a:prstGeom>
          <a:gradFill rotWithShape="0">
            <a:gsLst>
              <a:gs pos="0">
                <a:srgbClr val="00cc00"/>
              </a:gs>
              <a:gs pos="50000">
                <a:srgbClr val="e7fae7"/>
              </a:gs>
              <a:gs pos="100000">
                <a:srgbClr val="00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65" name="WordArt 29"/>
          <p:cNvSpPr txBox="1"/>
          <p:nvPr/>
        </p:nvSpPr>
        <p:spPr>
          <a:xfrm>
            <a:off x="324000" y="404640"/>
            <a:ext cx="1295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试一试：</a:t>
            </a:r>
            <a:endParaRPr b="1" lang="en-US" sz="9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l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3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3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3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3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3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3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3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3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3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3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3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3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Text Box 2"/>
          <p:cNvSpPr/>
          <p:nvPr/>
        </p:nvSpPr>
        <p:spPr>
          <a:xfrm>
            <a:off x="264960" y="1236600"/>
            <a:ext cx="877104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抛物线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y=2x</a:t>
            </a:r>
            <a:r>
              <a:rPr b="1" lang="en-US" sz="32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+8x-1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顶点在        （   ）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一象限    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二象限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三象限    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四象限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不论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k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取任何实数，抛物线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y=a(x+k)</a:t>
            </a:r>
            <a:r>
              <a:rPr b="1" lang="en-US" sz="32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+k(a≠0)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顶点都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在                                             （      ）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直线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y = x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上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直线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y = - x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上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C.x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轴上      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D.y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轴上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若二次函数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y=ax</a:t>
            </a:r>
            <a:r>
              <a:rPr b="1" lang="en-US" sz="32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2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+ 4x+a-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最小值是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则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值是                          （   ）                                                                               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黑体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     B. -1      C. 3       D.4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或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-1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67" name="WordArt 3"/>
          <p:cNvSpPr txBox="1"/>
          <p:nvPr/>
        </p:nvSpPr>
        <p:spPr>
          <a:xfrm>
            <a:off x="366840" y="6206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牛刀小试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868" name="Text Box 4"/>
          <p:cNvSpPr/>
          <p:nvPr/>
        </p:nvSpPr>
        <p:spPr>
          <a:xfrm>
            <a:off x="7910640" y="12142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69" name="Text Box 5">
            <a:hlinkClick r:id="rId1" action="ppaction://hlinksldjump"/>
          </p:cNvPr>
          <p:cNvSpPr/>
          <p:nvPr/>
        </p:nvSpPr>
        <p:spPr>
          <a:xfrm>
            <a:off x="7918560" y="321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70" name="Text Box 6"/>
          <p:cNvSpPr/>
          <p:nvPr/>
        </p:nvSpPr>
        <p:spPr>
          <a:xfrm>
            <a:off x="7839720" y="5319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1" name="Rectangle 2"/>
          <p:cNvSpPr/>
          <p:nvPr/>
        </p:nvSpPr>
        <p:spPr>
          <a:xfrm>
            <a:off x="0" y="1413000"/>
            <a:ext cx="90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若把抛物线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y = x</a:t>
            </a:r>
            <a:r>
              <a:rPr b="1" i="1" lang="en-US" sz="3200" spc="-1" strike="noStrike" baseline="30000">
                <a:solidFill>
                  <a:srgbClr val="0000ff"/>
                </a:solidFill>
                <a:latin typeface="Times New Roman"/>
                <a:ea typeface="黑体"/>
              </a:rPr>
              <a:t>2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- 2x+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向右平移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个单位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再向下平移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个单位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得抛物线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y=x</a:t>
            </a:r>
            <a:r>
              <a:rPr b="1" i="1" lang="en-US" sz="3200" spc="-1" strike="noStrike" baseline="30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+bx+c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则（   ）                      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.b=2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= 6    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B.b=-6 , c=6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C.b=-8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= 6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 D.b=-8 ,  c=18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72" name="WordArt 3"/>
          <p:cNvSpPr txBox="1"/>
          <p:nvPr/>
        </p:nvSpPr>
        <p:spPr>
          <a:xfrm>
            <a:off x="366840" y="6206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牛刀小试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873" name="Text Box 4">
            <a:hlinkClick r:id="rId1" action="ppaction://hlinksldjump"/>
          </p:cNvPr>
          <p:cNvSpPr/>
          <p:nvPr/>
        </p:nvSpPr>
        <p:spPr>
          <a:xfrm>
            <a:off x="7308720" y="184464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4" name="Rectangle 2"/>
          <p:cNvSpPr/>
          <p:nvPr/>
        </p:nvSpPr>
        <p:spPr>
          <a:xfrm>
            <a:off x="34920" y="476280"/>
            <a:ext cx="91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若一次函数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y=ax+b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图象经过第二、三、四象限，则二次函数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y=ax</a:t>
            </a:r>
            <a:r>
              <a:rPr b="1" i="1" lang="en-US" sz="3200" spc="-1" strike="noStrike" baseline="30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+bx-3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大致图象是   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    )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75" name="Rectangle 3"/>
          <p:cNvSpPr/>
          <p:nvPr/>
        </p:nvSpPr>
        <p:spPr>
          <a:xfrm>
            <a:off x="0" y="34592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同一直角坐标系中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二次函数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y=ax</a:t>
            </a:r>
            <a:r>
              <a:rPr b="1" i="1" lang="en-US" sz="3200" spc="-1" strike="noStrike" baseline="30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+bx+c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与一次函数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y=ax+c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大致图象可能是     （   ）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3876" name="Group 4"/>
          <p:cNvGrpSpPr/>
          <p:nvPr/>
        </p:nvGrpSpPr>
        <p:grpSpPr>
          <a:xfrm>
            <a:off x="466560" y="1413000"/>
            <a:ext cx="8551800" cy="2165760"/>
            <a:chOff x="466560" y="1413000"/>
            <a:chExt cx="8551800" cy="2165760"/>
          </a:xfrm>
        </p:grpSpPr>
        <p:grpSp>
          <p:nvGrpSpPr>
            <p:cNvPr id="3877" name="Group 5"/>
            <p:cNvGrpSpPr/>
            <p:nvPr/>
          </p:nvGrpSpPr>
          <p:grpSpPr>
            <a:xfrm>
              <a:off x="466560" y="1413000"/>
              <a:ext cx="1981080" cy="2069280"/>
              <a:chOff x="466560" y="1413000"/>
              <a:chExt cx="1981080" cy="2069280"/>
            </a:xfrm>
          </p:grpSpPr>
          <p:sp>
            <p:nvSpPr>
              <p:cNvPr id="3878" name="Line 6"/>
              <p:cNvSpPr/>
              <p:nvPr/>
            </p:nvSpPr>
            <p:spPr>
              <a:xfrm>
                <a:off x="466560" y="2582640"/>
                <a:ext cx="19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879" name="Line 7"/>
              <p:cNvSpPr/>
              <p:nvPr/>
            </p:nvSpPr>
            <p:spPr>
              <a:xfrm flipV="1">
                <a:off x="1455480" y="150120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880" name="Text Box 8"/>
              <p:cNvSpPr/>
              <p:nvPr/>
            </p:nvSpPr>
            <p:spPr>
              <a:xfrm>
                <a:off x="1995120" y="2492280"/>
                <a:ext cx="45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881" name="Text Box 9"/>
              <p:cNvSpPr/>
              <p:nvPr/>
            </p:nvSpPr>
            <p:spPr>
              <a:xfrm>
                <a:off x="1456920" y="1413000"/>
                <a:ext cx="45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882" name="Text Box 10"/>
              <p:cNvSpPr/>
              <p:nvPr/>
            </p:nvSpPr>
            <p:spPr>
              <a:xfrm>
                <a:off x="1095120" y="2492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grpSp>
          <p:nvGrpSpPr>
            <p:cNvPr id="3883" name="Group 11"/>
            <p:cNvGrpSpPr/>
            <p:nvPr/>
          </p:nvGrpSpPr>
          <p:grpSpPr>
            <a:xfrm>
              <a:off x="2627280" y="1413000"/>
              <a:ext cx="1981080" cy="2069280"/>
              <a:chOff x="2627280" y="1413000"/>
              <a:chExt cx="1981080" cy="2069280"/>
            </a:xfrm>
          </p:grpSpPr>
          <p:sp>
            <p:nvSpPr>
              <p:cNvPr id="3884" name="Line 12"/>
              <p:cNvSpPr/>
              <p:nvPr/>
            </p:nvSpPr>
            <p:spPr>
              <a:xfrm>
                <a:off x="2627280" y="2582640"/>
                <a:ext cx="19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885" name="Line 13"/>
              <p:cNvSpPr/>
              <p:nvPr/>
            </p:nvSpPr>
            <p:spPr>
              <a:xfrm flipV="1">
                <a:off x="3616200" y="150120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886" name="Text Box 14"/>
              <p:cNvSpPr/>
              <p:nvPr/>
            </p:nvSpPr>
            <p:spPr>
              <a:xfrm>
                <a:off x="4155840" y="2492280"/>
                <a:ext cx="45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887" name="Text Box 15"/>
              <p:cNvSpPr/>
              <p:nvPr/>
            </p:nvSpPr>
            <p:spPr>
              <a:xfrm>
                <a:off x="3617640" y="1413000"/>
                <a:ext cx="45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888" name="Text Box 16"/>
              <p:cNvSpPr/>
              <p:nvPr/>
            </p:nvSpPr>
            <p:spPr>
              <a:xfrm>
                <a:off x="3255840" y="2492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grpSp>
          <p:nvGrpSpPr>
            <p:cNvPr id="3889" name="Group 17"/>
            <p:cNvGrpSpPr/>
            <p:nvPr/>
          </p:nvGrpSpPr>
          <p:grpSpPr>
            <a:xfrm>
              <a:off x="7037280" y="1413000"/>
              <a:ext cx="1981080" cy="2069280"/>
              <a:chOff x="7037280" y="1413000"/>
              <a:chExt cx="1981080" cy="2069280"/>
            </a:xfrm>
          </p:grpSpPr>
          <p:sp>
            <p:nvSpPr>
              <p:cNvPr id="3890" name="Line 18"/>
              <p:cNvSpPr/>
              <p:nvPr/>
            </p:nvSpPr>
            <p:spPr>
              <a:xfrm>
                <a:off x="7037280" y="2582640"/>
                <a:ext cx="19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891" name="Line 19"/>
              <p:cNvSpPr/>
              <p:nvPr/>
            </p:nvSpPr>
            <p:spPr>
              <a:xfrm flipV="1">
                <a:off x="8026200" y="150120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892" name="Text Box 20"/>
              <p:cNvSpPr/>
              <p:nvPr/>
            </p:nvSpPr>
            <p:spPr>
              <a:xfrm>
                <a:off x="8565840" y="2492280"/>
                <a:ext cx="45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893" name="Text Box 21"/>
              <p:cNvSpPr/>
              <p:nvPr/>
            </p:nvSpPr>
            <p:spPr>
              <a:xfrm>
                <a:off x="8027640" y="1413000"/>
                <a:ext cx="45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894" name="Text Box 22"/>
              <p:cNvSpPr/>
              <p:nvPr/>
            </p:nvSpPr>
            <p:spPr>
              <a:xfrm>
                <a:off x="7665840" y="2492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grpSp>
          <p:nvGrpSpPr>
            <p:cNvPr id="3895" name="Group 23"/>
            <p:cNvGrpSpPr/>
            <p:nvPr/>
          </p:nvGrpSpPr>
          <p:grpSpPr>
            <a:xfrm>
              <a:off x="4876920" y="1413000"/>
              <a:ext cx="1981080" cy="2069280"/>
              <a:chOff x="4876920" y="1413000"/>
              <a:chExt cx="1981080" cy="2069280"/>
            </a:xfrm>
          </p:grpSpPr>
          <p:sp>
            <p:nvSpPr>
              <p:cNvPr id="3896" name="Line 24"/>
              <p:cNvSpPr/>
              <p:nvPr/>
            </p:nvSpPr>
            <p:spPr>
              <a:xfrm>
                <a:off x="4876920" y="2582640"/>
                <a:ext cx="19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897" name="Line 25"/>
              <p:cNvSpPr/>
              <p:nvPr/>
            </p:nvSpPr>
            <p:spPr>
              <a:xfrm flipV="1">
                <a:off x="5865840" y="150120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898" name="Text Box 26"/>
              <p:cNvSpPr/>
              <p:nvPr/>
            </p:nvSpPr>
            <p:spPr>
              <a:xfrm>
                <a:off x="6405480" y="2492280"/>
                <a:ext cx="45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899" name="Text Box 27"/>
              <p:cNvSpPr/>
              <p:nvPr/>
            </p:nvSpPr>
            <p:spPr>
              <a:xfrm>
                <a:off x="5867280" y="1413000"/>
                <a:ext cx="45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900" name="Text Box 28"/>
              <p:cNvSpPr/>
              <p:nvPr/>
            </p:nvSpPr>
            <p:spPr>
              <a:xfrm>
                <a:off x="5505480" y="2492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sp>
          <p:nvSpPr>
            <p:cNvPr id="3901" name="Text Box 29"/>
            <p:cNvSpPr/>
            <p:nvPr/>
          </p:nvSpPr>
          <p:spPr>
            <a:xfrm>
              <a:off x="504720" y="2997360"/>
              <a:ext cx="134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02" name="Text Box 30"/>
            <p:cNvSpPr/>
            <p:nvPr/>
          </p:nvSpPr>
          <p:spPr>
            <a:xfrm>
              <a:off x="2664000" y="2997360"/>
              <a:ext cx="12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03" name="Text Box 31"/>
            <p:cNvSpPr/>
            <p:nvPr/>
          </p:nvSpPr>
          <p:spPr>
            <a:xfrm>
              <a:off x="4915080" y="299736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04" name="Text Box 32"/>
            <p:cNvSpPr/>
            <p:nvPr/>
          </p:nvSpPr>
          <p:spPr>
            <a:xfrm>
              <a:off x="7075440" y="2997360"/>
              <a:ext cx="80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05" name="Freeform 33"/>
            <p:cNvSpPr/>
            <p:nvPr/>
          </p:nvSpPr>
          <p:spPr>
            <a:xfrm>
              <a:off x="557280" y="2163600"/>
              <a:ext cx="1279440" cy="1081080"/>
            </a:xfrm>
            <a:custGeom>
              <a:avLst/>
              <a:gdLst/>
              <a:ahLst/>
              <a:rect l="l" t="t" r="r" b="b"/>
              <a:pathLst>
                <a:path w="1815" h="1361">
                  <a:moveTo>
                    <a:pt x="0" y="0"/>
                  </a:moveTo>
                  <a:cubicBezTo>
                    <a:pt x="302" y="680"/>
                    <a:pt x="605" y="1361"/>
                    <a:pt x="907" y="1361"/>
                  </a:cubicBezTo>
                  <a:cubicBezTo>
                    <a:pt x="1209" y="1361"/>
                    <a:pt x="1512" y="680"/>
                    <a:pt x="181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06" name="Freeform 34"/>
            <p:cNvSpPr/>
            <p:nvPr/>
          </p:nvSpPr>
          <p:spPr>
            <a:xfrm>
              <a:off x="3257640" y="2163600"/>
              <a:ext cx="1279440" cy="1081080"/>
            </a:xfrm>
            <a:custGeom>
              <a:avLst/>
              <a:gdLst/>
              <a:ahLst/>
              <a:rect l="l" t="t" r="r" b="b"/>
              <a:pathLst>
                <a:path w="1815" h="1361">
                  <a:moveTo>
                    <a:pt x="0" y="0"/>
                  </a:moveTo>
                  <a:cubicBezTo>
                    <a:pt x="302" y="680"/>
                    <a:pt x="605" y="1361"/>
                    <a:pt x="907" y="1361"/>
                  </a:cubicBezTo>
                  <a:cubicBezTo>
                    <a:pt x="1209" y="1361"/>
                    <a:pt x="1512" y="680"/>
                    <a:pt x="181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07" name="Freeform 35"/>
            <p:cNvSpPr/>
            <p:nvPr/>
          </p:nvSpPr>
          <p:spPr>
            <a:xfrm rot="10800000">
              <a:off x="4878000" y="2253960"/>
              <a:ext cx="1079640" cy="990360"/>
            </a:xfrm>
            <a:custGeom>
              <a:avLst/>
              <a:gdLst/>
              <a:ahLst/>
              <a:rect l="l" t="t" r="r" b="b"/>
              <a:pathLst>
                <a:path w="1815" h="1361">
                  <a:moveTo>
                    <a:pt x="0" y="0"/>
                  </a:moveTo>
                  <a:cubicBezTo>
                    <a:pt x="302" y="680"/>
                    <a:pt x="605" y="1361"/>
                    <a:pt x="907" y="1361"/>
                  </a:cubicBezTo>
                  <a:cubicBezTo>
                    <a:pt x="1209" y="1361"/>
                    <a:pt x="1512" y="680"/>
                    <a:pt x="181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08" name="Freeform 36"/>
            <p:cNvSpPr/>
            <p:nvPr/>
          </p:nvSpPr>
          <p:spPr>
            <a:xfrm rot="10800000">
              <a:off x="7938720" y="2253960"/>
              <a:ext cx="1079640" cy="990360"/>
            </a:xfrm>
            <a:custGeom>
              <a:avLst/>
              <a:gdLst/>
              <a:ahLst/>
              <a:rect l="l" t="t" r="r" b="b"/>
              <a:pathLst>
                <a:path w="1815" h="1361">
                  <a:moveTo>
                    <a:pt x="0" y="0"/>
                  </a:moveTo>
                  <a:cubicBezTo>
                    <a:pt x="302" y="680"/>
                    <a:pt x="605" y="1361"/>
                    <a:pt x="907" y="1361"/>
                  </a:cubicBezTo>
                  <a:cubicBezTo>
                    <a:pt x="1209" y="1361"/>
                    <a:pt x="1512" y="680"/>
                    <a:pt x="181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09" name="Text Box 37"/>
            <p:cNvSpPr/>
            <p:nvPr/>
          </p:nvSpPr>
          <p:spPr>
            <a:xfrm>
              <a:off x="1457280" y="279396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10" name="Text Box 38"/>
            <p:cNvSpPr/>
            <p:nvPr/>
          </p:nvSpPr>
          <p:spPr>
            <a:xfrm>
              <a:off x="3166920" y="28828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11" name="Text Box 39"/>
            <p:cNvSpPr/>
            <p:nvPr/>
          </p:nvSpPr>
          <p:spPr>
            <a:xfrm>
              <a:off x="5418000" y="28828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12" name="Text Box 40"/>
            <p:cNvSpPr/>
            <p:nvPr/>
          </p:nvSpPr>
          <p:spPr>
            <a:xfrm>
              <a:off x="7488360" y="28828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3913" name="Group 41"/>
          <p:cNvGrpSpPr/>
          <p:nvPr/>
        </p:nvGrpSpPr>
        <p:grpSpPr>
          <a:xfrm>
            <a:off x="0" y="4508640"/>
            <a:ext cx="8623440" cy="2165760"/>
            <a:chOff x="0" y="4508640"/>
            <a:chExt cx="8623440" cy="2165760"/>
          </a:xfrm>
        </p:grpSpPr>
        <p:grpSp>
          <p:nvGrpSpPr>
            <p:cNvPr id="3914" name="Group 42"/>
            <p:cNvGrpSpPr/>
            <p:nvPr/>
          </p:nvGrpSpPr>
          <p:grpSpPr>
            <a:xfrm>
              <a:off x="0" y="4508640"/>
              <a:ext cx="1981080" cy="2069280"/>
              <a:chOff x="0" y="4508640"/>
              <a:chExt cx="1981080" cy="2069280"/>
            </a:xfrm>
          </p:grpSpPr>
          <p:sp>
            <p:nvSpPr>
              <p:cNvPr id="3915" name="Line 43"/>
              <p:cNvSpPr/>
              <p:nvPr/>
            </p:nvSpPr>
            <p:spPr>
              <a:xfrm>
                <a:off x="0" y="5678280"/>
                <a:ext cx="19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916" name="Line 44"/>
              <p:cNvSpPr/>
              <p:nvPr/>
            </p:nvSpPr>
            <p:spPr>
              <a:xfrm flipV="1">
                <a:off x="988920" y="459684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917" name="Text Box 45"/>
              <p:cNvSpPr/>
              <p:nvPr/>
            </p:nvSpPr>
            <p:spPr>
              <a:xfrm>
                <a:off x="1528560" y="5587920"/>
                <a:ext cx="45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918" name="Text Box 46"/>
              <p:cNvSpPr/>
              <p:nvPr/>
            </p:nvSpPr>
            <p:spPr>
              <a:xfrm>
                <a:off x="990360" y="4508640"/>
                <a:ext cx="45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919" name="Text Box 47"/>
              <p:cNvSpPr/>
              <p:nvPr/>
            </p:nvSpPr>
            <p:spPr>
              <a:xfrm>
                <a:off x="628560" y="55879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grpSp>
          <p:nvGrpSpPr>
            <p:cNvPr id="3920" name="Group 48"/>
            <p:cNvGrpSpPr/>
            <p:nvPr/>
          </p:nvGrpSpPr>
          <p:grpSpPr>
            <a:xfrm>
              <a:off x="2160720" y="4508640"/>
              <a:ext cx="1981080" cy="2069280"/>
              <a:chOff x="2160720" y="4508640"/>
              <a:chExt cx="1981080" cy="2069280"/>
            </a:xfrm>
          </p:grpSpPr>
          <p:sp>
            <p:nvSpPr>
              <p:cNvPr id="3921" name="Line 49"/>
              <p:cNvSpPr/>
              <p:nvPr/>
            </p:nvSpPr>
            <p:spPr>
              <a:xfrm>
                <a:off x="2160720" y="5678280"/>
                <a:ext cx="19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922" name="Line 50"/>
              <p:cNvSpPr/>
              <p:nvPr/>
            </p:nvSpPr>
            <p:spPr>
              <a:xfrm flipV="1">
                <a:off x="3149640" y="459684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923" name="Text Box 51"/>
              <p:cNvSpPr/>
              <p:nvPr/>
            </p:nvSpPr>
            <p:spPr>
              <a:xfrm>
                <a:off x="3689280" y="5587920"/>
                <a:ext cx="45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924" name="Text Box 52"/>
              <p:cNvSpPr/>
              <p:nvPr/>
            </p:nvSpPr>
            <p:spPr>
              <a:xfrm>
                <a:off x="3151080" y="4508640"/>
                <a:ext cx="45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925" name="Text Box 53"/>
              <p:cNvSpPr/>
              <p:nvPr/>
            </p:nvSpPr>
            <p:spPr>
              <a:xfrm>
                <a:off x="2789280" y="55879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grpSp>
          <p:nvGrpSpPr>
            <p:cNvPr id="3926" name="Group 54"/>
            <p:cNvGrpSpPr/>
            <p:nvPr/>
          </p:nvGrpSpPr>
          <p:grpSpPr>
            <a:xfrm>
              <a:off x="6570720" y="4508640"/>
              <a:ext cx="1981080" cy="2069280"/>
              <a:chOff x="6570720" y="4508640"/>
              <a:chExt cx="1981080" cy="2069280"/>
            </a:xfrm>
          </p:grpSpPr>
          <p:sp>
            <p:nvSpPr>
              <p:cNvPr id="3927" name="Line 55"/>
              <p:cNvSpPr/>
              <p:nvPr/>
            </p:nvSpPr>
            <p:spPr>
              <a:xfrm>
                <a:off x="6570720" y="5678280"/>
                <a:ext cx="19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928" name="Line 56"/>
              <p:cNvSpPr/>
              <p:nvPr/>
            </p:nvSpPr>
            <p:spPr>
              <a:xfrm flipV="1">
                <a:off x="7559640" y="459684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929" name="Text Box 57"/>
              <p:cNvSpPr/>
              <p:nvPr/>
            </p:nvSpPr>
            <p:spPr>
              <a:xfrm>
                <a:off x="8099280" y="5587920"/>
                <a:ext cx="45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930" name="Text Box 58"/>
              <p:cNvSpPr/>
              <p:nvPr/>
            </p:nvSpPr>
            <p:spPr>
              <a:xfrm>
                <a:off x="7561080" y="4508640"/>
                <a:ext cx="45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931" name="Text Box 59"/>
              <p:cNvSpPr/>
              <p:nvPr/>
            </p:nvSpPr>
            <p:spPr>
              <a:xfrm>
                <a:off x="7199280" y="55879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grpSp>
          <p:nvGrpSpPr>
            <p:cNvPr id="3932" name="Group 60"/>
            <p:cNvGrpSpPr/>
            <p:nvPr/>
          </p:nvGrpSpPr>
          <p:grpSpPr>
            <a:xfrm>
              <a:off x="4410000" y="4508640"/>
              <a:ext cx="1981080" cy="2069280"/>
              <a:chOff x="4410000" y="4508640"/>
              <a:chExt cx="1981080" cy="2069280"/>
            </a:xfrm>
          </p:grpSpPr>
          <p:sp>
            <p:nvSpPr>
              <p:cNvPr id="3933" name="Line 61"/>
              <p:cNvSpPr/>
              <p:nvPr/>
            </p:nvSpPr>
            <p:spPr>
              <a:xfrm>
                <a:off x="4410000" y="5678280"/>
                <a:ext cx="19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934" name="Line 62"/>
              <p:cNvSpPr/>
              <p:nvPr/>
            </p:nvSpPr>
            <p:spPr>
              <a:xfrm flipV="1">
                <a:off x="5398920" y="459684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935" name="Text Box 63"/>
              <p:cNvSpPr/>
              <p:nvPr/>
            </p:nvSpPr>
            <p:spPr>
              <a:xfrm>
                <a:off x="5938560" y="5587920"/>
                <a:ext cx="45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936" name="Text Box 64"/>
              <p:cNvSpPr/>
              <p:nvPr/>
            </p:nvSpPr>
            <p:spPr>
              <a:xfrm>
                <a:off x="5400360" y="4508640"/>
                <a:ext cx="45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3937" name="Text Box 65"/>
              <p:cNvSpPr/>
              <p:nvPr/>
            </p:nvSpPr>
            <p:spPr>
              <a:xfrm>
                <a:off x="5038560" y="55879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sp>
          <p:nvSpPr>
            <p:cNvPr id="3938" name="Text Box 66"/>
            <p:cNvSpPr/>
            <p:nvPr/>
          </p:nvSpPr>
          <p:spPr>
            <a:xfrm>
              <a:off x="468360" y="6093000"/>
              <a:ext cx="134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39" name="Text Box 67"/>
            <p:cNvSpPr/>
            <p:nvPr/>
          </p:nvSpPr>
          <p:spPr>
            <a:xfrm>
              <a:off x="2627280" y="6093000"/>
              <a:ext cx="12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40" name="Text Box 68"/>
            <p:cNvSpPr/>
            <p:nvPr/>
          </p:nvSpPr>
          <p:spPr>
            <a:xfrm>
              <a:off x="4878360" y="609300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41" name="Text Box 69"/>
            <p:cNvSpPr/>
            <p:nvPr/>
          </p:nvSpPr>
          <p:spPr>
            <a:xfrm>
              <a:off x="7039080" y="6093000"/>
              <a:ext cx="80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42" name="Freeform 70"/>
            <p:cNvSpPr/>
            <p:nvPr/>
          </p:nvSpPr>
          <p:spPr>
            <a:xfrm rot="10800000">
              <a:off x="5111280" y="4957560"/>
              <a:ext cx="1079640" cy="990360"/>
            </a:xfrm>
            <a:custGeom>
              <a:avLst/>
              <a:gdLst/>
              <a:ahLst/>
              <a:rect l="l" t="t" r="r" b="b"/>
              <a:pathLst>
                <a:path w="1815" h="1361">
                  <a:moveTo>
                    <a:pt x="0" y="0"/>
                  </a:moveTo>
                  <a:cubicBezTo>
                    <a:pt x="302" y="680"/>
                    <a:pt x="605" y="1361"/>
                    <a:pt x="907" y="1361"/>
                  </a:cubicBezTo>
                  <a:cubicBezTo>
                    <a:pt x="1209" y="1361"/>
                    <a:pt x="1512" y="680"/>
                    <a:pt x="181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43" name="Freeform 71"/>
            <p:cNvSpPr/>
            <p:nvPr/>
          </p:nvSpPr>
          <p:spPr>
            <a:xfrm rot="10800000">
              <a:off x="701280" y="5048280"/>
              <a:ext cx="1079640" cy="990720"/>
            </a:xfrm>
            <a:custGeom>
              <a:avLst/>
              <a:gdLst/>
              <a:ahLst/>
              <a:rect l="l" t="t" r="r" b="b"/>
              <a:pathLst>
                <a:path w="1815" h="1361">
                  <a:moveTo>
                    <a:pt x="0" y="0"/>
                  </a:moveTo>
                  <a:cubicBezTo>
                    <a:pt x="302" y="680"/>
                    <a:pt x="605" y="1361"/>
                    <a:pt x="907" y="1361"/>
                  </a:cubicBezTo>
                  <a:cubicBezTo>
                    <a:pt x="1209" y="1361"/>
                    <a:pt x="1512" y="680"/>
                    <a:pt x="181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44" name="Freeform 72"/>
            <p:cNvSpPr/>
            <p:nvPr/>
          </p:nvSpPr>
          <p:spPr>
            <a:xfrm>
              <a:off x="7093080" y="5138640"/>
              <a:ext cx="1279440" cy="1081080"/>
            </a:xfrm>
            <a:custGeom>
              <a:avLst/>
              <a:gdLst/>
              <a:ahLst/>
              <a:rect l="l" t="t" r="r" b="b"/>
              <a:pathLst>
                <a:path w="1815" h="1361">
                  <a:moveTo>
                    <a:pt x="0" y="0"/>
                  </a:moveTo>
                  <a:cubicBezTo>
                    <a:pt x="302" y="680"/>
                    <a:pt x="605" y="1361"/>
                    <a:pt x="907" y="1361"/>
                  </a:cubicBezTo>
                  <a:cubicBezTo>
                    <a:pt x="1209" y="1361"/>
                    <a:pt x="1512" y="680"/>
                    <a:pt x="181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45" name="Freeform 73"/>
            <p:cNvSpPr/>
            <p:nvPr/>
          </p:nvSpPr>
          <p:spPr>
            <a:xfrm>
              <a:off x="2951280" y="4869000"/>
              <a:ext cx="1279440" cy="1081080"/>
            </a:xfrm>
            <a:custGeom>
              <a:avLst/>
              <a:gdLst/>
              <a:ahLst/>
              <a:rect l="l" t="t" r="r" b="b"/>
              <a:pathLst>
                <a:path w="1815" h="1361">
                  <a:moveTo>
                    <a:pt x="0" y="0"/>
                  </a:moveTo>
                  <a:cubicBezTo>
                    <a:pt x="302" y="680"/>
                    <a:pt x="605" y="1361"/>
                    <a:pt x="907" y="1361"/>
                  </a:cubicBezTo>
                  <a:cubicBezTo>
                    <a:pt x="1209" y="1361"/>
                    <a:pt x="1512" y="680"/>
                    <a:pt x="181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46" name="Line 74"/>
            <p:cNvSpPr/>
            <p:nvPr/>
          </p:nvSpPr>
          <p:spPr>
            <a:xfrm flipV="1">
              <a:off x="468360" y="5065200"/>
              <a:ext cx="134928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47" name="Line 75"/>
            <p:cNvSpPr/>
            <p:nvPr/>
          </p:nvSpPr>
          <p:spPr>
            <a:xfrm>
              <a:off x="5111640" y="5048280"/>
              <a:ext cx="1351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48" name="Line 76"/>
            <p:cNvSpPr/>
            <p:nvPr/>
          </p:nvSpPr>
          <p:spPr>
            <a:xfrm flipV="1">
              <a:off x="7182000" y="5048280"/>
              <a:ext cx="14414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949" name="Line 77"/>
            <p:cNvSpPr/>
            <p:nvPr/>
          </p:nvSpPr>
          <p:spPr>
            <a:xfrm>
              <a:off x="2681280" y="5138640"/>
              <a:ext cx="153036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3950" name="Text Box 78">
            <a:hlinkClick r:id="rId1" action="ppaction://hlinksldjump"/>
          </p:cNvPr>
          <p:cNvSpPr/>
          <p:nvPr/>
        </p:nvSpPr>
        <p:spPr>
          <a:xfrm>
            <a:off x="468360" y="1413000"/>
            <a:ext cx="117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51" name="Text Box 79">
            <a:hlinkClick r:id="rId2" action="ppaction://hlinksldjump"/>
          </p:cNvPr>
          <p:cNvSpPr/>
          <p:nvPr/>
        </p:nvSpPr>
        <p:spPr>
          <a:xfrm>
            <a:off x="7723080" y="3860640"/>
            <a:ext cx="117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2" name="Text Box 4"/>
          <p:cNvSpPr/>
          <p:nvPr/>
        </p:nvSpPr>
        <p:spPr>
          <a:xfrm>
            <a:off x="1728720" y="4086360"/>
            <a:ext cx="74152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衷心感谢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亲爱的老师和同学们！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祝福您们开心每一天！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53" name="Text Box 5"/>
          <p:cNvSpPr/>
          <p:nvPr/>
        </p:nvSpPr>
        <p:spPr>
          <a:xfrm>
            <a:off x="2987640" y="915840"/>
            <a:ext cx="504036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再见，作业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14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习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6.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Text Box 2"/>
          <p:cNvSpPr/>
          <p:nvPr/>
        </p:nvSpPr>
        <p:spPr>
          <a:xfrm>
            <a:off x="468360" y="189000"/>
            <a:ext cx="43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归纳知识点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55" name="Text Box 3"/>
          <p:cNvSpPr/>
          <p:nvPr/>
        </p:nvSpPr>
        <p:spPr>
          <a:xfrm>
            <a:off x="644400" y="863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抛物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bx+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符号问题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56" name="Text Box 4"/>
          <p:cNvSpPr/>
          <p:nvPr/>
        </p:nvSpPr>
        <p:spPr>
          <a:xfrm>
            <a:off x="324000" y="1557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符号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57" name="Text Box 5"/>
          <p:cNvSpPr/>
          <p:nvPr/>
        </p:nvSpPr>
        <p:spPr>
          <a:xfrm>
            <a:off x="2916360" y="1557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抛物线的开口方向确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58" name="Text Box 6"/>
          <p:cNvSpPr/>
          <p:nvPr/>
        </p:nvSpPr>
        <p:spPr>
          <a:xfrm>
            <a:off x="1692360" y="2205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口向上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59" name="Text Box 7"/>
          <p:cNvSpPr/>
          <p:nvPr/>
        </p:nvSpPr>
        <p:spPr>
          <a:xfrm>
            <a:off x="5086440" y="23335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0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60" name="Text Box 8"/>
          <p:cNvSpPr/>
          <p:nvPr/>
        </p:nvSpPr>
        <p:spPr>
          <a:xfrm>
            <a:off x="1692360" y="2781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口向下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61" name="Text Box 9"/>
          <p:cNvSpPr/>
          <p:nvPr/>
        </p:nvSpPr>
        <p:spPr>
          <a:xfrm>
            <a:off x="5086440" y="2781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0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62" name="AutoShape 10"/>
          <p:cNvSpPr/>
          <p:nvPr/>
        </p:nvSpPr>
        <p:spPr>
          <a:xfrm>
            <a:off x="3790800" y="2419200"/>
            <a:ext cx="1152720" cy="289080"/>
          </a:xfrm>
          <a:prstGeom prst="leftRightArrow">
            <a:avLst>
              <a:gd name="adj1" fmla="val 50000"/>
              <a:gd name="adj2" fmla="val 79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63" name="AutoShape 11"/>
          <p:cNvSpPr/>
          <p:nvPr/>
        </p:nvSpPr>
        <p:spPr>
          <a:xfrm>
            <a:off x="3790800" y="2924280"/>
            <a:ext cx="1152720" cy="288720"/>
          </a:xfrm>
          <a:prstGeom prst="leftRightArrow">
            <a:avLst>
              <a:gd name="adj1" fmla="val 50000"/>
              <a:gd name="adj2" fmla="val 794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64" name="Text Box 12"/>
          <p:cNvSpPr/>
          <p:nvPr/>
        </p:nvSpPr>
        <p:spPr>
          <a:xfrm>
            <a:off x="312840" y="3414600"/>
            <a:ext cx="44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符号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65" name="Text Box 13"/>
          <p:cNvSpPr/>
          <p:nvPr/>
        </p:nvSpPr>
        <p:spPr>
          <a:xfrm>
            <a:off x="2916360" y="335772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抛物线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的交点位置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66" name="Text Box 14"/>
          <p:cNvSpPr/>
          <p:nvPr/>
        </p:nvSpPr>
        <p:spPr>
          <a:xfrm>
            <a:off x="1338120" y="4078440"/>
            <a:ext cx="37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点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上方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67" name="Text Box 15"/>
          <p:cNvSpPr/>
          <p:nvPr/>
        </p:nvSpPr>
        <p:spPr>
          <a:xfrm>
            <a:off x="5580000" y="4076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0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68" name="Text Box 16"/>
          <p:cNvSpPr/>
          <p:nvPr/>
        </p:nvSpPr>
        <p:spPr>
          <a:xfrm>
            <a:off x="1338120" y="4799160"/>
            <a:ext cx="37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点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下方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69" name="Text Box 17"/>
          <p:cNvSpPr/>
          <p:nvPr/>
        </p:nvSpPr>
        <p:spPr>
          <a:xfrm>
            <a:off x="5553000" y="479916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0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70" name="Text Box 18"/>
          <p:cNvSpPr/>
          <p:nvPr/>
        </p:nvSpPr>
        <p:spPr>
          <a:xfrm>
            <a:off x="1338120" y="55180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过坐标原点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71" name="Text Box 19"/>
          <p:cNvSpPr/>
          <p:nvPr/>
        </p:nvSpPr>
        <p:spPr>
          <a:xfrm>
            <a:off x="5538960" y="5530680"/>
            <a:ext cx="12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=0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72" name="AutoShape 20"/>
          <p:cNvSpPr/>
          <p:nvPr/>
        </p:nvSpPr>
        <p:spPr>
          <a:xfrm>
            <a:off x="4130640" y="4248000"/>
            <a:ext cx="1152720" cy="289080"/>
          </a:xfrm>
          <a:prstGeom prst="leftRightArrow">
            <a:avLst>
              <a:gd name="adj1" fmla="val 50000"/>
              <a:gd name="adj2" fmla="val 79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73" name="AutoShape 21"/>
          <p:cNvSpPr/>
          <p:nvPr/>
        </p:nvSpPr>
        <p:spPr>
          <a:xfrm>
            <a:off x="4130640" y="4956120"/>
            <a:ext cx="1152720" cy="289080"/>
          </a:xfrm>
          <a:prstGeom prst="leftRightArrow">
            <a:avLst>
              <a:gd name="adj1" fmla="val 50000"/>
              <a:gd name="adj2" fmla="val 79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74" name="AutoShape 22"/>
          <p:cNvSpPr/>
          <p:nvPr/>
        </p:nvSpPr>
        <p:spPr>
          <a:xfrm>
            <a:off x="4118040" y="5707080"/>
            <a:ext cx="1152360" cy="289080"/>
          </a:xfrm>
          <a:prstGeom prst="leftRightArrow">
            <a:avLst>
              <a:gd name="adj1" fmla="val 50000"/>
              <a:gd name="adj2" fmla="val 793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75" name="Text Box 23"/>
          <p:cNvSpPr/>
          <p:nvPr/>
        </p:nvSpPr>
        <p:spPr>
          <a:xfrm>
            <a:off x="7093080" y="112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演示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3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3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3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3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3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3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3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3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00"/>
                                        <p:tgtEl>
                                          <p:spTgt spid="3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3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500"/>
                                        <p:tgtEl>
                                          <p:spTgt spid="3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3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00"/>
                                        <p:tgtEl>
                                          <p:spTgt spid="3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00"/>
                                        <p:tgtEl>
                                          <p:spTgt spid="3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500"/>
                                        <p:tgtEl>
                                          <p:spTgt spid="3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3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500"/>
                                        <p:tgtEl>
                                          <p:spTgt spid="3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00"/>
                                        <p:tgtEl>
                                          <p:spTgt spid="3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3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3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3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3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3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3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3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3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00"/>
                                        <p:tgtEl>
                                          <p:spTgt spid="3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3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/>
                                        <p:tgtEl>
                                          <p:spTgt spid="3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9" dur="1000"/>
                                        <p:tgtEl>
                                          <p:spTgt spid="3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2" dur="1000"/>
                                        <p:tgtEl>
                                          <p:spTgt spid="3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/>
                                        <p:tgtEl>
                                          <p:spTgt spid="3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4" dur="1000"/>
                                        <p:tgtEl>
                                          <p:spTgt spid="3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1000"/>
                                        <p:tgtEl>
                                          <p:spTgt spid="3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/>
                                        <p:tgtEl>
                                          <p:spTgt spid="3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9" dur="1000"/>
                                        <p:tgtEl>
                                          <p:spTgt spid="3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3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/>
                                        <p:tgtEl>
                                          <p:spTgt spid="3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4" dur="1000"/>
                                        <p:tgtEl>
                                          <p:spTgt spid="3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3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/>
                                        <p:tgtEl>
                                          <p:spTgt spid="3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9" dur="1000"/>
                                        <p:tgtEl>
                                          <p:spTgt spid="3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2" dur="1000"/>
                                        <p:tgtEl>
                                          <p:spTgt spid="3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/>
                                        <p:tgtEl>
                                          <p:spTgt spid="3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4" dur="1000"/>
                                        <p:tgtEl>
                                          <p:spTgt spid="3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7" dur="1000"/>
                                        <p:tgtEl>
                                          <p:spTgt spid="3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/>
                                        <p:tgtEl>
                                          <p:spTgt spid="3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9" dur="1000"/>
                                        <p:tgtEl>
                                          <p:spTgt spid="3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2" dur="1000"/>
                                        <p:tgtEl>
                                          <p:spTgt spid="3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/>
                                        <p:tgtEl>
                                          <p:spTgt spid="3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4" dur="1000"/>
                                        <p:tgtEl>
                                          <p:spTgt spid="3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7" dur="1000"/>
                                        <p:tgtEl>
                                          <p:spTgt spid="3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/>
                                        <p:tgtEl>
                                          <p:spTgt spid="3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9" dur="1000"/>
                                        <p:tgtEl>
                                          <p:spTgt spid="3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1000"/>
                                        <p:tgtEl>
                                          <p:spTgt spid="3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/>
                                        <p:tgtEl>
                                          <p:spTgt spid="3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4" dur="1000"/>
                                        <p:tgtEl>
                                          <p:spTgt spid="3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7" dur="1000"/>
                                        <p:tgtEl>
                                          <p:spTgt spid="3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/>
                                        <p:tgtEl>
                                          <p:spTgt spid="3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9" dur="1000"/>
                                        <p:tgtEl>
                                          <p:spTgt spid="3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2" dur="1000"/>
                                        <p:tgtEl>
                                          <p:spTgt spid="3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/>
                                        <p:tgtEl>
                                          <p:spTgt spid="3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4" dur="1000"/>
                                        <p:tgtEl>
                                          <p:spTgt spid="3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7" dur="1000"/>
                                        <p:tgtEl>
                                          <p:spTgt spid="3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/>
                                        <p:tgtEl>
                                          <p:spTgt spid="3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9" dur="1000"/>
                                        <p:tgtEl>
                                          <p:spTgt spid="3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1000"/>
                                        <p:tgtEl>
                                          <p:spTgt spid="3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/>
                                        <p:tgtEl>
                                          <p:spTgt spid="3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4" dur="1000"/>
                                        <p:tgtEl>
                                          <p:spTgt spid="3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7" dur="1000"/>
                                        <p:tgtEl>
                                          <p:spTgt spid="3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/>
                                        <p:tgtEl>
                                          <p:spTgt spid="3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9" dur="1000"/>
                                        <p:tgtEl>
                                          <p:spTgt spid="3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2" dur="1000"/>
                                        <p:tgtEl>
                                          <p:spTgt spid="3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/>
                                        <p:tgtEl>
                                          <p:spTgt spid="3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4" dur="1000"/>
                                        <p:tgtEl>
                                          <p:spTgt spid="3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7" dur="1000"/>
                                        <p:tgtEl>
                                          <p:spTgt spid="3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/>
                                        <p:tgtEl>
                                          <p:spTgt spid="3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9" dur="1000"/>
                                        <p:tgtEl>
                                          <p:spTgt spid="3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2" dur="1000"/>
                                        <p:tgtEl>
                                          <p:spTgt spid="3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/>
                                        <p:tgtEl>
                                          <p:spTgt spid="3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4" dur="1000"/>
                                        <p:tgtEl>
                                          <p:spTgt spid="3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7" dur="1000"/>
                                        <p:tgtEl>
                                          <p:spTgt spid="3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3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9" dur="1000"/>
                                        <p:tgtEl>
                                          <p:spTgt spid="3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2" dur="1000"/>
                                        <p:tgtEl>
                                          <p:spTgt spid="3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/>
                                        <p:tgtEl>
                                          <p:spTgt spid="3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4" dur="1000"/>
                                        <p:tgtEl>
                                          <p:spTgt spid="3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Text Box 2"/>
          <p:cNvSpPr/>
          <p:nvPr/>
        </p:nvSpPr>
        <p:spPr>
          <a:xfrm>
            <a:off x="0" y="765000"/>
            <a:ext cx="430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符号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77" name="Text Box 3"/>
          <p:cNvSpPr/>
          <p:nvPr/>
        </p:nvSpPr>
        <p:spPr>
          <a:xfrm>
            <a:off x="24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对称轴的位置确定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78" name="Text Box 4"/>
          <p:cNvSpPr/>
          <p:nvPr/>
        </p:nvSpPr>
        <p:spPr>
          <a:xfrm>
            <a:off x="1017720" y="1413000"/>
            <a:ext cx="38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称轴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左侧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79" name="Text Box 5"/>
          <p:cNvSpPr/>
          <p:nvPr/>
        </p:nvSpPr>
        <p:spPr>
          <a:xfrm>
            <a:off x="6008760" y="1397160"/>
            <a:ext cx="20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号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80" name="Text Box 6"/>
          <p:cNvSpPr/>
          <p:nvPr/>
        </p:nvSpPr>
        <p:spPr>
          <a:xfrm>
            <a:off x="1017720" y="2060640"/>
            <a:ext cx="38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称轴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右侧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81" name="Text Box 7"/>
          <p:cNvSpPr/>
          <p:nvPr/>
        </p:nvSpPr>
        <p:spPr>
          <a:xfrm>
            <a:off x="6008760" y="204624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异号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82" name="Text Box 8"/>
          <p:cNvSpPr/>
          <p:nvPr/>
        </p:nvSpPr>
        <p:spPr>
          <a:xfrm>
            <a:off x="1017720" y="2637000"/>
            <a:ext cx="38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称轴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83" name="Text Box 9"/>
          <p:cNvSpPr/>
          <p:nvPr/>
        </p:nvSpPr>
        <p:spPr>
          <a:xfrm>
            <a:off x="6118200" y="26938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=0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84" name="Text Box 10"/>
          <p:cNvSpPr/>
          <p:nvPr/>
        </p:nvSpPr>
        <p:spPr>
          <a:xfrm>
            <a:off x="0" y="3357720"/>
            <a:ext cx="56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4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符号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85" name="Text Box 11"/>
          <p:cNvSpPr/>
          <p:nvPr/>
        </p:nvSpPr>
        <p:spPr>
          <a:xfrm>
            <a:off x="1012680" y="39196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抛物线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的交点个数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86" name="Text Box 12"/>
          <p:cNvSpPr/>
          <p:nvPr/>
        </p:nvSpPr>
        <p:spPr>
          <a:xfrm>
            <a:off x="946080" y="47577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有两个交点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87" name="Text Box 13"/>
          <p:cNvSpPr/>
          <p:nvPr/>
        </p:nvSpPr>
        <p:spPr>
          <a:xfrm>
            <a:off x="5594400" y="4813200"/>
            <a:ext cx="20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4a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0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88" name="Text Box 14"/>
          <p:cNvSpPr/>
          <p:nvPr/>
        </p:nvSpPr>
        <p:spPr>
          <a:xfrm>
            <a:off x="946080" y="54054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有一个交点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89" name="Text Box 15"/>
          <p:cNvSpPr/>
          <p:nvPr/>
        </p:nvSpPr>
        <p:spPr>
          <a:xfrm>
            <a:off x="5594400" y="538956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4a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0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90" name="Text Box 16"/>
          <p:cNvSpPr/>
          <p:nvPr/>
        </p:nvSpPr>
        <p:spPr>
          <a:xfrm>
            <a:off x="946080" y="59817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无交点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91" name="Text Box 17"/>
          <p:cNvSpPr/>
          <p:nvPr/>
        </p:nvSpPr>
        <p:spPr>
          <a:xfrm>
            <a:off x="5522760" y="605304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4a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0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92" name="AutoShape 18"/>
          <p:cNvSpPr/>
          <p:nvPr/>
        </p:nvSpPr>
        <p:spPr>
          <a:xfrm>
            <a:off x="4751280" y="1557360"/>
            <a:ext cx="1152720" cy="289080"/>
          </a:xfrm>
          <a:prstGeom prst="leftRightArrow">
            <a:avLst>
              <a:gd name="adj1" fmla="val 50000"/>
              <a:gd name="adj2" fmla="val 79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93" name="AutoShape 19"/>
          <p:cNvSpPr/>
          <p:nvPr/>
        </p:nvSpPr>
        <p:spPr>
          <a:xfrm>
            <a:off x="4751280" y="2205000"/>
            <a:ext cx="1152720" cy="289080"/>
          </a:xfrm>
          <a:prstGeom prst="leftRightArrow">
            <a:avLst>
              <a:gd name="adj1" fmla="val 50000"/>
              <a:gd name="adj2" fmla="val 79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94" name="AutoShape 20"/>
          <p:cNvSpPr/>
          <p:nvPr/>
        </p:nvSpPr>
        <p:spPr>
          <a:xfrm>
            <a:off x="4751280" y="2781360"/>
            <a:ext cx="1152720" cy="288720"/>
          </a:xfrm>
          <a:prstGeom prst="leftRightArrow">
            <a:avLst>
              <a:gd name="adj1" fmla="val 50000"/>
              <a:gd name="adj2" fmla="val 794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95" name="AutoShape 21"/>
          <p:cNvSpPr/>
          <p:nvPr/>
        </p:nvSpPr>
        <p:spPr>
          <a:xfrm>
            <a:off x="4370400" y="4971960"/>
            <a:ext cx="1152360" cy="289080"/>
          </a:xfrm>
          <a:prstGeom prst="leftRightArrow">
            <a:avLst>
              <a:gd name="adj1" fmla="val 50000"/>
              <a:gd name="adj2" fmla="val 793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96" name="AutoShape 22"/>
          <p:cNvSpPr/>
          <p:nvPr/>
        </p:nvSpPr>
        <p:spPr>
          <a:xfrm>
            <a:off x="4349880" y="5570640"/>
            <a:ext cx="1152360" cy="288720"/>
          </a:xfrm>
          <a:prstGeom prst="leftRightArrow">
            <a:avLst>
              <a:gd name="adj1" fmla="val 50000"/>
              <a:gd name="adj2" fmla="val 794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97" name="AutoShape 23"/>
          <p:cNvSpPr/>
          <p:nvPr/>
        </p:nvSpPr>
        <p:spPr>
          <a:xfrm>
            <a:off x="4330800" y="6203880"/>
            <a:ext cx="1152360" cy="289080"/>
          </a:xfrm>
          <a:prstGeom prst="leftRightArrow">
            <a:avLst>
              <a:gd name="adj1" fmla="val 50000"/>
              <a:gd name="adj2" fmla="val 793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98" name="Text Box 24"/>
          <p:cNvSpPr/>
          <p:nvPr/>
        </p:nvSpPr>
        <p:spPr>
          <a:xfrm>
            <a:off x="182520" y="18900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归纳知识点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99" name="Rectangle 2"/>
          <p:cNvSpPr/>
          <p:nvPr/>
        </p:nvSpPr>
        <p:spPr>
          <a:xfrm>
            <a:off x="2055960" y="-4284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抛物线位置与系数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的关系：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3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500"/>
                                        <p:tgtEl>
                                          <p:spTgt spid="3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2" dur="500"/>
                                        <p:tgtEl>
                                          <p:spTgt spid="3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00"/>
                                        <p:tgtEl>
                                          <p:spTgt spid="3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8" dur="500"/>
                                        <p:tgtEl>
                                          <p:spTgt spid="3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1" dur="500"/>
                                        <p:tgtEl>
                                          <p:spTgt spid="3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00"/>
                                        <p:tgtEl>
                                          <p:spTgt spid="3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00"/>
                                        <p:tgtEl>
                                          <p:spTgt spid="3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00"/>
                                        <p:tgtEl>
                                          <p:spTgt spid="3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3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00"/>
                                        <p:tgtEl>
                                          <p:spTgt spid="3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500"/>
                                        <p:tgtEl>
                                          <p:spTgt spid="3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500"/>
                                        <p:tgtEl>
                                          <p:spTgt spid="3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00"/>
                                        <p:tgtEl>
                                          <p:spTgt spid="3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00"/>
                                        <p:tgtEl>
                                          <p:spTgt spid="3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00"/>
                                        <p:tgtEl>
                                          <p:spTgt spid="3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500"/>
                                        <p:tgtEl>
                                          <p:spTgt spid="3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00"/>
                                        <p:tgtEl>
                                          <p:spTgt spid="3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00"/>
                                        <p:tgtEl>
                                          <p:spTgt spid="3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500"/>
                                        <p:tgtEl>
                                          <p:spTgt spid="3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3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6" name="Picture 24" descr="u=111629297,836824017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7" name="Text Box 13"/>
          <p:cNvSpPr/>
          <p:nvPr/>
        </p:nvSpPr>
        <p:spPr>
          <a:xfrm>
            <a:off x="1543320" y="1773360"/>
            <a:ext cx="642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2000"/>
                </a:solidFill>
                <a:latin typeface="Arial"/>
              </a:rPr>
              <a:t>抛物线</a:t>
            </a:r>
            <a:r>
              <a:rPr b="1" lang="en-US" sz="4400" spc="-1" strike="noStrike">
                <a:solidFill>
                  <a:srgbClr val="402000"/>
                </a:solidFill>
                <a:latin typeface="Arial"/>
              </a:rPr>
              <a:t>y=a(x-h)</a:t>
            </a:r>
            <a:r>
              <a:rPr b="1" lang="en-US" sz="4400" spc="-1" strike="noStrike" baseline="30000">
                <a:solidFill>
                  <a:srgbClr val="402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402000"/>
                </a:solidFill>
                <a:latin typeface="Arial"/>
              </a:rPr>
              <a:t>+k</a:t>
            </a:r>
            <a:r>
              <a:rPr b="1" lang="zh-CN" sz="4400" spc="-1" strike="noStrike">
                <a:solidFill>
                  <a:srgbClr val="402000"/>
                </a:solidFill>
                <a:latin typeface="Arial"/>
              </a:rPr>
              <a:t>有如下特点</a:t>
            </a:r>
            <a:r>
              <a:rPr b="1" lang="en-US" sz="4400" spc="-1" strike="noStrike">
                <a:solidFill>
                  <a:srgbClr val="402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18" name="Text Box 14"/>
          <p:cNvSpPr/>
          <p:nvPr/>
        </p:nvSpPr>
        <p:spPr>
          <a:xfrm>
            <a:off x="1573560" y="2565360"/>
            <a:ext cx="483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当</a:t>
            </a: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a﹥0</a:t>
            </a: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时，开口</a:t>
            </a:r>
            <a:r>
              <a:rPr b="1" lang="zh-CN" sz="3200" spc="-1" strike="noStrike" u="sng">
                <a:solidFill>
                  <a:srgbClr val="402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402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当</a:t>
            </a: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402000"/>
                </a:solidFill>
                <a:latin typeface="Arial"/>
              </a:rPr>
              <a:t>﹤</a:t>
            </a: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时，开口</a:t>
            </a:r>
            <a:r>
              <a:rPr b="1" lang="zh-CN" sz="3200" spc="-1" strike="noStrike" u="sng">
                <a:solidFill>
                  <a:srgbClr val="402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402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19" name="Text Box 15"/>
          <p:cNvSpPr/>
          <p:nvPr/>
        </p:nvSpPr>
        <p:spPr>
          <a:xfrm>
            <a:off x="5003640" y="2565360"/>
            <a:ext cx="17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向上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20" name="Text Box 16"/>
          <p:cNvSpPr/>
          <p:nvPr/>
        </p:nvSpPr>
        <p:spPr>
          <a:xfrm>
            <a:off x="5003640" y="3213000"/>
            <a:ext cx="24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向下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21" name="Text Box 17"/>
          <p:cNvSpPr/>
          <p:nvPr/>
        </p:nvSpPr>
        <p:spPr>
          <a:xfrm>
            <a:off x="1116000" y="39337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402000"/>
                </a:solidFill>
                <a:uFillTx/>
                <a:latin typeface="Arial"/>
              </a:rPr>
              <a:t> </a:t>
            </a:r>
            <a:r>
              <a:rPr b="1" lang="zh-CN" sz="1800" spc="-1" strike="noStrike" u="sng">
                <a:solidFill>
                  <a:srgbClr val="402000"/>
                </a:solidFill>
                <a:uFillTx/>
                <a:latin typeface="Arial"/>
              </a:rPr>
              <a:t>                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22" name="Text Box 18"/>
          <p:cNvSpPr/>
          <p:nvPr/>
        </p:nvSpPr>
        <p:spPr>
          <a:xfrm>
            <a:off x="1438560" y="3789360"/>
            <a:ext cx="380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对称轴是</a:t>
            </a:r>
            <a:r>
              <a:rPr b="1" lang="zh-CN" sz="4800" spc="-1" strike="noStrike" u="sng">
                <a:solidFill>
                  <a:srgbClr val="402000"/>
                </a:solidFill>
                <a:uFillTx/>
                <a:latin typeface="Arial"/>
              </a:rPr>
              <a:t> </a:t>
            </a:r>
            <a:r>
              <a:rPr b="1" lang="zh-CN" sz="2800" spc="-1" strike="noStrike" u="sng">
                <a:solidFill>
                  <a:srgbClr val="402000"/>
                </a:solidFill>
                <a:uFillTx/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23" name="Text Box 19"/>
          <p:cNvSpPr/>
          <p:nvPr/>
        </p:nvSpPr>
        <p:spPr>
          <a:xfrm>
            <a:off x="1548720" y="4653000"/>
            <a:ext cx="372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顶点坐标是</a:t>
            </a:r>
            <a:r>
              <a:rPr b="1" lang="zh-CN" sz="2800" spc="-1" strike="noStrike" u="sng">
                <a:solidFill>
                  <a:srgbClr val="402000"/>
                </a:solidFill>
                <a:uFillTx/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24" name="Text Box 20"/>
          <p:cNvSpPr/>
          <p:nvPr/>
        </p:nvSpPr>
        <p:spPr>
          <a:xfrm>
            <a:off x="3534120" y="3860640"/>
            <a:ext cx="15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直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=h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25" name="Text Box 21"/>
          <p:cNvSpPr/>
          <p:nvPr/>
        </p:nvSpPr>
        <p:spPr>
          <a:xfrm>
            <a:off x="3996360" y="4508640"/>
            <a:ext cx="136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h,k)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26" name="AutoShape 22"/>
          <p:cNvSpPr/>
          <p:nvPr/>
        </p:nvSpPr>
        <p:spPr>
          <a:xfrm>
            <a:off x="250920" y="260280"/>
            <a:ext cx="2592360" cy="576360"/>
          </a:xfrm>
          <a:prstGeom prst="flowChartAlternateProcess">
            <a:avLst/>
          </a:prstGeom>
          <a:gradFill rotWithShape="0">
            <a:gsLst>
              <a:gs pos="0">
                <a:srgbClr val="00cc00"/>
              </a:gs>
              <a:gs pos="50000">
                <a:srgbClr val="e7fae7"/>
              </a:gs>
              <a:gs pos="100000">
                <a:srgbClr val="00cc00"/>
              </a:gs>
            </a:gsLst>
            <a:lin ang="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27" name="WordArt 23"/>
          <p:cNvSpPr txBox="1"/>
          <p:nvPr/>
        </p:nvSpPr>
        <p:spPr>
          <a:xfrm>
            <a:off x="324000" y="333360"/>
            <a:ext cx="237636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知识回顾：</a:t>
            </a:r>
            <a:endParaRPr b="1" lang="en-US" sz="9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0" name="Text Box 2"/>
          <p:cNvSpPr/>
          <p:nvPr/>
        </p:nvSpPr>
        <p:spPr>
          <a:xfrm>
            <a:off x="324000" y="4748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归纳知识点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01" name="Text Box 3"/>
          <p:cNvSpPr/>
          <p:nvPr/>
        </p:nvSpPr>
        <p:spPr>
          <a:xfrm>
            <a:off x="293760" y="955800"/>
            <a:ext cx="55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抛物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bx+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符号问题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02" name="Text Box 4"/>
          <p:cNvSpPr/>
          <p:nvPr/>
        </p:nvSpPr>
        <p:spPr>
          <a:xfrm>
            <a:off x="0" y="1428840"/>
            <a:ext cx="55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+b+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符号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03" name="Text Box 5"/>
          <p:cNvSpPr/>
          <p:nvPr/>
        </p:nvSpPr>
        <p:spPr>
          <a:xfrm>
            <a:off x="787320" y="1857240"/>
            <a:ext cx="608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=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抛物线上的点的位置确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04" name="Text Box 6"/>
          <p:cNvSpPr/>
          <p:nvPr/>
        </p:nvSpPr>
        <p:spPr>
          <a:xfrm>
            <a:off x="0" y="26226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b+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符号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05" name="Text Box 7"/>
          <p:cNvSpPr/>
          <p:nvPr/>
        </p:nvSpPr>
        <p:spPr>
          <a:xfrm>
            <a:off x="833400" y="3067200"/>
            <a:ext cx="59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=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抛物线上的点的位置确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06" name="Text Box 8"/>
          <p:cNvSpPr/>
          <p:nvPr/>
        </p:nvSpPr>
        <p:spPr>
          <a:xfrm>
            <a:off x="1116000" y="378612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隶书"/>
              </a:rPr>
              <a:t>你还可想到啥？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6" dur="500"/>
                                        <p:tgtEl>
                                          <p:spTgt spid="4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500"/>
                                        <p:tgtEl>
                                          <p:spTgt spid="4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6" dur="500"/>
                                        <p:tgtEl>
                                          <p:spTgt spid="4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1" dur="500"/>
                                        <p:tgtEl>
                                          <p:spTgt spid="40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2" dur="500"/>
                                        <p:tgtEl>
                                          <p:spTgt spid="40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3" dur="500"/>
                                        <p:tgtEl>
                                          <p:spTgt spid="40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7" dur="500"/>
                                        <p:tgtEl>
                                          <p:spTgt spid="4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/>
                                        <p:tgtEl>
                                          <p:spTgt spid="4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1" dur="500"/>
                                        <p:tgtEl>
                                          <p:spTgt spid="4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/>
                                        <p:tgtEl>
                                          <p:spTgt spid="4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5" dur="500"/>
                                        <p:tgtEl>
                                          <p:spTgt spid="4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/>
                                        <p:tgtEl>
                                          <p:spTgt spid="4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9" dur="500"/>
                                        <p:tgtEl>
                                          <p:spTgt spid="4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/>
                                        <p:tgtEl>
                                          <p:spTgt spid="4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3" dur="500"/>
                                        <p:tgtEl>
                                          <p:spTgt spid="4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/>
                                        <p:tgtEl>
                                          <p:spTgt spid="4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7" dur="500"/>
                                        <p:tgtEl>
                                          <p:spTgt spid="4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/>
                                        <p:tgtEl>
                                          <p:spTgt spid="4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xit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351" dur="3000"/>
                                        <p:tgtEl>
                                          <p:spTgt spid="4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3000"/>
                                        <p:tgtEl>
                                          <p:spTgt spid="4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7" name="Rectangle 2"/>
          <p:cNvSpPr/>
          <p:nvPr/>
        </p:nvSpPr>
        <p:spPr>
          <a:xfrm>
            <a:off x="179280" y="836640"/>
            <a:ext cx="8280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如图是二次函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图象，判断以下各式的值是正值还是负值．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5)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7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4008" name="Picture 3" descr=""/>
          <p:cNvPicPr/>
          <p:nvPr/>
        </p:nvPicPr>
        <p:blipFill>
          <a:blip r:embed="rId1"/>
          <a:stretch/>
        </p:blipFill>
        <p:spPr>
          <a:xfrm>
            <a:off x="4859280" y="3284640"/>
            <a:ext cx="345600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nodeType="clickEffect" fill="hold">
                      <p:stCondLst>
                        <p:cond delay="0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0" dur="500"/>
                                        <p:tgtEl>
                                          <p:spTgt spid="4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1000"/>
                                        <p:tgtEl>
                                          <p:spTgt spid="4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Rectangle 2"/>
          <p:cNvSpPr/>
          <p:nvPr/>
        </p:nvSpPr>
        <p:spPr>
          <a:xfrm>
            <a:off x="826920" y="1307520"/>
            <a:ext cx="74901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析：已知的是几何关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形的位置、形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需要求出的是数量关系，所以应发挥数形结合的作用．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4010" name="Picture 3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345600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nodeType="clickEffect" fill="hold">
                      <p:stCondLst>
                        <p:cond delay="0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0" dur="1000"/>
                                        <p:tgtEl>
                                          <p:spTgt spid="4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1000"/>
                                        <p:tgtEl>
                                          <p:spTgt spid="4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Rectangle 2"/>
          <p:cNvSpPr/>
          <p:nvPr/>
        </p:nvSpPr>
        <p:spPr>
          <a:xfrm>
            <a:off x="826920" y="423288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抛物线开口向下，所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4012" name="Picture 3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3456000" cy="2889000"/>
          </a:xfrm>
          <a:prstGeom prst="rect">
            <a:avLst/>
          </a:prstGeom>
          <a:ln w="0">
            <a:noFill/>
          </a:ln>
        </p:spPr>
      </p:pic>
      <p:sp>
        <p:nvSpPr>
          <p:cNvPr id="4013" name="Text Box 4"/>
          <p:cNvSpPr/>
          <p:nvPr/>
        </p:nvSpPr>
        <p:spPr>
          <a:xfrm>
            <a:off x="5435640" y="1484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判断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的符号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nodeType="clickEffect" fill="hold">
                      <p:stCondLst>
                        <p:cond delay="0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0" dur="1000"/>
                                        <p:tgtEl>
                                          <p:spTgt spid="4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1000"/>
                                        <p:tgtEl>
                                          <p:spTgt spid="4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1000"/>
                                        <p:tgtEl>
                                          <p:spTgt spid="4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4" name="Rectangle 2"/>
          <p:cNvSpPr/>
          <p:nvPr/>
        </p:nvSpPr>
        <p:spPr>
          <a:xfrm>
            <a:off x="1739160" y="4436280"/>
            <a:ext cx="40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对称轴在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右侧，所以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graphicFrame>
        <p:nvGraphicFramePr>
          <p:cNvPr id="4015" name="Object 3"/>
          <p:cNvGraphicFramePr/>
          <p:nvPr/>
        </p:nvGraphicFramePr>
        <p:xfrm>
          <a:off x="1403280" y="5013360"/>
          <a:ext cx="1295640" cy="8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5013360"/>
                    <a:ext cx="129564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7" name="Rectangle 4"/>
          <p:cNvSpPr/>
          <p:nvPr/>
        </p:nvSpPr>
        <p:spPr>
          <a:xfrm>
            <a:off x="2812680" y="5157000"/>
            <a:ext cx="348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故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4018" name="Picture 5" descr=""/>
          <p:cNvPicPr/>
          <p:nvPr/>
        </p:nvPicPr>
        <p:blipFill>
          <a:blip r:embed="rId3"/>
          <a:stretch/>
        </p:blipFill>
        <p:spPr>
          <a:xfrm>
            <a:off x="2124000" y="1413000"/>
            <a:ext cx="3456000" cy="2889000"/>
          </a:xfrm>
          <a:prstGeom prst="rect">
            <a:avLst/>
          </a:prstGeom>
          <a:ln w="0">
            <a:noFill/>
          </a:ln>
        </p:spPr>
      </p:pic>
      <p:sp>
        <p:nvSpPr>
          <p:cNvPr id="4019" name="Text Box 6"/>
          <p:cNvSpPr/>
          <p:nvPr/>
        </p:nvSpPr>
        <p:spPr>
          <a:xfrm>
            <a:off x="5435640" y="1484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判断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的符号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nodeType="clickEffect" fill="hold">
                      <p:stCondLst>
                        <p:cond delay="0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5" dur="1000"/>
                                        <p:tgtEl>
                                          <p:spTgt spid="4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8" dur="1000"/>
                                        <p:tgtEl>
                                          <p:spTgt spid="4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3" dur="1000"/>
                                        <p:tgtEl>
                                          <p:spTgt spid="4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6" dur="1000"/>
                                        <p:tgtEl>
                                          <p:spTgt spid="4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9" dur="1000"/>
                                        <p:tgtEl>
                                          <p:spTgt spid="4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0" name="Rectangle 2"/>
          <p:cNvSpPr/>
          <p:nvPr/>
        </p:nvSpPr>
        <p:spPr>
          <a:xfrm>
            <a:off x="900000" y="449388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即图象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交点的坐标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而图中这一点在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正半轴，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4021" name="Picture 3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3456000" cy="2889000"/>
          </a:xfrm>
          <a:prstGeom prst="rect">
            <a:avLst/>
          </a:prstGeom>
          <a:ln w="0">
            <a:noFill/>
          </a:ln>
        </p:spPr>
      </p:pic>
      <p:sp>
        <p:nvSpPr>
          <p:cNvPr id="4022" name="Text Box 4"/>
          <p:cNvSpPr/>
          <p:nvPr/>
        </p:nvSpPr>
        <p:spPr>
          <a:xfrm>
            <a:off x="5435640" y="1484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判断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的符号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nodeType="clickEffect" fill="hold">
                      <p:stCondLst>
                        <p:cond delay="0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6" dur="1000"/>
                                        <p:tgtEl>
                                          <p:spTgt spid="4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9" dur="1000"/>
                                        <p:tgtEl>
                                          <p:spTgt spid="4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4" dur="1000"/>
                                        <p:tgtEl>
                                          <p:spTgt spid="4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3" name="Object 2"/>
          <p:cNvGraphicFramePr/>
          <p:nvPr/>
        </p:nvGraphicFramePr>
        <p:xfrm>
          <a:off x="900000" y="4505400"/>
          <a:ext cx="1871640" cy="9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505400"/>
                    <a:ext cx="187164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5" name="Object 3"/>
          <p:cNvGraphicFramePr/>
          <p:nvPr/>
        </p:nvGraphicFramePr>
        <p:xfrm>
          <a:off x="5508720" y="4721400"/>
          <a:ext cx="187164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4721400"/>
                    <a:ext cx="18716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7" name="Object 4"/>
          <p:cNvGraphicFramePr/>
          <p:nvPr/>
        </p:nvGraphicFramePr>
        <p:xfrm>
          <a:off x="971640" y="5513400"/>
          <a:ext cx="194472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5513400"/>
                    <a:ext cx="19447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9" name="Rectangle 5"/>
          <p:cNvSpPr/>
          <p:nvPr/>
        </p:nvSpPr>
        <p:spPr>
          <a:xfrm>
            <a:off x="3564360" y="3785400"/>
            <a:ext cx="12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顶点在第一象限，其纵坐标 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30" name="Rectangle 6"/>
          <p:cNvSpPr/>
          <p:nvPr/>
        </p:nvSpPr>
        <p:spPr>
          <a:xfrm>
            <a:off x="2926080" y="471708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且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31" name="Rectangle 7"/>
          <p:cNvSpPr/>
          <p:nvPr/>
        </p:nvSpPr>
        <p:spPr>
          <a:xfrm>
            <a:off x="7401600" y="4649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故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32" name="Rectangle 8"/>
          <p:cNvSpPr/>
          <p:nvPr/>
        </p:nvSpPr>
        <p:spPr>
          <a:xfrm>
            <a:off x="3093480" y="54410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4033" name="Picture 9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3456000" cy="2889360"/>
          </a:xfrm>
          <a:prstGeom prst="rect">
            <a:avLst/>
          </a:prstGeom>
          <a:ln w="0">
            <a:noFill/>
          </a:ln>
        </p:spPr>
      </p:pic>
      <p:sp>
        <p:nvSpPr>
          <p:cNvPr id="4034" name="Text Box 10"/>
          <p:cNvSpPr/>
          <p:nvPr/>
        </p:nvSpPr>
        <p:spPr>
          <a:xfrm>
            <a:off x="4284720" y="765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判断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4ac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的符号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nodeType="clickEffect" fill="hold">
                      <p:stCondLst>
                        <p:cond delay="0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1" dur="1000"/>
                                        <p:tgtEl>
                                          <p:spTgt spid="4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4" dur="1000"/>
                                        <p:tgtEl>
                                          <p:spTgt spid="4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9" dur="1000"/>
                                        <p:tgtEl>
                                          <p:spTgt spid="4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2" dur="1000"/>
                                        <p:tgtEl>
                                          <p:spTgt spid="4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5" dur="1000"/>
                                        <p:tgtEl>
                                          <p:spTgt spid="4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8" dur="1000"/>
                                        <p:tgtEl>
                                          <p:spTgt spid="4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1" dur="1000"/>
                                        <p:tgtEl>
                                          <p:spTgt spid="4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4" dur="1000"/>
                                        <p:tgtEl>
                                          <p:spTgt spid="4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7" dur="1000"/>
                                        <p:tgtEl>
                                          <p:spTgt spid="4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Rectangle 2"/>
          <p:cNvSpPr/>
          <p:nvPr/>
        </p:nvSpPr>
        <p:spPr>
          <a:xfrm>
            <a:off x="826920" y="4565160"/>
            <a:ext cx="74901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且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所以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36" name="Rectangle 3"/>
          <p:cNvSpPr/>
          <p:nvPr/>
        </p:nvSpPr>
        <p:spPr>
          <a:xfrm>
            <a:off x="1512360" y="4492080"/>
            <a:ext cx="383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顶点横坐标小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即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graphicFrame>
        <p:nvGraphicFramePr>
          <p:cNvPr id="4037" name="Object 4"/>
          <p:cNvGraphicFramePr/>
          <p:nvPr/>
        </p:nvGraphicFramePr>
        <p:xfrm>
          <a:off x="6084720" y="4349880"/>
          <a:ext cx="136872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4349880"/>
                    <a:ext cx="13687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39" name="Picture 5" descr=""/>
          <p:cNvPicPr/>
          <p:nvPr/>
        </p:nvPicPr>
        <p:blipFill>
          <a:blip r:embed="rId3"/>
          <a:stretch/>
        </p:blipFill>
        <p:spPr>
          <a:xfrm>
            <a:off x="1620720" y="1341360"/>
            <a:ext cx="3456000" cy="2889360"/>
          </a:xfrm>
          <a:prstGeom prst="rect">
            <a:avLst/>
          </a:prstGeom>
          <a:ln w="0">
            <a:noFill/>
          </a:ln>
        </p:spPr>
      </p:pic>
      <p:sp>
        <p:nvSpPr>
          <p:cNvPr id="4040" name="Text Box 6"/>
          <p:cNvSpPr/>
          <p:nvPr/>
        </p:nvSpPr>
        <p:spPr>
          <a:xfrm>
            <a:off x="4500720" y="14130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判断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2a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符号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nodeType="clickEffect" fill="hold">
                      <p:stCondLst>
                        <p:cond delay="0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4" dur="1000"/>
                                        <p:tgtEl>
                                          <p:spTgt spid="4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7" dur="1000"/>
                                        <p:tgtEl>
                                          <p:spTgt spid="4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2" dur="1000"/>
                                        <p:tgtEl>
                                          <p:spTgt spid="4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10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0" dur="1000"/>
                                        <p:tgtEl>
                                          <p:spTgt spid="4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1" name="Rectangle 2"/>
          <p:cNvSpPr/>
          <p:nvPr/>
        </p:nvSpPr>
        <p:spPr>
          <a:xfrm>
            <a:off x="900000" y="4380840"/>
            <a:ext cx="7201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图象上的点的横坐标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点的纵坐标为正值，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故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4042" name="Picture 3" descr=""/>
          <p:cNvPicPr/>
          <p:nvPr/>
        </p:nvPicPr>
        <p:blipFill>
          <a:blip r:embed="rId1"/>
          <a:stretch/>
        </p:blipFill>
        <p:spPr>
          <a:xfrm>
            <a:off x="1620720" y="1341360"/>
            <a:ext cx="3456000" cy="2889360"/>
          </a:xfrm>
          <a:prstGeom prst="rect">
            <a:avLst/>
          </a:prstGeom>
          <a:ln w="0">
            <a:noFill/>
          </a:ln>
        </p:spPr>
      </p:pic>
      <p:sp>
        <p:nvSpPr>
          <p:cNvPr id="4043" name="Text Box 4"/>
          <p:cNvSpPr/>
          <p:nvPr/>
        </p:nvSpPr>
        <p:spPr>
          <a:xfrm>
            <a:off x="4284720" y="141300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判断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＋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符号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44" name="Line 5"/>
          <p:cNvSpPr/>
          <p:nvPr/>
        </p:nvSpPr>
        <p:spPr>
          <a:xfrm flipV="1">
            <a:off x="3564000" y="2421000"/>
            <a:ext cx="0" cy="792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45" name="Line 6"/>
          <p:cNvSpPr/>
          <p:nvPr/>
        </p:nvSpPr>
        <p:spPr>
          <a:xfrm flipH="1">
            <a:off x="2771280" y="2492280"/>
            <a:ext cx="79236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nodeType="clickEffect" fill="hold">
                      <p:stCondLst>
                        <p:cond delay="0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1000"/>
                                        <p:tgtEl>
                                          <p:spTgt spid="4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0" dur="1000"/>
                                        <p:tgtEl>
                                          <p:spTgt spid="4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1000"/>
                                        <p:tgtEl>
                                          <p:spTgt spid="4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8" dur="1000"/>
                                        <p:tgtEl>
                                          <p:spTgt spid="4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1" dur="1000"/>
                                        <p:tgtEl>
                                          <p:spTgt spid="4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Rectangle 2"/>
          <p:cNvSpPr/>
          <p:nvPr/>
        </p:nvSpPr>
        <p:spPr>
          <a:xfrm>
            <a:off x="1042920" y="4596840"/>
            <a:ext cx="7345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7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图象上的点的横坐标为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点的纵坐标为负值，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故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4047" name="Picture 3" descr=""/>
          <p:cNvPicPr/>
          <p:nvPr/>
        </p:nvPicPr>
        <p:blipFill>
          <a:blip r:embed="rId1"/>
          <a:stretch/>
        </p:blipFill>
        <p:spPr>
          <a:xfrm>
            <a:off x="1620720" y="1341360"/>
            <a:ext cx="3456000" cy="2889360"/>
          </a:xfrm>
          <a:prstGeom prst="rect">
            <a:avLst/>
          </a:prstGeom>
          <a:ln w="0">
            <a:noFill/>
          </a:ln>
        </p:spPr>
      </p:pic>
      <p:sp>
        <p:nvSpPr>
          <p:cNvPr id="4048" name="Text Box 4"/>
          <p:cNvSpPr/>
          <p:nvPr/>
        </p:nvSpPr>
        <p:spPr>
          <a:xfrm>
            <a:off x="4284720" y="141300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判断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＋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符号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49" name="Line 5"/>
          <p:cNvSpPr/>
          <p:nvPr/>
        </p:nvSpPr>
        <p:spPr>
          <a:xfrm>
            <a:off x="2050920" y="3213000"/>
            <a:ext cx="0" cy="503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50" name="Line 6"/>
          <p:cNvSpPr/>
          <p:nvPr/>
        </p:nvSpPr>
        <p:spPr>
          <a:xfrm>
            <a:off x="2050920" y="3716280"/>
            <a:ext cx="7207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nodeType="clickEffect" fill="hold">
                      <p:stCondLst>
                        <p:cond delay="0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8" dur="1000"/>
                                        <p:tgtEl>
                                          <p:spTgt spid="4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1000"/>
                                        <p:tgtEl>
                                          <p:spTgt spid="4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1000"/>
                                        <p:tgtEl>
                                          <p:spTgt spid="4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9" dur="1000"/>
                                        <p:tgtEl>
                                          <p:spTgt spid="4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2" dur="1000"/>
                                        <p:tgtEl>
                                          <p:spTgt spid="4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8" name="Picture 55" descr="u=111629297,836824017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9" name=""/>
          <p:cNvGraphicFramePr/>
          <p:nvPr/>
        </p:nvGraphicFramePr>
        <p:xfrm>
          <a:off x="539640" y="836640"/>
          <a:ext cx="8210520" cy="4092480"/>
        </p:xfrm>
        <a:graphic>
          <a:graphicData uri="http://schemas.openxmlformats.org/drawingml/2006/table">
            <a:tbl>
              <a:tblPr/>
              <a:tblGrid>
                <a:gridCol w="2737080"/>
                <a:gridCol w="1655640"/>
                <a:gridCol w="1822320"/>
                <a:gridCol w="1995480"/>
              </a:tblGrid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二次函数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开口方向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对称轴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顶点坐标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y=2(x+3)</a:t>
                      </a:r>
                      <a:r>
                        <a:rPr b="1" lang="en-US" sz="2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5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y = -3x(x-1)</a:t>
                      </a:r>
                      <a:r>
                        <a:rPr b="1" lang="en-US" sz="2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2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y = 4(x-3)</a:t>
                      </a:r>
                      <a:r>
                        <a:rPr b="1" lang="en-US" sz="2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2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7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y = -5(2-x)</a:t>
                      </a:r>
                      <a:r>
                        <a:rPr b="1" lang="en-US" sz="2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2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6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0" name="Text Box 34"/>
          <p:cNvSpPr/>
          <p:nvPr/>
        </p:nvSpPr>
        <p:spPr>
          <a:xfrm>
            <a:off x="4859280" y="1773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直线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x=–3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31" name="Text Box 35"/>
          <p:cNvSpPr/>
          <p:nvPr/>
        </p:nvSpPr>
        <p:spPr>
          <a:xfrm>
            <a:off x="5003640" y="249228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直线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x=1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32" name="Text Box 36"/>
          <p:cNvSpPr/>
          <p:nvPr/>
        </p:nvSpPr>
        <p:spPr>
          <a:xfrm>
            <a:off x="4932360" y="407664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直线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x=2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33" name="Text Box 37"/>
          <p:cNvSpPr/>
          <p:nvPr/>
        </p:nvSpPr>
        <p:spPr>
          <a:xfrm>
            <a:off x="4859280" y="335772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直线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x=3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34" name="Text Box 38"/>
          <p:cNvSpPr/>
          <p:nvPr/>
        </p:nvSpPr>
        <p:spPr>
          <a:xfrm>
            <a:off x="3635280" y="3213000"/>
            <a:ext cx="15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向上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35" name="Text Box 39"/>
          <p:cNvSpPr/>
          <p:nvPr/>
        </p:nvSpPr>
        <p:spPr>
          <a:xfrm>
            <a:off x="3821400" y="1700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向上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36" name="Text Box 40"/>
          <p:cNvSpPr/>
          <p:nvPr/>
        </p:nvSpPr>
        <p:spPr>
          <a:xfrm>
            <a:off x="3564000" y="24922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向下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37" name="Text Box 41"/>
          <p:cNvSpPr/>
          <p:nvPr/>
        </p:nvSpPr>
        <p:spPr>
          <a:xfrm>
            <a:off x="3821400" y="4149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向下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38" name="Text Box 42"/>
          <p:cNvSpPr/>
          <p:nvPr/>
        </p:nvSpPr>
        <p:spPr>
          <a:xfrm>
            <a:off x="6804000" y="177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（－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39" name="Text Box 43"/>
          <p:cNvSpPr/>
          <p:nvPr/>
        </p:nvSpPr>
        <p:spPr>
          <a:xfrm>
            <a:off x="6659640" y="2492280"/>
            <a:ext cx="23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，－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40" name="Text Box 44"/>
          <p:cNvSpPr/>
          <p:nvPr/>
        </p:nvSpPr>
        <p:spPr>
          <a:xfrm>
            <a:off x="6659640" y="3357720"/>
            <a:ext cx="27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7 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41" name="Text Box 45"/>
          <p:cNvSpPr/>
          <p:nvPr/>
        </p:nvSpPr>
        <p:spPr>
          <a:xfrm>
            <a:off x="6659640" y="4076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，－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42" name="Text Box 48"/>
          <p:cNvSpPr/>
          <p:nvPr/>
        </p:nvSpPr>
        <p:spPr>
          <a:xfrm>
            <a:off x="5580000" y="4653000"/>
            <a:ext cx="76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43" name="AutoShape 53"/>
          <p:cNvSpPr/>
          <p:nvPr/>
        </p:nvSpPr>
        <p:spPr>
          <a:xfrm>
            <a:off x="250920" y="189000"/>
            <a:ext cx="2592360" cy="576000"/>
          </a:xfrm>
          <a:prstGeom prst="flowChartAlternateProcess">
            <a:avLst/>
          </a:prstGeom>
          <a:gradFill rotWithShape="0">
            <a:gsLst>
              <a:gs pos="0">
                <a:srgbClr val="00cc00"/>
              </a:gs>
              <a:gs pos="50000">
                <a:srgbClr val="e7fae7"/>
              </a:gs>
              <a:gs pos="100000">
                <a:srgbClr val="00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44" name="WordArt 54"/>
          <p:cNvSpPr txBox="1"/>
          <p:nvPr/>
        </p:nvSpPr>
        <p:spPr>
          <a:xfrm>
            <a:off x="324000" y="333360"/>
            <a:ext cx="237636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知识回顾：</a:t>
            </a:r>
            <a:endParaRPr b="1" lang="en-US" sz="9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l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3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3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WordArt 2"/>
          <p:cNvSpPr txBox="1"/>
          <p:nvPr/>
        </p:nvSpPr>
        <p:spPr>
          <a:xfrm>
            <a:off x="250920" y="620640"/>
            <a:ext cx="1441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总结：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052" name="Rectangle 3"/>
          <p:cNvSpPr/>
          <p:nvPr/>
        </p:nvSpPr>
        <p:spPr>
          <a:xfrm>
            <a:off x="748800" y="1197000"/>
            <a:ext cx="45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函数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y=ax²+bx+c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图象和性质：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53" name="Text Box 4"/>
          <p:cNvSpPr/>
          <p:nvPr/>
        </p:nvSpPr>
        <p:spPr>
          <a:xfrm>
            <a:off x="519840" y="18194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顶点坐标：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54" name="Text Box 5"/>
          <p:cNvSpPr/>
          <p:nvPr/>
        </p:nvSpPr>
        <p:spPr>
          <a:xfrm>
            <a:off x="4670280" y="1817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称轴：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55" name="Text Box 6"/>
          <p:cNvSpPr/>
          <p:nvPr/>
        </p:nvSpPr>
        <p:spPr>
          <a:xfrm>
            <a:off x="1137240" y="24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开口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56" name="Line 7"/>
          <p:cNvSpPr/>
          <p:nvPr/>
        </p:nvSpPr>
        <p:spPr>
          <a:xfrm>
            <a:off x="0" y="306864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57" name="Line 8"/>
          <p:cNvSpPr/>
          <p:nvPr/>
        </p:nvSpPr>
        <p:spPr>
          <a:xfrm>
            <a:off x="0" y="450864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58" name="Line 9"/>
          <p:cNvSpPr/>
          <p:nvPr/>
        </p:nvSpPr>
        <p:spPr>
          <a:xfrm>
            <a:off x="1042920" y="2644920"/>
            <a:ext cx="1800" cy="330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59" name="Line 10"/>
          <p:cNvSpPr/>
          <p:nvPr/>
        </p:nvSpPr>
        <p:spPr>
          <a:xfrm>
            <a:off x="1908000" y="378936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60" name="Line 11"/>
          <p:cNvSpPr/>
          <p:nvPr/>
        </p:nvSpPr>
        <p:spPr>
          <a:xfrm>
            <a:off x="1908000" y="522936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61" name="Text Box 12"/>
          <p:cNvSpPr/>
          <p:nvPr/>
        </p:nvSpPr>
        <p:spPr>
          <a:xfrm>
            <a:off x="1119600" y="312876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向上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62" name="Text Box 13"/>
          <p:cNvSpPr/>
          <p:nvPr/>
        </p:nvSpPr>
        <p:spPr>
          <a:xfrm>
            <a:off x="1143360" y="464148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向下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63" name="Text Box 14"/>
          <p:cNvSpPr/>
          <p:nvPr/>
        </p:nvSpPr>
        <p:spPr>
          <a:xfrm>
            <a:off x="108720" y="349740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a&gt;0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64" name="Text Box 15"/>
          <p:cNvSpPr/>
          <p:nvPr/>
        </p:nvSpPr>
        <p:spPr>
          <a:xfrm>
            <a:off x="109080" y="4935600"/>
            <a:ext cx="8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65" name="Line 16"/>
          <p:cNvSpPr/>
          <p:nvPr/>
        </p:nvSpPr>
        <p:spPr>
          <a:xfrm>
            <a:off x="5076720" y="2637000"/>
            <a:ext cx="3240" cy="33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66" name="Text Box 17"/>
          <p:cNvSpPr/>
          <p:nvPr/>
        </p:nvSpPr>
        <p:spPr>
          <a:xfrm>
            <a:off x="2948040" y="24890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增减性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67" name="Line 18"/>
          <p:cNvSpPr/>
          <p:nvPr/>
        </p:nvSpPr>
        <p:spPr>
          <a:xfrm>
            <a:off x="3419640" y="3068640"/>
            <a:ext cx="6120" cy="28875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4068" name="Group 19"/>
          <p:cNvGrpSpPr/>
          <p:nvPr/>
        </p:nvGrpSpPr>
        <p:grpSpPr>
          <a:xfrm>
            <a:off x="3564720" y="2924280"/>
            <a:ext cx="1223640" cy="944640"/>
            <a:chOff x="3564720" y="2924280"/>
            <a:chExt cx="1223640" cy="944640"/>
          </a:xfrm>
        </p:grpSpPr>
        <p:sp>
          <p:nvSpPr>
            <p:cNvPr id="4069" name="Text Box 20"/>
            <p:cNvSpPr/>
            <p:nvPr/>
          </p:nvSpPr>
          <p:spPr>
            <a:xfrm>
              <a:off x="3564720" y="3068280"/>
              <a:ext cx="75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&gt;-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070" name="Text Box 21"/>
            <p:cNvSpPr/>
            <p:nvPr/>
          </p:nvSpPr>
          <p:spPr>
            <a:xfrm>
              <a:off x="4199040" y="32875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2a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071" name="Text Box 22"/>
            <p:cNvSpPr/>
            <p:nvPr/>
          </p:nvSpPr>
          <p:spPr>
            <a:xfrm>
              <a:off x="4344480" y="2924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072" name="Line 23"/>
            <p:cNvSpPr/>
            <p:nvPr/>
          </p:nvSpPr>
          <p:spPr>
            <a:xfrm>
              <a:off x="4273560" y="3385800"/>
              <a:ext cx="42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4073" name="Group 24"/>
          <p:cNvGrpSpPr/>
          <p:nvPr/>
        </p:nvGrpSpPr>
        <p:grpSpPr>
          <a:xfrm>
            <a:off x="2051640" y="2924280"/>
            <a:ext cx="1224360" cy="944640"/>
            <a:chOff x="2051640" y="2924280"/>
            <a:chExt cx="1224360" cy="944640"/>
          </a:xfrm>
        </p:grpSpPr>
        <p:sp>
          <p:nvSpPr>
            <p:cNvPr id="4074" name="Text Box 25"/>
            <p:cNvSpPr/>
            <p:nvPr/>
          </p:nvSpPr>
          <p:spPr>
            <a:xfrm>
              <a:off x="2051640" y="3068280"/>
              <a:ext cx="75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&lt;-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075" name="Text Box 26"/>
            <p:cNvSpPr/>
            <p:nvPr/>
          </p:nvSpPr>
          <p:spPr>
            <a:xfrm>
              <a:off x="2686680" y="32875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2a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076" name="Text Box 27"/>
            <p:cNvSpPr/>
            <p:nvPr/>
          </p:nvSpPr>
          <p:spPr>
            <a:xfrm>
              <a:off x="2831760" y="2924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077" name="Line 28"/>
            <p:cNvSpPr/>
            <p:nvPr/>
          </p:nvSpPr>
          <p:spPr>
            <a:xfrm>
              <a:off x="2760840" y="3385800"/>
              <a:ext cx="43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4078" name="Group 29"/>
          <p:cNvGrpSpPr/>
          <p:nvPr/>
        </p:nvGrpSpPr>
        <p:grpSpPr>
          <a:xfrm>
            <a:off x="3564720" y="4365720"/>
            <a:ext cx="1223640" cy="944640"/>
            <a:chOff x="3564720" y="4365720"/>
            <a:chExt cx="1223640" cy="944640"/>
          </a:xfrm>
        </p:grpSpPr>
        <p:sp>
          <p:nvSpPr>
            <p:cNvPr id="4079" name="Text Box 30"/>
            <p:cNvSpPr/>
            <p:nvPr/>
          </p:nvSpPr>
          <p:spPr>
            <a:xfrm>
              <a:off x="3564720" y="4509720"/>
              <a:ext cx="75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&gt;-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080" name="Text Box 31"/>
            <p:cNvSpPr/>
            <p:nvPr/>
          </p:nvSpPr>
          <p:spPr>
            <a:xfrm>
              <a:off x="4199040" y="472896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2a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081" name="Text Box 32"/>
            <p:cNvSpPr/>
            <p:nvPr/>
          </p:nvSpPr>
          <p:spPr>
            <a:xfrm>
              <a:off x="4344480" y="4365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082" name="Line 33"/>
            <p:cNvSpPr/>
            <p:nvPr/>
          </p:nvSpPr>
          <p:spPr>
            <a:xfrm>
              <a:off x="4273560" y="4827240"/>
              <a:ext cx="42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4083" name="Group 34"/>
          <p:cNvGrpSpPr/>
          <p:nvPr/>
        </p:nvGrpSpPr>
        <p:grpSpPr>
          <a:xfrm>
            <a:off x="2051640" y="4365720"/>
            <a:ext cx="1224360" cy="944640"/>
            <a:chOff x="2051640" y="4365720"/>
            <a:chExt cx="1224360" cy="944640"/>
          </a:xfrm>
        </p:grpSpPr>
        <p:sp>
          <p:nvSpPr>
            <p:cNvPr id="4084" name="Text Box 35"/>
            <p:cNvSpPr/>
            <p:nvPr/>
          </p:nvSpPr>
          <p:spPr>
            <a:xfrm>
              <a:off x="2051640" y="4509720"/>
              <a:ext cx="75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&lt;-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085" name="Text Box 36"/>
            <p:cNvSpPr/>
            <p:nvPr/>
          </p:nvSpPr>
          <p:spPr>
            <a:xfrm>
              <a:off x="2686680" y="472896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2a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086" name="Text Box 37"/>
            <p:cNvSpPr/>
            <p:nvPr/>
          </p:nvSpPr>
          <p:spPr>
            <a:xfrm>
              <a:off x="2831760" y="4365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087" name="Line 38"/>
            <p:cNvSpPr/>
            <p:nvPr/>
          </p:nvSpPr>
          <p:spPr>
            <a:xfrm>
              <a:off x="2760840" y="4827240"/>
              <a:ext cx="43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088" name="Line 39"/>
          <p:cNvSpPr/>
          <p:nvPr/>
        </p:nvSpPr>
        <p:spPr>
          <a:xfrm>
            <a:off x="2411280" y="4005360"/>
            <a:ext cx="505080" cy="3603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89" name="Line 40"/>
          <p:cNvSpPr/>
          <p:nvPr/>
        </p:nvSpPr>
        <p:spPr>
          <a:xfrm>
            <a:off x="3925800" y="5445000"/>
            <a:ext cx="505080" cy="3603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90" name="Line 41"/>
          <p:cNvSpPr/>
          <p:nvPr/>
        </p:nvSpPr>
        <p:spPr>
          <a:xfrm flipV="1">
            <a:off x="3925800" y="4005000"/>
            <a:ext cx="505080" cy="3603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91" name="Line 42"/>
          <p:cNvSpPr/>
          <p:nvPr/>
        </p:nvSpPr>
        <p:spPr>
          <a:xfrm flipV="1">
            <a:off x="2411280" y="5444640"/>
            <a:ext cx="505080" cy="3603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92" name="Text Box 43"/>
          <p:cNvSpPr/>
          <p:nvPr/>
        </p:nvSpPr>
        <p:spPr>
          <a:xfrm>
            <a:off x="6757920" y="2516040"/>
            <a:ext cx="10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最    值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93" name="Line 44"/>
          <p:cNvSpPr/>
          <p:nvPr/>
        </p:nvSpPr>
        <p:spPr>
          <a:xfrm>
            <a:off x="1906560" y="2665440"/>
            <a:ext cx="1440" cy="330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4094" name="Group 45"/>
          <p:cNvGrpSpPr/>
          <p:nvPr/>
        </p:nvGrpSpPr>
        <p:grpSpPr>
          <a:xfrm>
            <a:off x="5787720" y="2924280"/>
            <a:ext cx="2559240" cy="945000"/>
            <a:chOff x="5787720" y="2924280"/>
            <a:chExt cx="2559240" cy="945000"/>
          </a:xfrm>
        </p:grpSpPr>
        <p:sp>
          <p:nvSpPr>
            <p:cNvPr id="4095" name="Text Box 46"/>
            <p:cNvSpPr/>
            <p:nvPr/>
          </p:nvSpPr>
          <p:spPr>
            <a:xfrm>
              <a:off x="5787720" y="3068280"/>
              <a:ext cx="255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当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时，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4096" name="Group 47"/>
            <p:cNvGrpSpPr/>
            <p:nvPr/>
          </p:nvGrpSpPr>
          <p:grpSpPr>
            <a:xfrm>
              <a:off x="6863040" y="2924280"/>
              <a:ext cx="589320" cy="945000"/>
              <a:chOff x="6863040" y="2924280"/>
              <a:chExt cx="589320" cy="945000"/>
            </a:xfrm>
          </p:grpSpPr>
          <p:sp>
            <p:nvSpPr>
              <p:cNvPr id="4097" name="Text Box 48"/>
              <p:cNvSpPr/>
              <p:nvPr/>
            </p:nvSpPr>
            <p:spPr>
              <a:xfrm>
                <a:off x="6863040" y="328788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2a</a:t>
                </a:r>
                <a:endParaRPr b="0" lang="en-US" sz="32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098" name="Text Box 49"/>
              <p:cNvSpPr/>
              <p:nvPr/>
            </p:nvSpPr>
            <p:spPr>
              <a:xfrm>
                <a:off x="7008120" y="29242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099" name="Line 50"/>
              <p:cNvSpPr/>
              <p:nvPr/>
            </p:nvSpPr>
            <p:spPr>
              <a:xfrm>
                <a:off x="6937200" y="3386160"/>
                <a:ext cx="4298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4100" name="Text Box 51"/>
          <p:cNvSpPr/>
          <p:nvPr/>
        </p:nvSpPr>
        <p:spPr>
          <a:xfrm>
            <a:off x="5655960" y="3789360"/>
            <a:ext cx="16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最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值：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4101" name="Group 52"/>
          <p:cNvGrpSpPr/>
          <p:nvPr/>
        </p:nvGrpSpPr>
        <p:grpSpPr>
          <a:xfrm>
            <a:off x="7441920" y="3635280"/>
            <a:ext cx="1227600" cy="948240"/>
            <a:chOff x="7441920" y="3635280"/>
            <a:chExt cx="1227600" cy="948240"/>
          </a:xfrm>
        </p:grpSpPr>
        <p:sp>
          <p:nvSpPr>
            <p:cNvPr id="4102" name="Text Box 53"/>
            <p:cNvSpPr/>
            <p:nvPr/>
          </p:nvSpPr>
          <p:spPr>
            <a:xfrm>
              <a:off x="7655760" y="40021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4a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03" name="Text Box 54"/>
            <p:cNvSpPr/>
            <p:nvPr/>
          </p:nvSpPr>
          <p:spPr>
            <a:xfrm>
              <a:off x="7441920" y="3635280"/>
              <a:ext cx="122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4ac-b</a:t>
              </a:r>
              <a:r>
                <a:rPr b="1" i="1" lang="en-US" sz="3200" spc="-1" strike="noStrike" baseline="30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04" name="Line 55"/>
            <p:cNvSpPr/>
            <p:nvPr/>
          </p:nvSpPr>
          <p:spPr>
            <a:xfrm>
              <a:off x="7513920" y="4100400"/>
              <a:ext cx="947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4105" name="Group 56"/>
          <p:cNvGrpSpPr/>
          <p:nvPr/>
        </p:nvGrpSpPr>
        <p:grpSpPr>
          <a:xfrm>
            <a:off x="5787720" y="4363920"/>
            <a:ext cx="2559240" cy="945000"/>
            <a:chOff x="5787720" y="4363920"/>
            <a:chExt cx="2559240" cy="945000"/>
          </a:xfrm>
        </p:grpSpPr>
        <p:sp>
          <p:nvSpPr>
            <p:cNvPr id="4106" name="Text Box 57"/>
            <p:cNvSpPr/>
            <p:nvPr/>
          </p:nvSpPr>
          <p:spPr>
            <a:xfrm>
              <a:off x="5787720" y="4508280"/>
              <a:ext cx="255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当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时，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4107" name="Group 58"/>
            <p:cNvGrpSpPr/>
            <p:nvPr/>
          </p:nvGrpSpPr>
          <p:grpSpPr>
            <a:xfrm>
              <a:off x="6863040" y="4363920"/>
              <a:ext cx="589320" cy="945000"/>
              <a:chOff x="6863040" y="4363920"/>
              <a:chExt cx="589320" cy="945000"/>
            </a:xfrm>
          </p:grpSpPr>
          <p:sp>
            <p:nvSpPr>
              <p:cNvPr id="4108" name="Text Box 59"/>
              <p:cNvSpPr/>
              <p:nvPr/>
            </p:nvSpPr>
            <p:spPr>
              <a:xfrm>
                <a:off x="6863040" y="472752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2a</a:t>
                </a:r>
                <a:endParaRPr b="0" lang="en-US" sz="32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09" name="Text Box 60"/>
              <p:cNvSpPr/>
              <p:nvPr/>
            </p:nvSpPr>
            <p:spPr>
              <a:xfrm>
                <a:off x="7008120" y="43639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10" name="Line 61"/>
              <p:cNvSpPr/>
              <p:nvPr/>
            </p:nvSpPr>
            <p:spPr>
              <a:xfrm>
                <a:off x="6937200" y="4825800"/>
                <a:ext cx="4298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4111" name="Text Box 62"/>
          <p:cNvSpPr/>
          <p:nvPr/>
        </p:nvSpPr>
        <p:spPr>
          <a:xfrm>
            <a:off x="5655960" y="5229360"/>
            <a:ext cx="16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最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值：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4112" name="Group 63"/>
          <p:cNvGrpSpPr/>
          <p:nvPr/>
        </p:nvGrpSpPr>
        <p:grpSpPr>
          <a:xfrm>
            <a:off x="7441920" y="5075280"/>
            <a:ext cx="1227600" cy="948240"/>
            <a:chOff x="7441920" y="5075280"/>
            <a:chExt cx="1227600" cy="948240"/>
          </a:xfrm>
        </p:grpSpPr>
        <p:sp>
          <p:nvSpPr>
            <p:cNvPr id="4113" name="Text Box 64"/>
            <p:cNvSpPr/>
            <p:nvPr/>
          </p:nvSpPr>
          <p:spPr>
            <a:xfrm>
              <a:off x="7655760" y="54421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4a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14" name="Text Box 65"/>
            <p:cNvSpPr/>
            <p:nvPr/>
          </p:nvSpPr>
          <p:spPr>
            <a:xfrm>
              <a:off x="7441920" y="5075280"/>
              <a:ext cx="122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4ac-b</a:t>
              </a:r>
              <a:r>
                <a:rPr b="1" i="1" lang="en-US" sz="3200" spc="-1" strike="noStrike" baseline="30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15" name="Line 66"/>
            <p:cNvSpPr/>
            <p:nvPr/>
          </p:nvSpPr>
          <p:spPr>
            <a:xfrm>
              <a:off x="7513920" y="5540400"/>
              <a:ext cx="947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4116" name="Group 67"/>
          <p:cNvGrpSpPr/>
          <p:nvPr/>
        </p:nvGrpSpPr>
        <p:grpSpPr>
          <a:xfrm>
            <a:off x="6213960" y="1635120"/>
            <a:ext cx="1886400" cy="945000"/>
            <a:chOff x="6213960" y="1635120"/>
            <a:chExt cx="1886400" cy="945000"/>
          </a:xfrm>
        </p:grpSpPr>
        <p:sp>
          <p:nvSpPr>
            <p:cNvPr id="4117" name="Text Box 68"/>
            <p:cNvSpPr/>
            <p:nvPr/>
          </p:nvSpPr>
          <p:spPr>
            <a:xfrm>
              <a:off x="6213960" y="1779480"/>
              <a:ext cx="133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0066"/>
                  </a:solidFill>
                  <a:latin typeface="Times New Roman"/>
                </a:rPr>
                <a:t>直线</a:t>
              </a: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x=-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18" name="Text Box 69"/>
            <p:cNvSpPr/>
            <p:nvPr/>
          </p:nvSpPr>
          <p:spPr>
            <a:xfrm>
              <a:off x="7511040" y="19987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2a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19" name="Text Box 70"/>
            <p:cNvSpPr/>
            <p:nvPr/>
          </p:nvSpPr>
          <p:spPr>
            <a:xfrm>
              <a:off x="7656120" y="1635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20" name="Line 71"/>
            <p:cNvSpPr/>
            <p:nvPr/>
          </p:nvSpPr>
          <p:spPr>
            <a:xfrm>
              <a:off x="7585200" y="2097000"/>
              <a:ext cx="4302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4121" name="Group 72"/>
          <p:cNvGrpSpPr/>
          <p:nvPr/>
        </p:nvGrpSpPr>
        <p:grpSpPr>
          <a:xfrm>
            <a:off x="1986840" y="1628640"/>
            <a:ext cx="2384280" cy="954720"/>
            <a:chOff x="1986840" y="1628640"/>
            <a:chExt cx="2384280" cy="954720"/>
          </a:xfrm>
        </p:grpSpPr>
        <p:grpSp>
          <p:nvGrpSpPr>
            <p:cNvPr id="4122" name="Group 73"/>
            <p:cNvGrpSpPr/>
            <p:nvPr/>
          </p:nvGrpSpPr>
          <p:grpSpPr>
            <a:xfrm>
              <a:off x="3066840" y="1635120"/>
              <a:ext cx="1227600" cy="948240"/>
              <a:chOff x="3066840" y="1635120"/>
              <a:chExt cx="1227600" cy="948240"/>
            </a:xfrm>
          </p:grpSpPr>
          <p:sp>
            <p:nvSpPr>
              <p:cNvPr id="4123" name="Text Box 74"/>
              <p:cNvSpPr/>
              <p:nvPr/>
            </p:nvSpPr>
            <p:spPr>
              <a:xfrm>
                <a:off x="3279960" y="200196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4a</a:t>
                </a:r>
                <a:endParaRPr b="0" lang="en-US" sz="32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24" name="Text Box 75"/>
              <p:cNvSpPr/>
              <p:nvPr/>
            </p:nvSpPr>
            <p:spPr>
              <a:xfrm>
                <a:off x="3066840" y="1635120"/>
                <a:ext cx="1227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4ac-b</a:t>
                </a:r>
                <a:r>
                  <a:rPr b="1" i="1" lang="en-US" sz="32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25" name="Line 76"/>
              <p:cNvSpPr/>
              <p:nvPr/>
            </p:nvSpPr>
            <p:spPr>
              <a:xfrm>
                <a:off x="3138480" y="2100240"/>
                <a:ext cx="9471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grpSp>
          <p:nvGrpSpPr>
            <p:cNvPr id="4126" name="Group 77"/>
            <p:cNvGrpSpPr/>
            <p:nvPr/>
          </p:nvGrpSpPr>
          <p:grpSpPr>
            <a:xfrm>
              <a:off x="2125440" y="1628640"/>
              <a:ext cx="748800" cy="945000"/>
              <a:chOff x="2125440" y="1628640"/>
              <a:chExt cx="748800" cy="945000"/>
            </a:xfrm>
          </p:grpSpPr>
          <p:sp>
            <p:nvSpPr>
              <p:cNvPr id="4127" name="Text Box 78"/>
              <p:cNvSpPr/>
              <p:nvPr/>
            </p:nvSpPr>
            <p:spPr>
              <a:xfrm>
                <a:off x="2125440" y="1773000"/>
                <a:ext cx="31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28" name="Text Box 79"/>
              <p:cNvSpPr/>
              <p:nvPr/>
            </p:nvSpPr>
            <p:spPr>
              <a:xfrm>
                <a:off x="2284920" y="199224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2a</a:t>
                </a:r>
                <a:endParaRPr b="0" lang="en-US" sz="32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29" name="Text Box 80"/>
              <p:cNvSpPr/>
              <p:nvPr/>
            </p:nvSpPr>
            <p:spPr>
              <a:xfrm>
                <a:off x="2430000" y="16286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30" name="Line 81"/>
              <p:cNvSpPr/>
              <p:nvPr/>
            </p:nvSpPr>
            <p:spPr>
              <a:xfrm>
                <a:off x="2359080" y="2090520"/>
                <a:ext cx="43020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sp>
          <p:nvSpPr>
            <p:cNvPr id="4131" name="Text Box 82"/>
            <p:cNvSpPr/>
            <p:nvPr/>
          </p:nvSpPr>
          <p:spPr>
            <a:xfrm>
              <a:off x="1986840" y="1851120"/>
              <a:ext cx="238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（</a:t>
              </a:r>
              <a:r>
                <a:rPr b="1" i="1" lang="zh-CN" sz="3200" spc="-1" strike="noStrike">
                  <a:solidFill>
                    <a:srgbClr val="ff0066"/>
                  </a:solidFill>
                  <a:latin typeface="Times New Roman"/>
                </a:rPr>
                <a:t>      ，        </a:t>
              </a: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）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</p:spTree>
  </p:cSld>
  <p:transition>
    <p:wipe dir="l"/>
  </p:transition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4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4" dur="500"/>
                                        <p:tgtEl>
                                          <p:spTgt spid="4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9" dur="500"/>
                                        <p:tgtEl>
                                          <p:spTgt spid="4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4" dur="500"/>
                                        <p:tgtEl>
                                          <p:spTgt spid="4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9" dur="500"/>
                                        <p:tgtEl>
                                          <p:spTgt spid="4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4" dur="500"/>
                                        <p:tgtEl>
                                          <p:spTgt spid="4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9" dur="500"/>
                                        <p:tgtEl>
                                          <p:spTgt spid="4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4" dur="500"/>
                                        <p:tgtEl>
                                          <p:spTgt spid="4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9" dur="500"/>
                                        <p:tgtEl>
                                          <p:spTgt spid="4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nodeType="clickEffect" fill="hold">
                      <p:stCondLst>
                        <p:cond delay="indefinite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4" dur="500"/>
                                        <p:tgtEl>
                                          <p:spTgt spid="4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9" dur="500"/>
                                        <p:tgtEl>
                                          <p:spTgt spid="4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4" dur="500"/>
                                        <p:tgtEl>
                                          <p:spTgt spid="4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9" dur="500"/>
                                        <p:tgtEl>
                                          <p:spTgt spid="4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4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500"/>
                                        <p:tgtEl>
                                          <p:spTgt spid="4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4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9" dur="500"/>
                                        <p:tgtEl>
                                          <p:spTgt spid="4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4" dur="500"/>
                                        <p:tgtEl>
                                          <p:spTgt spid="4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4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4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2" name="Picture 6" descr="u=111629297,836824017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3" name="Text Box 2"/>
          <p:cNvSpPr/>
          <p:nvPr/>
        </p:nvSpPr>
        <p:spPr>
          <a:xfrm>
            <a:off x="0" y="98100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抛物线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y=2x</a:t>
            </a:r>
            <a:r>
              <a:rPr b="1" lang="zh-CN" sz="3200" spc="-1" strike="noStrike" baseline="30000">
                <a:solidFill>
                  <a:srgbClr val="402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+8x-11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的顶点在        （   ）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第一象限        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第二象限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第三象限        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第四象限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不论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k 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取任何实数，抛物线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y=a(x+k)</a:t>
            </a:r>
            <a:r>
              <a:rPr b="1" lang="zh-CN" sz="3200" spc="-1" strike="noStrike" baseline="30000">
                <a:solidFill>
                  <a:srgbClr val="402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+k(a≠0)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的顶点都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  <a:ea typeface="黑体"/>
              </a:rPr>
              <a:t>在                                             （      ）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直线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y = x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上    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直线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y = - x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上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C.x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轴上          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D.y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轴上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若二次函数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y=ax</a:t>
            </a:r>
            <a:r>
              <a:rPr b="1" lang="zh-CN" sz="3200" spc="-1" strike="noStrike" baseline="30000">
                <a:solidFill>
                  <a:srgbClr val="402000"/>
                </a:solidFill>
                <a:latin typeface="黑体"/>
                <a:ea typeface="黑体"/>
              </a:rPr>
              <a:t>2 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+ 4x+a-1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的最小值是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2,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则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的值是                          （   ）                                                                               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A 4     B. -1      C. 3       D.4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或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-1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134" name="Text Box 3"/>
          <p:cNvSpPr/>
          <p:nvPr/>
        </p:nvSpPr>
        <p:spPr>
          <a:xfrm>
            <a:off x="7524720" y="981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135" name="Text Box 4">
            <a:hlinkClick r:id="rId2" action="ppaction://hlinksldjump"/>
          </p:cNvPr>
          <p:cNvSpPr/>
          <p:nvPr/>
        </p:nvSpPr>
        <p:spPr>
          <a:xfrm>
            <a:off x="7596360" y="2924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136" name="Text Box 5"/>
          <p:cNvSpPr/>
          <p:nvPr/>
        </p:nvSpPr>
        <p:spPr>
          <a:xfrm>
            <a:off x="7093080" y="4869000"/>
            <a:ext cx="5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137" name="WordArt 7"/>
          <p:cNvSpPr txBox="1"/>
          <p:nvPr/>
        </p:nvSpPr>
        <p:spPr>
          <a:xfrm>
            <a:off x="2556000" y="189000"/>
            <a:ext cx="244764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课 堂 练 习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cover dir="l"/>
  </p:transition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nodeType="clickEffect" fill="hold">
                      <p:stCondLst>
                        <p:cond delay="indefinite"/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4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4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4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4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nodeType="clickEffect" fill="hold">
                      <p:stCondLst>
                        <p:cond delay="indefinite"/>
                      </p:stCondLst>
                      <p:childTnLst>
                        <p:par>
                          <p:cTn id="1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4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4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8" name="Picture 28" descr="u=111629297,836824017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9" name="Text Box 2"/>
          <p:cNvSpPr/>
          <p:nvPr/>
        </p:nvSpPr>
        <p:spPr>
          <a:xfrm>
            <a:off x="324000" y="907920"/>
            <a:ext cx="855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若二次函数 </a:t>
            </a:r>
            <a:r>
              <a:rPr b="1" i="1" lang="en-US" sz="3200" spc="-1" strike="noStrike">
                <a:solidFill>
                  <a:srgbClr val="402000"/>
                </a:solidFill>
                <a:latin typeface="Times New Roman"/>
                <a:ea typeface="黑体"/>
              </a:rPr>
              <a:t>y=ax</a:t>
            </a:r>
            <a:r>
              <a:rPr b="1" i="1" lang="en-US" sz="3200" spc="-1" strike="noStrike" baseline="30000">
                <a:solidFill>
                  <a:srgbClr val="402000"/>
                </a:solidFill>
                <a:latin typeface="Times New Roman"/>
                <a:ea typeface="黑体"/>
              </a:rPr>
              <a:t>2 </a:t>
            </a:r>
            <a:r>
              <a:rPr b="1" i="1" lang="en-US" sz="3200" spc="-1" strike="noStrike">
                <a:solidFill>
                  <a:srgbClr val="402000"/>
                </a:solidFill>
                <a:latin typeface="Times New Roman"/>
                <a:ea typeface="黑体"/>
              </a:rPr>
              <a:t>+ b x + c</a:t>
            </a: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的图象如下</a:t>
            </a: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轴的一个交点为</a:t>
            </a: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(1,0),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则下列各式中不成立的是    （   ）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A.</a:t>
            </a:r>
            <a:r>
              <a:rPr b="1" i="1" lang="en-US" sz="3200" spc="-1" strike="noStrike">
                <a:solidFill>
                  <a:srgbClr val="402000"/>
                </a:solidFill>
                <a:latin typeface="Times New Roman"/>
                <a:ea typeface="黑体"/>
              </a:rPr>
              <a:t>b</a:t>
            </a:r>
            <a:r>
              <a:rPr b="1" i="1" lang="en-US" sz="3200" spc="-1" strike="noStrike" baseline="30000">
                <a:solidFill>
                  <a:srgbClr val="402000"/>
                </a:solidFill>
                <a:latin typeface="Times New Roman"/>
                <a:ea typeface="黑体"/>
              </a:rPr>
              <a:t>2</a:t>
            </a:r>
            <a:r>
              <a:rPr b="1" i="1" lang="en-US" sz="3200" spc="-1" strike="noStrike">
                <a:solidFill>
                  <a:srgbClr val="402000"/>
                </a:solidFill>
                <a:latin typeface="Times New Roman"/>
                <a:ea typeface="黑体"/>
              </a:rPr>
              <a:t>-4ac</a:t>
            </a: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&gt;0     B.     &lt;0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C.</a:t>
            </a:r>
            <a:r>
              <a:rPr b="1" i="1" lang="en-US" sz="3200" spc="-1" strike="noStrike">
                <a:solidFill>
                  <a:srgbClr val="402000"/>
                </a:solidFill>
                <a:latin typeface="Times New Roman"/>
                <a:ea typeface="黑体"/>
              </a:rPr>
              <a:t>a+b+c</a:t>
            </a: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=0     D.      &gt;0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4140" name="Group 3"/>
          <p:cNvGrpSpPr/>
          <p:nvPr/>
        </p:nvGrpSpPr>
        <p:grpSpPr>
          <a:xfrm>
            <a:off x="6024600" y="1700280"/>
            <a:ext cx="3119400" cy="2069640"/>
            <a:chOff x="6024600" y="1700280"/>
            <a:chExt cx="3119400" cy="2069640"/>
          </a:xfrm>
        </p:grpSpPr>
        <p:sp>
          <p:nvSpPr>
            <p:cNvPr id="4141" name="Text Box 4"/>
            <p:cNvSpPr/>
            <p:nvPr/>
          </p:nvSpPr>
          <p:spPr>
            <a:xfrm>
              <a:off x="7777080" y="2779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42" name="Text Box 5"/>
            <p:cNvSpPr/>
            <p:nvPr/>
          </p:nvSpPr>
          <p:spPr>
            <a:xfrm>
              <a:off x="7167600" y="25513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43" name="Line 6"/>
            <p:cNvSpPr/>
            <p:nvPr/>
          </p:nvSpPr>
          <p:spPr>
            <a:xfrm>
              <a:off x="6253200" y="2855880"/>
              <a:ext cx="2590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44" name="Line 7"/>
            <p:cNvSpPr/>
            <p:nvPr/>
          </p:nvSpPr>
          <p:spPr>
            <a:xfrm flipV="1">
              <a:off x="7242120" y="1788840"/>
              <a:ext cx="0" cy="19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45" name="Text Box 8"/>
            <p:cNvSpPr/>
            <p:nvPr/>
          </p:nvSpPr>
          <p:spPr>
            <a:xfrm>
              <a:off x="8691480" y="277992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46" name="Text Box 9"/>
            <p:cNvSpPr/>
            <p:nvPr/>
          </p:nvSpPr>
          <p:spPr>
            <a:xfrm>
              <a:off x="7243920" y="170028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Arial"/>
                </a:rPr>
                <a:t>y</a:t>
              </a: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6939000" y="2779920"/>
              <a:ext cx="66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48" name="Line 11"/>
            <p:cNvSpPr/>
            <p:nvPr/>
          </p:nvSpPr>
          <p:spPr>
            <a:xfrm>
              <a:off x="7624800" y="2017800"/>
              <a:ext cx="0" cy="14479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49" name="未知"/>
            <p:cNvSpPr/>
            <p:nvPr/>
          </p:nvSpPr>
          <p:spPr>
            <a:xfrm flipV="1">
              <a:off x="6862680" y="2169360"/>
              <a:ext cx="1447920" cy="1219320"/>
            </a:xfrm>
            <a:custGeom>
              <a:avLst/>
              <a:gdLst/>
              <a:ahLst/>
              <a:rect l="l" t="t" r="r" b="b"/>
              <a:pathLst>
                <a:path w="1815" h="1361">
                  <a:moveTo>
                    <a:pt x="0" y="0"/>
                  </a:moveTo>
                  <a:cubicBezTo>
                    <a:pt x="302" y="680"/>
                    <a:pt x="605" y="1361"/>
                    <a:pt x="907" y="1361"/>
                  </a:cubicBezTo>
                  <a:cubicBezTo>
                    <a:pt x="1209" y="1361"/>
                    <a:pt x="1512" y="680"/>
                    <a:pt x="181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50" name="Line 13"/>
            <p:cNvSpPr/>
            <p:nvPr/>
          </p:nvSpPr>
          <p:spPr>
            <a:xfrm>
              <a:off x="6329520" y="2779920"/>
              <a:ext cx="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51" name="Line 14"/>
            <p:cNvSpPr/>
            <p:nvPr/>
          </p:nvSpPr>
          <p:spPr>
            <a:xfrm>
              <a:off x="8101080" y="2779920"/>
              <a:ext cx="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52" name="Text Box 15"/>
            <p:cNvSpPr/>
            <p:nvPr/>
          </p:nvSpPr>
          <p:spPr>
            <a:xfrm>
              <a:off x="6024600" y="27799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153" name="Rectangle 16"/>
          <p:cNvSpPr/>
          <p:nvPr/>
        </p:nvSpPr>
        <p:spPr>
          <a:xfrm>
            <a:off x="0" y="4221000"/>
            <a:ext cx="90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若把抛物线</a:t>
            </a:r>
            <a:r>
              <a:rPr b="1" i="1" lang="en-US" sz="3200" spc="-1" strike="noStrike">
                <a:solidFill>
                  <a:srgbClr val="402000"/>
                </a:solidFill>
                <a:latin typeface="Times New Roman"/>
                <a:ea typeface="黑体"/>
              </a:rPr>
              <a:t>y = x</a:t>
            </a:r>
            <a:r>
              <a:rPr b="1" i="1" lang="en-US" sz="3200" spc="-1" strike="noStrike" baseline="30000">
                <a:solidFill>
                  <a:srgbClr val="402000"/>
                </a:solidFill>
                <a:latin typeface="Times New Roman"/>
                <a:ea typeface="黑体"/>
              </a:rPr>
              <a:t>2 </a:t>
            </a:r>
            <a:r>
              <a:rPr b="1" i="1" lang="en-US" sz="3200" spc="-1" strike="noStrike">
                <a:solidFill>
                  <a:srgbClr val="402000"/>
                </a:solidFill>
                <a:latin typeface="Times New Roman"/>
                <a:ea typeface="黑体"/>
              </a:rPr>
              <a:t>- 2x+1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向右平移</a:t>
            </a: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个单位</a:t>
            </a: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再向下平移</a:t>
            </a: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个单位</a:t>
            </a: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得抛物线</a:t>
            </a:r>
            <a:r>
              <a:rPr b="1" i="1" lang="en-US" sz="3200" spc="-1" strike="noStrike">
                <a:solidFill>
                  <a:srgbClr val="402000"/>
                </a:solidFill>
                <a:latin typeface="Times New Roman"/>
                <a:ea typeface="黑体"/>
              </a:rPr>
              <a:t>y=x</a:t>
            </a:r>
            <a:r>
              <a:rPr b="1" i="1" lang="en-US" sz="3200" spc="-1" strike="noStrike" baseline="30000">
                <a:solidFill>
                  <a:srgbClr val="402000"/>
                </a:solidFill>
                <a:latin typeface="Times New Roman"/>
                <a:ea typeface="黑体"/>
              </a:rPr>
              <a:t>2</a:t>
            </a:r>
            <a:r>
              <a:rPr b="1" i="1" lang="en-US" sz="3200" spc="-1" strike="noStrike">
                <a:solidFill>
                  <a:srgbClr val="402000"/>
                </a:solidFill>
                <a:latin typeface="Times New Roman"/>
                <a:ea typeface="黑体"/>
              </a:rPr>
              <a:t>+bx+c</a:t>
            </a: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则（   ）                      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A.b=2  </a:t>
            </a: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c= 6        </a:t>
            </a: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  B.b=-6 , c=6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C.b=-8 </a:t>
            </a: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c= 6  </a:t>
            </a: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     D.b=-8 ,  c=18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154" name="Text Box 17"/>
          <p:cNvSpPr/>
          <p:nvPr/>
        </p:nvSpPr>
        <p:spPr>
          <a:xfrm>
            <a:off x="2702160" y="1844640"/>
            <a:ext cx="7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155" name="Text Box 18">
            <a:hlinkClick r:id="rId2" action="ppaction://hlinksldjump"/>
          </p:cNvPr>
          <p:cNvSpPr/>
          <p:nvPr/>
        </p:nvSpPr>
        <p:spPr>
          <a:xfrm>
            <a:off x="7308720" y="465300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4156" name="Group 19"/>
          <p:cNvGrpSpPr/>
          <p:nvPr/>
        </p:nvGrpSpPr>
        <p:grpSpPr>
          <a:xfrm>
            <a:off x="4212720" y="2133720"/>
            <a:ext cx="822240" cy="945000"/>
            <a:chOff x="4212720" y="2133720"/>
            <a:chExt cx="822240" cy="945000"/>
          </a:xfrm>
        </p:grpSpPr>
        <p:sp>
          <p:nvSpPr>
            <p:cNvPr id="4157" name="Text Box 20"/>
            <p:cNvSpPr/>
            <p:nvPr/>
          </p:nvSpPr>
          <p:spPr>
            <a:xfrm>
              <a:off x="4212720" y="2278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2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58" name="Text Box 21"/>
            <p:cNvSpPr/>
            <p:nvPr/>
          </p:nvSpPr>
          <p:spPr>
            <a:xfrm>
              <a:off x="4445640" y="24973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2000"/>
                  </a:solidFill>
                  <a:latin typeface="Times New Roman"/>
                </a:rPr>
                <a:t>2a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59" name="Text Box 22"/>
            <p:cNvSpPr/>
            <p:nvPr/>
          </p:nvSpPr>
          <p:spPr>
            <a:xfrm>
              <a:off x="4590720" y="213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60" name="Line 23"/>
            <p:cNvSpPr/>
            <p:nvPr/>
          </p:nvSpPr>
          <p:spPr>
            <a:xfrm>
              <a:off x="4519440" y="2595600"/>
              <a:ext cx="43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4161" name="Group 24"/>
          <p:cNvGrpSpPr/>
          <p:nvPr/>
        </p:nvGrpSpPr>
        <p:grpSpPr>
          <a:xfrm>
            <a:off x="4147920" y="3068640"/>
            <a:ext cx="1227600" cy="948240"/>
            <a:chOff x="4147920" y="3068640"/>
            <a:chExt cx="1227600" cy="948240"/>
          </a:xfrm>
        </p:grpSpPr>
        <p:sp>
          <p:nvSpPr>
            <p:cNvPr id="4162" name="Text Box 25"/>
            <p:cNvSpPr/>
            <p:nvPr/>
          </p:nvSpPr>
          <p:spPr>
            <a:xfrm>
              <a:off x="4361040" y="34354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2000"/>
                  </a:solidFill>
                  <a:latin typeface="Times New Roman"/>
                </a:rPr>
                <a:t>4a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63" name="Text Box 26"/>
            <p:cNvSpPr/>
            <p:nvPr/>
          </p:nvSpPr>
          <p:spPr>
            <a:xfrm>
              <a:off x="4147920" y="3068640"/>
              <a:ext cx="122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2000"/>
                  </a:solidFill>
                  <a:latin typeface="Times New Roman"/>
                </a:rPr>
                <a:t>4ac-b</a:t>
              </a:r>
              <a:r>
                <a:rPr b="1" i="1" lang="en-US" sz="3200" spc="-1" strike="noStrike" baseline="30000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64" name="Line 27"/>
            <p:cNvSpPr/>
            <p:nvPr/>
          </p:nvSpPr>
          <p:spPr>
            <a:xfrm>
              <a:off x="4219200" y="3533760"/>
              <a:ext cx="94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165" name="WordArt 29"/>
          <p:cNvSpPr txBox="1"/>
          <p:nvPr/>
        </p:nvSpPr>
        <p:spPr>
          <a:xfrm>
            <a:off x="2556000" y="189000"/>
            <a:ext cx="244764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课 堂 练 习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cover dir="l"/>
  </p:transition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nodeType="clickEffect" fill="hold">
                      <p:stCondLst>
                        <p:cond delay="indefinite"/>
                      </p:stCondLst>
                      <p:childTnLst>
                        <p:par>
                          <p:cTn id="1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4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4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4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4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6" name="Picture 80" descr="u=111629297,836824017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7" name="Rectangle 2"/>
          <p:cNvSpPr/>
          <p:nvPr/>
        </p:nvSpPr>
        <p:spPr>
          <a:xfrm>
            <a:off x="34920" y="765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若一次函数 </a:t>
            </a:r>
            <a:r>
              <a:rPr b="1" i="1" lang="en-US" sz="3200" spc="-1" strike="noStrike">
                <a:solidFill>
                  <a:srgbClr val="402000"/>
                </a:solidFill>
                <a:latin typeface="Times New Roman"/>
                <a:ea typeface="黑体"/>
              </a:rPr>
              <a:t>y=ax+b</a:t>
            </a: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的图象经过第二、三、四象限，则二次函数 </a:t>
            </a:r>
            <a:r>
              <a:rPr b="1" i="1" lang="en-US" sz="3200" spc="-1" strike="noStrike">
                <a:solidFill>
                  <a:srgbClr val="402000"/>
                </a:solidFill>
                <a:latin typeface="Times New Roman"/>
                <a:ea typeface="黑体"/>
              </a:rPr>
              <a:t>y=ax</a:t>
            </a:r>
            <a:r>
              <a:rPr b="1" i="1" lang="en-US" sz="3200" spc="-1" strike="noStrike" baseline="30000">
                <a:solidFill>
                  <a:srgbClr val="402000"/>
                </a:solidFill>
                <a:latin typeface="Times New Roman"/>
                <a:ea typeface="黑体"/>
              </a:rPr>
              <a:t>2</a:t>
            </a:r>
            <a:r>
              <a:rPr b="1" i="1" lang="en-US" sz="3200" spc="-1" strike="noStrike">
                <a:solidFill>
                  <a:srgbClr val="402000"/>
                </a:solidFill>
                <a:latin typeface="Times New Roman"/>
                <a:ea typeface="黑体"/>
              </a:rPr>
              <a:t>+bx-3 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的大致图象是       </a:t>
            </a: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(  )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168" name="Rectangle 3"/>
          <p:cNvSpPr/>
          <p:nvPr/>
        </p:nvSpPr>
        <p:spPr>
          <a:xfrm>
            <a:off x="0" y="357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7.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在同一直角坐标系中</a:t>
            </a:r>
            <a:r>
              <a:rPr b="1" lang="en-US" sz="3200" spc="-1" strike="noStrike">
                <a:solidFill>
                  <a:srgbClr val="402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二次函数 </a:t>
            </a:r>
            <a:r>
              <a:rPr b="1" i="1" lang="en-US" sz="3200" spc="-1" strike="noStrike">
                <a:solidFill>
                  <a:srgbClr val="402000"/>
                </a:solidFill>
                <a:latin typeface="Times New Roman"/>
                <a:ea typeface="黑体"/>
              </a:rPr>
              <a:t>y=ax</a:t>
            </a:r>
            <a:r>
              <a:rPr b="1" i="1" lang="en-US" sz="3200" spc="-1" strike="noStrike" baseline="30000">
                <a:solidFill>
                  <a:srgbClr val="402000"/>
                </a:solidFill>
                <a:latin typeface="Times New Roman"/>
                <a:ea typeface="黑体"/>
              </a:rPr>
              <a:t>2</a:t>
            </a:r>
            <a:r>
              <a:rPr b="1" i="1" lang="en-US" sz="3200" spc="-1" strike="noStrike">
                <a:solidFill>
                  <a:srgbClr val="402000"/>
                </a:solidFill>
                <a:latin typeface="Times New Roman"/>
                <a:ea typeface="黑体"/>
              </a:rPr>
              <a:t>+bx+c 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与一次函数</a:t>
            </a:r>
            <a:r>
              <a:rPr b="1" i="1" lang="en-US" sz="3200" spc="-1" strike="noStrike">
                <a:solidFill>
                  <a:srgbClr val="402000"/>
                </a:solidFill>
                <a:latin typeface="Times New Roman"/>
                <a:ea typeface="黑体"/>
              </a:rPr>
              <a:t>y=ax+c</a:t>
            </a:r>
            <a:r>
              <a:rPr b="1" lang="zh-CN" sz="3200" spc="-1" strike="noStrike">
                <a:solidFill>
                  <a:srgbClr val="402000"/>
                </a:solidFill>
                <a:latin typeface="黑体"/>
                <a:ea typeface="黑体"/>
              </a:rPr>
              <a:t>的大致图象可能是     （   ）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4169" name="Group 4"/>
          <p:cNvGrpSpPr/>
          <p:nvPr/>
        </p:nvGrpSpPr>
        <p:grpSpPr>
          <a:xfrm>
            <a:off x="250920" y="1484280"/>
            <a:ext cx="8551800" cy="2165760"/>
            <a:chOff x="250920" y="1484280"/>
            <a:chExt cx="8551800" cy="2165760"/>
          </a:xfrm>
        </p:grpSpPr>
        <p:grpSp>
          <p:nvGrpSpPr>
            <p:cNvPr id="4170" name="Group 5"/>
            <p:cNvGrpSpPr/>
            <p:nvPr/>
          </p:nvGrpSpPr>
          <p:grpSpPr>
            <a:xfrm>
              <a:off x="250920" y="1484280"/>
              <a:ext cx="1981080" cy="2069640"/>
              <a:chOff x="250920" y="1484280"/>
              <a:chExt cx="1981080" cy="2069640"/>
            </a:xfrm>
          </p:grpSpPr>
          <p:sp>
            <p:nvSpPr>
              <p:cNvPr id="4171" name="Line 6"/>
              <p:cNvSpPr/>
              <p:nvPr/>
            </p:nvSpPr>
            <p:spPr>
              <a:xfrm>
                <a:off x="250920" y="2654280"/>
                <a:ext cx="19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72" name="Line 7"/>
              <p:cNvSpPr/>
              <p:nvPr/>
            </p:nvSpPr>
            <p:spPr>
              <a:xfrm flipV="1">
                <a:off x="1239840" y="1572840"/>
                <a:ext cx="0" cy="19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73" name="Text Box 8"/>
              <p:cNvSpPr/>
              <p:nvPr/>
            </p:nvSpPr>
            <p:spPr>
              <a:xfrm>
                <a:off x="1779840" y="256392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74" name="Text Box 9"/>
              <p:cNvSpPr/>
              <p:nvPr/>
            </p:nvSpPr>
            <p:spPr>
              <a:xfrm>
                <a:off x="1241640" y="1484280"/>
                <a:ext cx="45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75" name="Text Box 10"/>
              <p:cNvSpPr/>
              <p:nvPr/>
            </p:nvSpPr>
            <p:spPr>
              <a:xfrm>
                <a:off x="879480" y="25639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grpSp>
          <p:nvGrpSpPr>
            <p:cNvPr id="4176" name="Group 11"/>
            <p:cNvGrpSpPr/>
            <p:nvPr/>
          </p:nvGrpSpPr>
          <p:grpSpPr>
            <a:xfrm>
              <a:off x="2411640" y="1484280"/>
              <a:ext cx="1981080" cy="2069640"/>
              <a:chOff x="2411640" y="1484280"/>
              <a:chExt cx="1981080" cy="2069640"/>
            </a:xfrm>
          </p:grpSpPr>
          <p:sp>
            <p:nvSpPr>
              <p:cNvPr id="4177" name="Line 12"/>
              <p:cNvSpPr/>
              <p:nvPr/>
            </p:nvSpPr>
            <p:spPr>
              <a:xfrm>
                <a:off x="2411640" y="2654280"/>
                <a:ext cx="19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78" name="Line 13"/>
              <p:cNvSpPr/>
              <p:nvPr/>
            </p:nvSpPr>
            <p:spPr>
              <a:xfrm flipV="1">
                <a:off x="3400560" y="1572840"/>
                <a:ext cx="0" cy="19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79" name="Text Box 14"/>
              <p:cNvSpPr/>
              <p:nvPr/>
            </p:nvSpPr>
            <p:spPr>
              <a:xfrm>
                <a:off x="3940560" y="256392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80" name="Text Box 15"/>
              <p:cNvSpPr/>
              <p:nvPr/>
            </p:nvSpPr>
            <p:spPr>
              <a:xfrm>
                <a:off x="3402360" y="1484280"/>
                <a:ext cx="45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81" name="Text Box 16"/>
              <p:cNvSpPr/>
              <p:nvPr/>
            </p:nvSpPr>
            <p:spPr>
              <a:xfrm>
                <a:off x="3040200" y="25639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grpSp>
          <p:nvGrpSpPr>
            <p:cNvPr id="4182" name="Group 17"/>
            <p:cNvGrpSpPr/>
            <p:nvPr/>
          </p:nvGrpSpPr>
          <p:grpSpPr>
            <a:xfrm>
              <a:off x="6821640" y="1484280"/>
              <a:ext cx="1981080" cy="2069640"/>
              <a:chOff x="6821640" y="1484280"/>
              <a:chExt cx="1981080" cy="2069640"/>
            </a:xfrm>
          </p:grpSpPr>
          <p:sp>
            <p:nvSpPr>
              <p:cNvPr id="4183" name="Line 18"/>
              <p:cNvSpPr/>
              <p:nvPr/>
            </p:nvSpPr>
            <p:spPr>
              <a:xfrm>
                <a:off x="6821640" y="2654280"/>
                <a:ext cx="19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84" name="Line 19"/>
              <p:cNvSpPr/>
              <p:nvPr/>
            </p:nvSpPr>
            <p:spPr>
              <a:xfrm flipV="1">
                <a:off x="7810560" y="1572840"/>
                <a:ext cx="0" cy="19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85" name="Text Box 20"/>
              <p:cNvSpPr/>
              <p:nvPr/>
            </p:nvSpPr>
            <p:spPr>
              <a:xfrm>
                <a:off x="8350560" y="256392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86" name="Text Box 21"/>
              <p:cNvSpPr/>
              <p:nvPr/>
            </p:nvSpPr>
            <p:spPr>
              <a:xfrm>
                <a:off x="7812360" y="1484280"/>
                <a:ext cx="45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87" name="Text Box 22"/>
              <p:cNvSpPr/>
              <p:nvPr/>
            </p:nvSpPr>
            <p:spPr>
              <a:xfrm>
                <a:off x="7450200" y="25639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grpSp>
          <p:nvGrpSpPr>
            <p:cNvPr id="4188" name="Group 23"/>
            <p:cNvGrpSpPr/>
            <p:nvPr/>
          </p:nvGrpSpPr>
          <p:grpSpPr>
            <a:xfrm>
              <a:off x="4660920" y="1484280"/>
              <a:ext cx="1981080" cy="2069640"/>
              <a:chOff x="4660920" y="1484280"/>
              <a:chExt cx="1981080" cy="2069640"/>
            </a:xfrm>
          </p:grpSpPr>
          <p:sp>
            <p:nvSpPr>
              <p:cNvPr id="4189" name="Line 24"/>
              <p:cNvSpPr/>
              <p:nvPr/>
            </p:nvSpPr>
            <p:spPr>
              <a:xfrm>
                <a:off x="4660920" y="2654280"/>
                <a:ext cx="19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90" name="Line 25"/>
              <p:cNvSpPr/>
              <p:nvPr/>
            </p:nvSpPr>
            <p:spPr>
              <a:xfrm flipV="1">
                <a:off x="5649840" y="1572840"/>
                <a:ext cx="0" cy="19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91" name="Text Box 26"/>
              <p:cNvSpPr/>
              <p:nvPr/>
            </p:nvSpPr>
            <p:spPr>
              <a:xfrm>
                <a:off x="6189840" y="256392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92" name="Text Box 27"/>
              <p:cNvSpPr/>
              <p:nvPr/>
            </p:nvSpPr>
            <p:spPr>
              <a:xfrm>
                <a:off x="5651640" y="1484280"/>
                <a:ext cx="45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193" name="Text Box 28"/>
              <p:cNvSpPr/>
              <p:nvPr/>
            </p:nvSpPr>
            <p:spPr>
              <a:xfrm>
                <a:off x="5289480" y="25639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sp>
          <p:nvSpPr>
            <p:cNvPr id="4194" name="Text Box 29"/>
            <p:cNvSpPr/>
            <p:nvPr/>
          </p:nvSpPr>
          <p:spPr>
            <a:xfrm>
              <a:off x="289080" y="3068640"/>
              <a:ext cx="134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95" name="Text Box 30"/>
            <p:cNvSpPr/>
            <p:nvPr/>
          </p:nvSpPr>
          <p:spPr>
            <a:xfrm>
              <a:off x="2448000" y="3068640"/>
              <a:ext cx="12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96" name="Text Box 31"/>
            <p:cNvSpPr/>
            <p:nvPr/>
          </p:nvSpPr>
          <p:spPr>
            <a:xfrm>
              <a:off x="4699080" y="306864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97" name="Text Box 32"/>
            <p:cNvSpPr/>
            <p:nvPr/>
          </p:nvSpPr>
          <p:spPr>
            <a:xfrm>
              <a:off x="6859800" y="3068640"/>
              <a:ext cx="80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98" name="未知"/>
            <p:cNvSpPr/>
            <p:nvPr/>
          </p:nvSpPr>
          <p:spPr>
            <a:xfrm>
              <a:off x="341280" y="2235240"/>
              <a:ext cx="1279800" cy="1081080"/>
            </a:xfrm>
            <a:custGeom>
              <a:avLst/>
              <a:gdLst/>
              <a:ahLst/>
              <a:rect l="l" t="t" r="r" b="b"/>
              <a:pathLst>
                <a:path w="1815" h="1361">
                  <a:moveTo>
                    <a:pt x="0" y="0"/>
                  </a:moveTo>
                  <a:cubicBezTo>
                    <a:pt x="302" y="680"/>
                    <a:pt x="605" y="1361"/>
                    <a:pt x="907" y="1361"/>
                  </a:cubicBezTo>
                  <a:cubicBezTo>
                    <a:pt x="1209" y="1361"/>
                    <a:pt x="1512" y="680"/>
                    <a:pt x="181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199" name="未知"/>
            <p:cNvSpPr/>
            <p:nvPr/>
          </p:nvSpPr>
          <p:spPr>
            <a:xfrm>
              <a:off x="3041640" y="2235240"/>
              <a:ext cx="1279800" cy="1081080"/>
            </a:xfrm>
            <a:custGeom>
              <a:avLst/>
              <a:gdLst/>
              <a:ahLst/>
              <a:rect l="l" t="t" r="r" b="b"/>
              <a:pathLst>
                <a:path w="1815" h="1361">
                  <a:moveTo>
                    <a:pt x="0" y="0"/>
                  </a:moveTo>
                  <a:cubicBezTo>
                    <a:pt x="302" y="680"/>
                    <a:pt x="605" y="1361"/>
                    <a:pt x="907" y="1361"/>
                  </a:cubicBezTo>
                  <a:cubicBezTo>
                    <a:pt x="1209" y="1361"/>
                    <a:pt x="1512" y="680"/>
                    <a:pt x="181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200" name="未知"/>
            <p:cNvSpPr/>
            <p:nvPr/>
          </p:nvSpPr>
          <p:spPr>
            <a:xfrm rot="10800000">
              <a:off x="4662720" y="2325600"/>
              <a:ext cx="1079280" cy="990720"/>
            </a:xfrm>
            <a:custGeom>
              <a:avLst/>
              <a:gdLst/>
              <a:ahLst/>
              <a:rect l="l" t="t" r="r" b="b"/>
              <a:pathLst>
                <a:path w="1815" h="1361">
                  <a:moveTo>
                    <a:pt x="0" y="0"/>
                  </a:moveTo>
                  <a:cubicBezTo>
                    <a:pt x="302" y="680"/>
                    <a:pt x="605" y="1361"/>
                    <a:pt x="907" y="1361"/>
                  </a:cubicBezTo>
                  <a:cubicBezTo>
                    <a:pt x="1209" y="1361"/>
                    <a:pt x="1512" y="680"/>
                    <a:pt x="181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201" name="未知"/>
            <p:cNvSpPr/>
            <p:nvPr/>
          </p:nvSpPr>
          <p:spPr>
            <a:xfrm rot="10800000">
              <a:off x="7723440" y="2325600"/>
              <a:ext cx="1079280" cy="990720"/>
            </a:xfrm>
            <a:custGeom>
              <a:avLst/>
              <a:gdLst/>
              <a:ahLst/>
              <a:rect l="l" t="t" r="r" b="b"/>
              <a:pathLst>
                <a:path w="1815" h="1361">
                  <a:moveTo>
                    <a:pt x="0" y="0"/>
                  </a:moveTo>
                  <a:cubicBezTo>
                    <a:pt x="302" y="680"/>
                    <a:pt x="605" y="1361"/>
                    <a:pt x="907" y="1361"/>
                  </a:cubicBezTo>
                  <a:cubicBezTo>
                    <a:pt x="1209" y="1361"/>
                    <a:pt x="1512" y="680"/>
                    <a:pt x="181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202" name="Text Box 37"/>
            <p:cNvSpPr/>
            <p:nvPr/>
          </p:nvSpPr>
          <p:spPr>
            <a:xfrm>
              <a:off x="1241640" y="28652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-3</a:t>
              </a: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203" name="Text Box 38"/>
            <p:cNvSpPr/>
            <p:nvPr/>
          </p:nvSpPr>
          <p:spPr>
            <a:xfrm>
              <a:off x="2951280" y="295416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-3</a:t>
              </a: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204" name="Text Box 39"/>
            <p:cNvSpPr/>
            <p:nvPr/>
          </p:nvSpPr>
          <p:spPr>
            <a:xfrm>
              <a:off x="5202360" y="295416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-3</a:t>
              </a: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205" name="Text Box 40"/>
            <p:cNvSpPr/>
            <p:nvPr/>
          </p:nvSpPr>
          <p:spPr>
            <a:xfrm>
              <a:off x="7272360" y="295416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-3</a:t>
              </a: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4206" name="Group 41"/>
          <p:cNvGrpSpPr/>
          <p:nvPr/>
        </p:nvGrpSpPr>
        <p:grpSpPr>
          <a:xfrm>
            <a:off x="0" y="4508640"/>
            <a:ext cx="8623440" cy="2165760"/>
            <a:chOff x="0" y="4508640"/>
            <a:chExt cx="8623440" cy="2165760"/>
          </a:xfrm>
        </p:grpSpPr>
        <p:grpSp>
          <p:nvGrpSpPr>
            <p:cNvPr id="4207" name="Group 42"/>
            <p:cNvGrpSpPr/>
            <p:nvPr/>
          </p:nvGrpSpPr>
          <p:grpSpPr>
            <a:xfrm>
              <a:off x="0" y="4508640"/>
              <a:ext cx="1981080" cy="2069640"/>
              <a:chOff x="0" y="4508640"/>
              <a:chExt cx="1981080" cy="2069640"/>
            </a:xfrm>
          </p:grpSpPr>
          <p:sp>
            <p:nvSpPr>
              <p:cNvPr id="4208" name="Line 43"/>
              <p:cNvSpPr/>
              <p:nvPr/>
            </p:nvSpPr>
            <p:spPr>
              <a:xfrm>
                <a:off x="0" y="5678640"/>
                <a:ext cx="19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209" name="Line 44"/>
              <p:cNvSpPr/>
              <p:nvPr/>
            </p:nvSpPr>
            <p:spPr>
              <a:xfrm flipV="1">
                <a:off x="988920" y="4597200"/>
                <a:ext cx="0" cy="19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210" name="Text Box 45"/>
              <p:cNvSpPr/>
              <p:nvPr/>
            </p:nvSpPr>
            <p:spPr>
              <a:xfrm>
                <a:off x="1528920" y="558828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211" name="Text Box 46"/>
              <p:cNvSpPr/>
              <p:nvPr/>
            </p:nvSpPr>
            <p:spPr>
              <a:xfrm>
                <a:off x="990720" y="4508640"/>
                <a:ext cx="45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212" name="Text Box 47"/>
              <p:cNvSpPr/>
              <p:nvPr/>
            </p:nvSpPr>
            <p:spPr>
              <a:xfrm>
                <a:off x="628560" y="5588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grpSp>
          <p:nvGrpSpPr>
            <p:cNvPr id="4213" name="Group 48"/>
            <p:cNvGrpSpPr/>
            <p:nvPr/>
          </p:nvGrpSpPr>
          <p:grpSpPr>
            <a:xfrm>
              <a:off x="2160720" y="4508640"/>
              <a:ext cx="1981080" cy="2069640"/>
              <a:chOff x="2160720" y="4508640"/>
              <a:chExt cx="1981080" cy="2069640"/>
            </a:xfrm>
          </p:grpSpPr>
          <p:sp>
            <p:nvSpPr>
              <p:cNvPr id="4214" name="Line 49"/>
              <p:cNvSpPr/>
              <p:nvPr/>
            </p:nvSpPr>
            <p:spPr>
              <a:xfrm>
                <a:off x="2160720" y="5678640"/>
                <a:ext cx="19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215" name="Line 50"/>
              <p:cNvSpPr/>
              <p:nvPr/>
            </p:nvSpPr>
            <p:spPr>
              <a:xfrm flipV="1">
                <a:off x="3149640" y="4597200"/>
                <a:ext cx="0" cy="19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216" name="Text Box 51"/>
              <p:cNvSpPr/>
              <p:nvPr/>
            </p:nvSpPr>
            <p:spPr>
              <a:xfrm>
                <a:off x="3689640" y="558828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217" name="Text Box 52"/>
              <p:cNvSpPr/>
              <p:nvPr/>
            </p:nvSpPr>
            <p:spPr>
              <a:xfrm>
                <a:off x="3151440" y="4508640"/>
                <a:ext cx="45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218" name="Text Box 53"/>
              <p:cNvSpPr/>
              <p:nvPr/>
            </p:nvSpPr>
            <p:spPr>
              <a:xfrm>
                <a:off x="2789280" y="5588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grpSp>
          <p:nvGrpSpPr>
            <p:cNvPr id="4219" name="Group 54"/>
            <p:cNvGrpSpPr/>
            <p:nvPr/>
          </p:nvGrpSpPr>
          <p:grpSpPr>
            <a:xfrm>
              <a:off x="6570720" y="4508640"/>
              <a:ext cx="1981080" cy="2069640"/>
              <a:chOff x="6570720" y="4508640"/>
              <a:chExt cx="1981080" cy="2069640"/>
            </a:xfrm>
          </p:grpSpPr>
          <p:sp>
            <p:nvSpPr>
              <p:cNvPr id="4220" name="Line 55"/>
              <p:cNvSpPr/>
              <p:nvPr/>
            </p:nvSpPr>
            <p:spPr>
              <a:xfrm>
                <a:off x="6570720" y="5678640"/>
                <a:ext cx="19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221" name="Line 56"/>
              <p:cNvSpPr/>
              <p:nvPr/>
            </p:nvSpPr>
            <p:spPr>
              <a:xfrm flipV="1">
                <a:off x="7559640" y="4597200"/>
                <a:ext cx="0" cy="19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222" name="Text Box 57"/>
              <p:cNvSpPr/>
              <p:nvPr/>
            </p:nvSpPr>
            <p:spPr>
              <a:xfrm>
                <a:off x="8099640" y="558828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223" name="Text Box 58"/>
              <p:cNvSpPr/>
              <p:nvPr/>
            </p:nvSpPr>
            <p:spPr>
              <a:xfrm>
                <a:off x="7561440" y="4508640"/>
                <a:ext cx="45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224" name="Text Box 59"/>
              <p:cNvSpPr/>
              <p:nvPr/>
            </p:nvSpPr>
            <p:spPr>
              <a:xfrm>
                <a:off x="7199280" y="5588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grpSp>
          <p:nvGrpSpPr>
            <p:cNvPr id="4225" name="Group 60"/>
            <p:cNvGrpSpPr/>
            <p:nvPr/>
          </p:nvGrpSpPr>
          <p:grpSpPr>
            <a:xfrm>
              <a:off x="4410000" y="4508640"/>
              <a:ext cx="1981080" cy="2069640"/>
              <a:chOff x="4410000" y="4508640"/>
              <a:chExt cx="1981080" cy="2069640"/>
            </a:xfrm>
          </p:grpSpPr>
          <p:sp>
            <p:nvSpPr>
              <p:cNvPr id="4226" name="Line 61"/>
              <p:cNvSpPr/>
              <p:nvPr/>
            </p:nvSpPr>
            <p:spPr>
              <a:xfrm>
                <a:off x="4410000" y="5678640"/>
                <a:ext cx="19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227" name="Line 62"/>
              <p:cNvSpPr/>
              <p:nvPr/>
            </p:nvSpPr>
            <p:spPr>
              <a:xfrm flipV="1">
                <a:off x="5398920" y="4597200"/>
                <a:ext cx="0" cy="19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228" name="Text Box 63"/>
              <p:cNvSpPr/>
              <p:nvPr/>
            </p:nvSpPr>
            <p:spPr>
              <a:xfrm>
                <a:off x="5938920" y="558828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229" name="Text Box 64"/>
              <p:cNvSpPr/>
              <p:nvPr/>
            </p:nvSpPr>
            <p:spPr>
              <a:xfrm>
                <a:off x="5400720" y="4508640"/>
                <a:ext cx="45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230" name="Text Box 65"/>
              <p:cNvSpPr/>
              <p:nvPr/>
            </p:nvSpPr>
            <p:spPr>
              <a:xfrm>
                <a:off x="5038560" y="5588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02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sp>
          <p:nvSpPr>
            <p:cNvPr id="4231" name="Text Box 66"/>
            <p:cNvSpPr/>
            <p:nvPr/>
          </p:nvSpPr>
          <p:spPr>
            <a:xfrm>
              <a:off x="468360" y="6093000"/>
              <a:ext cx="134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232" name="Text Box 67"/>
            <p:cNvSpPr/>
            <p:nvPr/>
          </p:nvSpPr>
          <p:spPr>
            <a:xfrm>
              <a:off x="2627280" y="6093000"/>
              <a:ext cx="12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233" name="Text Box 68"/>
            <p:cNvSpPr/>
            <p:nvPr/>
          </p:nvSpPr>
          <p:spPr>
            <a:xfrm>
              <a:off x="4878360" y="609300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234" name="Text Box 69"/>
            <p:cNvSpPr/>
            <p:nvPr/>
          </p:nvSpPr>
          <p:spPr>
            <a:xfrm>
              <a:off x="7039080" y="6093000"/>
              <a:ext cx="80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235" name="未知"/>
            <p:cNvSpPr/>
            <p:nvPr/>
          </p:nvSpPr>
          <p:spPr>
            <a:xfrm rot="10800000">
              <a:off x="5111280" y="4957920"/>
              <a:ext cx="1079640" cy="990720"/>
            </a:xfrm>
            <a:custGeom>
              <a:avLst/>
              <a:gdLst/>
              <a:ahLst/>
              <a:rect l="l" t="t" r="r" b="b"/>
              <a:pathLst>
                <a:path w="1815" h="1361">
                  <a:moveTo>
                    <a:pt x="0" y="0"/>
                  </a:moveTo>
                  <a:cubicBezTo>
                    <a:pt x="302" y="680"/>
                    <a:pt x="605" y="1361"/>
                    <a:pt x="907" y="1361"/>
                  </a:cubicBezTo>
                  <a:cubicBezTo>
                    <a:pt x="1209" y="1361"/>
                    <a:pt x="1512" y="680"/>
                    <a:pt x="181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236" name="未知"/>
            <p:cNvSpPr/>
            <p:nvPr/>
          </p:nvSpPr>
          <p:spPr>
            <a:xfrm rot="10800000">
              <a:off x="701280" y="5048280"/>
              <a:ext cx="1079640" cy="990720"/>
            </a:xfrm>
            <a:custGeom>
              <a:avLst/>
              <a:gdLst/>
              <a:ahLst/>
              <a:rect l="l" t="t" r="r" b="b"/>
              <a:pathLst>
                <a:path w="1815" h="1361">
                  <a:moveTo>
                    <a:pt x="0" y="0"/>
                  </a:moveTo>
                  <a:cubicBezTo>
                    <a:pt x="302" y="680"/>
                    <a:pt x="605" y="1361"/>
                    <a:pt x="907" y="1361"/>
                  </a:cubicBezTo>
                  <a:cubicBezTo>
                    <a:pt x="1209" y="1361"/>
                    <a:pt x="1512" y="680"/>
                    <a:pt x="181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237" name="未知"/>
            <p:cNvSpPr/>
            <p:nvPr/>
          </p:nvSpPr>
          <p:spPr>
            <a:xfrm>
              <a:off x="7093080" y="5139000"/>
              <a:ext cx="1279440" cy="1081080"/>
            </a:xfrm>
            <a:custGeom>
              <a:avLst/>
              <a:gdLst/>
              <a:ahLst/>
              <a:rect l="l" t="t" r="r" b="b"/>
              <a:pathLst>
                <a:path w="1815" h="1361">
                  <a:moveTo>
                    <a:pt x="0" y="0"/>
                  </a:moveTo>
                  <a:cubicBezTo>
                    <a:pt x="302" y="680"/>
                    <a:pt x="605" y="1361"/>
                    <a:pt x="907" y="1361"/>
                  </a:cubicBezTo>
                  <a:cubicBezTo>
                    <a:pt x="1209" y="1361"/>
                    <a:pt x="1512" y="680"/>
                    <a:pt x="181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238" name="未知"/>
            <p:cNvSpPr/>
            <p:nvPr/>
          </p:nvSpPr>
          <p:spPr>
            <a:xfrm>
              <a:off x="2951280" y="4869000"/>
              <a:ext cx="1279440" cy="1081080"/>
            </a:xfrm>
            <a:custGeom>
              <a:avLst/>
              <a:gdLst/>
              <a:ahLst/>
              <a:rect l="l" t="t" r="r" b="b"/>
              <a:pathLst>
                <a:path w="1815" h="1361">
                  <a:moveTo>
                    <a:pt x="0" y="0"/>
                  </a:moveTo>
                  <a:cubicBezTo>
                    <a:pt x="302" y="680"/>
                    <a:pt x="605" y="1361"/>
                    <a:pt x="907" y="1361"/>
                  </a:cubicBezTo>
                  <a:cubicBezTo>
                    <a:pt x="1209" y="1361"/>
                    <a:pt x="1512" y="680"/>
                    <a:pt x="181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239" name="Line 74"/>
            <p:cNvSpPr/>
            <p:nvPr/>
          </p:nvSpPr>
          <p:spPr>
            <a:xfrm flipV="1">
              <a:off x="468360" y="5065920"/>
              <a:ext cx="134928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240" name="Line 75"/>
            <p:cNvSpPr/>
            <p:nvPr/>
          </p:nvSpPr>
          <p:spPr>
            <a:xfrm>
              <a:off x="5111640" y="5048280"/>
              <a:ext cx="13510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241" name="Line 76"/>
            <p:cNvSpPr/>
            <p:nvPr/>
          </p:nvSpPr>
          <p:spPr>
            <a:xfrm flipV="1">
              <a:off x="7182000" y="5048280"/>
              <a:ext cx="144144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4242" name="Line 77"/>
            <p:cNvSpPr/>
            <p:nvPr/>
          </p:nvSpPr>
          <p:spPr>
            <a:xfrm>
              <a:off x="2681280" y="5139000"/>
              <a:ext cx="153036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243" name="Text Box 78">
            <a:hlinkClick r:id="rId2" action="ppaction://hlinksldjump"/>
          </p:cNvPr>
          <p:cNvSpPr/>
          <p:nvPr/>
        </p:nvSpPr>
        <p:spPr>
          <a:xfrm>
            <a:off x="250920" y="1628640"/>
            <a:ext cx="117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44" name="Text Box 79">
            <a:hlinkClick r:id="rId3" action="ppaction://hlinksldjump"/>
          </p:cNvPr>
          <p:cNvSpPr/>
          <p:nvPr/>
        </p:nvSpPr>
        <p:spPr>
          <a:xfrm>
            <a:off x="7740720" y="4076640"/>
            <a:ext cx="117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45" name="WordArt 81"/>
          <p:cNvSpPr txBox="1"/>
          <p:nvPr/>
        </p:nvSpPr>
        <p:spPr>
          <a:xfrm>
            <a:off x="2556000" y="189000"/>
            <a:ext cx="244764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课 堂 练 习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cover dir="l"/>
  </p:transition>
  <p:timing>
    <p:tnLst>
      <p:par>
        <p:cTn id="1659" dur="indefinite" restart="never" nodeType="tmRoot">
          <p:childTnLst>
            <p:seq>
              <p:cTn id="1660" dur="indefinite" nodeType="mainSeq">
                <p:childTnLst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4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4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4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4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6" name="Picture 67" descr="u=111629297,836824017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47" name="Text Box 2"/>
          <p:cNvSpPr/>
          <p:nvPr/>
        </p:nvSpPr>
        <p:spPr>
          <a:xfrm>
            <a:off x="1619280" y="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二次</a:t>
            </a:r>
            <a:r>
              <a:rPr b="1" lang="zh-CN" sz="3200" spc="-1" strike="noStrike">
                <a:solidFill>
                  <a:srgbClr val="402000"/>
                </a:solidFill>
                <a:latin typeface="隶书"/>
                <a:ea typeface="隶书"/>
              </a:rPr>
              <a:t>函数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y=ax</a:t>
            </a:r>
            <a:r>
              <a:rPr b="1" lang="en-US" sz="3200" spc="-1" strike="noStrike" baseline="30000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+bx+c</a:t>
            </a:r>
            <a:r>
              <a:rPr b="1" lang="en-US" sz="3200" spc="-1" strike="noStrike">
                <a:solidFill>
                  <a:srgbClr val="402000"/>
                </a:solidFill>
                <a:latin typeface="隶书"/>
                <a:ea typeface="隶书"/>
              </a:rPr>
              <a:t>(a≠0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图象和性质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48" name="Text Box 3"/>
          <p:cNvSpPr/>
          <p:nvPr/>
        </p:nvSpPr>
        <p:spPr>
          <a:xfrm>
            <a:off x="415080" y="781200"/>
            <a:ext cx="20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１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顶点坐标与对称轴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49" name="Text Box 4"/>
          <p:cNvSpPr/>
          <p:nvPr/>
        </p:nvSpPr>
        <p:spPr>
          <a:xfrm>
            <a:off x="349560" y="12384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２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位置与开口方向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50" name="Text Box 5"/>
          <p:cNvSpPr/>
          <p:nvPr/>
        </p:nvSpPr>
        <p:spPr>
          <a:xfrm>
            <a:off x="283680" y="170964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３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增减性与最值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graphicFrame>
        <p:nvGraphicFramePr>
          <p:cNvPr id="4251" name=""/>
          <p:cNvGraphicFramePr/>
          <p:nvPr/>
        </p:nvGraphicFramePr>
        <p:xfrm>
          <a:off x="0" y="2852640"/>
          <a:ext cx="8859960" cy="3822840"/>
        </p:xfrm>
        <a:graphic>
          <a:graphicData uri="http://schemas.openxmlformats.org/drawingml/2006/table">
            <a:tbl>
              <a:tblPr/>
              <a:tblGrid>
                <a:gridCol w="1428840"/>
                <a:gridCol w="3678120"/>
                <a:gridCol w="375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2" name="Text Box 40"/>
          <p:cNvSpPr/>
          <p:nvPr/>
        </p:nvSpPr>
        <p:spPr>
          <a:xfrm>
            <a:off x="4622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抛物线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53" name="Text Box 41"/>
          <p:cNvSpPr/>
          <p:nvPr/>
        </p:nvSpPr>
        <p:spPr>
          <a:xfrm>
            <a:off x="366120" y="352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顶点坐标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54" name="Text Box 42"/>
          <p:cNvSpPr/>
          <p:nvPr/>
        </p:nvSpPr>
        <p:spPr>
          <a:xfrm>
            <a:off x="462240" y="4059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对称轴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55" name="Text Box 43"/>
          <p:cNvSpPr/>
          <p:nvPr/>
        </p:nvSpPr>
        <p:spPr>
          <a:xfrm>
            <a:off x="624960" y="459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位置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56" name="Text Box 44"/>
          <p:cNvSpPr/>
          <p:nvPr/>
        </p:nvSpPr>
        <p:spPr>
          <a:xfrm>
            <a:off x="391320" y="5126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开口方向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57" name="Text Box 45"/>
          <p:cNvSpPr/>
          <p:nvPr/>
        </p:nvSpPr>
        <p:spPr>
          <a:xfrm>
            <a:off x="487800" y="571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增减性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58" name="Text Box 46"/>
          <p:cNvSpPr/>
          <p:nvPr/>
        </p:nvSpPr>
        <p:spPr>
          <a:xfrm>
            <a:off x="577440" y="6269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最值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59" name="Text Box 47"/>
          <p:cNvSpPr/>
          <p:nvPr/>
        </p:nvSpPr>
        <p:spPr>
          <a:xfrm>
            <a:off x="1898280" y="2852640"/>
            <a:ext cx="29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y=a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+bx+c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a&gt;0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60" name="Text Box 48"/>
          <p:cNvSpPr/>
          <p:nvPr/>
        </p:nvSpPr>
        <p:spPr>
          <a:xfrm>
            <a:off x="5643360" y="2852640"/>
            <a:ext cx="29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y=a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+bx+c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a&lt;0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61" name="Text Box 49"/>
          <p:cNvSpPr/>
          <p:nvPr/>
        </p:nvSpPr>
        <p:spPr>
          <a:xfrm>
            <a:off x="1979640" y="45086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由</a:t>
            </a: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a,b</a:t>
            </a: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的符号确定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62" name="Text Box 50"/>
          <p:cNvSpPr/>
          <p:nvPr/>
        </p:nvSpPr>
        <p:spPr>
          <a:xfrm>
            <a:off x="6180480" y="4437000"/>
            <a:ext cx="19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由</a:t>
            </a: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a,b</a:t>
            </a: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的符号确定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63" name="Text Box 51"/>
          <p:cNvSpPr/>
          <p:nvPr/>
        </p:nvSpPr>
        <p:spPr>
          <a:xfrm>
            <a:off x="2771640" y="501336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向上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64" name="Text Box 52"/>
          <p:cNvSpPr/>
          <p:nvPr/>
        </p:nvSpPr>
        <p:spPr>
          <a:xfrm>
            <a:off x="6300720" y="5013360"/>
            <a:ext cx="14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向下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65" name="Text Box 53"/>
          <p:cNvSpPr/>
          <p:nvPr/>
        </p:nvSpPr>
        <p:spPr>
          <a:xfrm>
            <a:off x="1619280" y="55166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2000"/>
                </a:solidFill>
                <a:latin typeface="Times New Roman"/>
              </a:rPr>
              <a:t>在对称轴的左侧</a:t>
            </a: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,y</a:t>
            </a:r>
            <a:r>
              <a:rPr b="1" lang="zh-CN" sz="1600" spc="-1" strike="noStrike">
                <a:solidFill>
                  <a:srgbClr val="402000"/>
                </a:solidFill>
                <a:latin typeface="Times New Roman"/>
              </a:rPr>
              <a:t>随着</a:t>
            </a: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402000"/>
                </a:solidFill>
                <a:latin typeface="Times New Roman"/>
              </a:rPr>
              <a:t>的增大而减小</a:t>
            </a: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. </a:t>
            </a:r>
            <a:r>
              <a:rPr b="1" lang="zh-CN" sz="1600" spc="-1" strike="noStrike">
                <a:solidFill>
                  <a:srgbClr val="402000"/>
                </a:solidFill>
                <a:latin typeface="Times New Roman"/>
              </a:rPr>
              <a:t>在对称轴的右侧</a:t>
            </a: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, y</a:t>
            </a:r>
            <a:r>
              <a:rPr b="1" lang="zh-CN" sz="1600" spc="-1" strike="noStrike">
                <a:solidFill>
                  <a:srgbClr val="402000"/>
                </a:solidFill>
                <a:latin typeface="Times New Roman"/>
              </a:rPr>
              <a:t>随着</a:t>
            </a: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402000"/>
                </a:solidFill>
                <a:latin typeface="Times New Roman"/>
              </a:rPr>
              <a:t>的增大而增大</a:t>
            </a: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66" name="Text Box 54"/>
          <p:cNvSpPr/>
          <p:nvPr/>
        </p:nvSpPr>
        <p:spPr>
          <a:xfrm>
            <a:off x="5219640" y="551664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2000"/>
                </a:solidFill>
                <a:latin typeface="Times New Roman"/>
              </a:rPr>
              <a:t>在对称轴的左侧</a:t>
            </a: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,y</a:t>
            </a:r>
            <a:r>
              <a:rPr b="1" lang="zh-CN" sz="1600" spc="-1" strike="noStrike">
                <a:solidFill>
                  <a:srgbClr val="402000"/>
                </a:solidFill>
                <a:latin typeface="Times New Roman"/>
              </a:rPr>
              <a:t>随着</a:t>
            </a: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402000"/>
                </a:solidFill>
                <a:latin typeface="Times New Roman"/>
              </a:rPr>
              <a:t>的增大而增大</a:t>
            </a: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. </a:t>
            </a:r>
            <a:r>
              <a:rPr b="1" lang="zh-CN" sz="1600" spc="-1" strike="noStrike">
                <a:solidFill>
                  <a:srgbClr val="402000"/>
                </a:solidFill>
                <a:latin typeface="Times New Roman"/>
              </a:rPr>
              <a:t>在对称轴的右侧</a:t>
            </a: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, y</a:t>
            </a:r>
            <a:r>
              <a:rPr b="1" lang="zh-CN" sz="1600" spc="-1" strike="noStrike">
                <a:solidFill>
                  <a:srgbClr val="402000"/>
                </a:solidFill>
                <a:latin typeface="Times New Roman"/>
              </a:rPr>
              <a:t>随着</a:t>
            </a: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402000"/>
                </a:solidFill>
                <a:latin typeface="Times New Roman"/>
              </a:rPr>
              <a:t>的增大而减小</a:t>
            </a: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67" name="Text Box 55"/>
          <p:cNvSpPr/>
          <p:nvPr/>
        </p:nvSpPr>
        <p:spPr>
          <a:xfrm>
            <a:off x="0" y="22096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根据图形填表：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4268" name="Picture 56" descr="1"/>
          <p:cNvPicPr/>
          <p:nvPr/>
        </p:nvPicPr>
        <p:blipFill>
          <a:blip r:embed="rId2"/>
          <a:srcRect l="6227" t="0" r="53276" b="44699"/>
          <a:stretch/>
        </p:blipFill>
        <p:spPr>
          <a:xfrm>
            <a:off x="3276720" y="476280"/>
            <a:ext cx="2263680" cy="2317680"/>
          </a:xfrm>
          <a:prstGeom prst="rect">
            <a:avLst/>
          </a:prstGeom>
          <a:ln w="0">
            <a:noFill/>
          </a:ln>
        </p:spPr>
      </p:pic>
      <p:sp>
        <p:nvSpPr>
          <p:cNvPr id="4269" name="Line 57"/>
          <p:cNvSpPr/>
          <p:nvPr/>
        </p:nvSpPr>
        <p:spPr>
          <a:xfrm>
            <a:off x="4154400" y="4968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4270" name="Picture 58" descr="1"/>
          <p:cNvPicPr/>
          <p:nvPr/>
        </p:nvPicPr>
        <p:blipFill>
          <a:blip r:embed="rId3"/>
          <a:srcRect l="13686" t="25222" r="42732" b="18249"/>
          <a:stretch/>
        </p:blipFill>
        <p:spPr>
          <a:xfrm>
            <a:off x="5580000" y="549360"/>
            <a:ext cx="2352600" cy="2289240"/>
          </a:xfrm>
          <a:prstGeom prst="rect">
            <a:avLst/>
          </a:prstGeom>
          <a:ln w="0">
            <a:noFill/>
          </a:ln>
        </p:spPr>
      </p:pic>
      <p:sp>
        <p:nvSpPr>
          <p:cNvPr id="4271" name="Line 59"/>
          <p:cNvSpPr/>
          <p:nvPr/>
        </p:nvSpPr>
        <p:spPr>
          <a:xfrm>
            <a:off x="6973920" y="5335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2" name="Object 60"/>
              <p:cNvSpPr txBox="1"/>
              <p:nvPr/>
            </p:nvSpPr>
            <p:spPr>
              <a:xfrm>
                <a:off x="2411280" y="3357720"/>
                <a:ext cx="1654200" cy="73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3" name="Object 61"/>
              <p:cNvSpPr txBox="1"/>
              <p:nvPr/>
            </p:nvSpPr>
            <p:spPr>
              <a:xfrm>
                <a:off x="6084720" y="3357720"/>
                <a:ext cx="1654200" cy="73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4" name="Object 62"/>
              <p:cNvSpPr txBox="1"/>
              <p:nvPr/>
            </p:nvSpPr>
            <p:spPr>
              <a:xfrm>
                <a:off x="2627280" y="3933720"/>
                <a:ext cx="13222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直线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5" name="Object 63"/>
              <p:cNvSpPr txBox="1"/>
              <p:nvPr/>
            </p:nvSpPr>
            <p:spPr>
              <a:xfrm>
                <a:off x="6372360" y="3860640"/>
                <a:ext cx="13222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直线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6" name="Object 64"/>
              <p:cNvSpPr txBox="1"/>
              <p:nvPr/>
            </p:nvSpPr>
            <p:spPr>
              <a:xfrm>
                <a:off x="1835280" y="6021360"/>
                <a:ext cx="31305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时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最小值为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7" name="Object 65"/>
              <p:cNvSpPr txBox="1"/>
              <p:nvPr/>
            </p:nvSpPr>
            <p:spPr>
              <a:xfrm>
                <a:off x="5364000" y="6021360"/>
                <a:ext cx="31305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时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最大值为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78" name="AutoShape 69"/>
          <p:cNvSpPr/>
          <p:nvPr/>
        </p:nvSpPr>
        <p:spPr>
          <a:xfrm>
            <a:off x="0" y="189000"/>
            <a:ext cx="1584360" cy="576000"/>
          </a:xfrm>
          <a:prstGeom prst="flowChartAlternateProcess">
            <a:avLst/>
          </a:prstGeom>
          <a:gradFill rotWithShape="0">
            <a:gsLst>
              <a:gs pos="0">
                <a:srgbClr val="00cc00"/>
              </a:gs>
              <a:gs pos="50000">
                <a:srgbClr val="e7fae7"/>
              </a:gs>
              <a:gs pos="100000">
                <a:srgbClr val="00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79" name="WordArt 70"/>
          <p:cNvSpPr txBox="1"/>
          <p:nvPr/>
        </p:nvSpPr>
        <p:spPr>
          <a:xfrm>
            <a:off x="179280" y="189000"/>
            <a:ext cx="12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课堂小结：</a:t>
            </a:r>
            <a:endParaRPr b="1" lang="en-US" sz="9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80" name="Rectangle 71"/>
          <p:cNvSpPr/>
          <p:nvPr/>
        </p:nvSpPr>
        <p:spPr>
          <a:xfrm>
            <a:off x="1692360" y="0"/>
            <a:ext cx="72723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节课我们学习了哪些知识？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81" name="Rectangle 72"/>
          <p:cNvSpPr/>
          <p:nvPr/>
        </p:nvSpPr>
        <p:spPr>
          <a:xfrm>
            <a:off x="1344240" y="6216480"/>
            <a:ext cx="2375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你还有哪些困惑？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8" dur="2000"/>
                                        <p:tgtEl>
                                          <p:spTgt spid="4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4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4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4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9" dur="500"/>
                                        <p:tgtEl>
                                          <p:spTgt spid="4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nodeType="clickEffect" fill="hold">
                      <p:stCondLst>
                        <p:cond delay="indefinite"/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4" dur="500"/>
                                        <p:tgtEl>
                                          <p:spTgt spid="4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9" dur="500"/>
                                        <p:tgtEl>
                                          <p:spTgt spid="4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nodeType="clickEffect" fill="hold">
                      <p:stCondLst>
                        <p:cond delay="indefinite"/>
                      </p:stCondLst>
                      <p:childTnLst>
                        <p:par>
                          <p:cTn id="1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4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4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500"/>
                                        <p:tgtEl>
                                          <p:spTgt spid="4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nodeType="clickEffect" fill="hold">
                      <p:stCondLst>
                        <p:cond delay="indefinite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4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4" dur="500"/>
                                        <p:tgtEl>
                                          <p:spTgt spid="4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4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4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4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4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nodeType="clickEffect" fill="hold">
                      <p:stCondLst>
                        <p:cond delay="indefinite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0" dur="2000"/>
                                        <p:tgtEl>
                                          <p:spTgt spid="4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2" name="Picture 2" descr="u=111629297,836824017&amp;fm=0&amp;gp=0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3" name="WordArt 3"/>
          <p:cNvSpPr txBox="1"/>
          <p:nvPr/>
        </p:nvSpPr>
        <p:spPr>
          <a:xfrm>
            <a:off x="2556000" y="260280"/>
            <a:ext cx="352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达  标  测  试：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284" name="Rectangle 5"/>
          <p:cNvSpPr/>
          <p:nvPr/>
        </p:nvSpPr>
        <p:spPr>
          <a:xfrm>
            <a:off x="539640" y="981000"/>
            <a:ext cx="79930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402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402000"/>
                </a:solidFill>
                <a:latin typeface="Arial"/>
              </a:rPr>
              <a:t>．用配方法求二次函数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Arial"/>
              </a:rPr>
              <a:t>y</a:t>
            </a:r>
            <a:r>
              <a:rPr b="1" lang="zh-CN" sz="4400" spc="-1" strike="noStrike">
                <a:solidFill>
                  <a:srgbClr val="402000"/>
                </a:solidFill>
                <a:latin typeface="Arial"/>
              </a:rPr>
              <a:t>＝－</a:t>
            </a:r>
            <a:r>
              <a:rPr b="1" lang="en-US" sz="4400" spc="-1" strike="noStrike">
                <a:solidFill>
                  <a:srgbClr val="402000"/>
                </a:solidFill>
                <a:latin typeface="Arial"/>
              </a:rPr>
              <a:t>2x</a:t>
            </a:r>
            <a:r>
              <a:rPr b="1" lang="en-US" sz="4400" spc="-1" strike="noStrike" baseline="30000">
                <a:solidFill>
                  <a:srgbClr val="402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402000"/>
                </a:solidFill>
                <a:latin typeface="Arial"/>
              </a:rPr>
              <a:t>－</a:t>
            </a:r>
            <a:r>
              <a:rPr b="1" lang="en-US" sz="4400" spc="-1" strike="noStrike">
                <a:solidFill>
                  <a:srgbClr val="402000"/>
                </a:solidFill>
                <a:latin typeface="Arial"/>
              </a:rPr>
              <a:t>4x</a:t>
            </a:r>
            <a:r>
              <a:rPr b="1" lang="zh-CN" sz="4400" spc="-1" strike="noStrike">
                <a:solidFill>
                  <a:srgbClr val="402000"/>
                </a:solidFill>
                <a:latin typeface="Arial"/>
              </a:rPr>
              <a:t>＋</a:t>
            </a:r>
            <a:r>
              <a:rPr b="1" lang="en-US" sz="4400" spc="-1" strike="noStrike">
                <a:solidFill>
                  <a:srgbClr val="402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402000"/>
                </a:solidFill>
                <a:latin typeface="Arial"/>
              </a:rPr>
              <a:t>的顶点坐标．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5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）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．用两种方法求二次函数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3x</a:t>
            </a:r>
            <a:r>
              <a:rPr b="1" lang="en-US" sz="4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2x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的顶点坐标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5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）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宋体"/>
                <a:hlinkClick r:id="rId1" action="ppaction://hlinksldjump"/>
              </a:rPr>
              <a:t>（五）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、学习回顾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6" name=""/>
          <p:cNvGraphicFramePr/>
          <p:nvPr/>
        </p:nvGraphicFramePr>
        <p:xfrm>
          <a:off x="468360" y="2263680"/>
          <a:ext cx="8229600" cy="3922920"/>
        </p:xfrm>
        <a:graphic>
          <a:graphicData uri="http://schemas.openxmlformats.org/drawingml/2006/table">
            <a:tbl>
              <a:tblPr/>
              <a:tblGrid>
                <a:gridCol w="2895480"/>
                <a:gridCol w="1676520"/>
                <a:gridCol w="1600200"/>
                <a:gridCol w="2057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抛物线</a:t>
                      </a:r>
                      <a:r>
                        <a:rPr b="0" lang="zh-CN" sz="2800" spc="-1" strike="noStrike">
                          <a:solidFill>
                            <a:srgbClr val="402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开口方向</a:t>
                      </a:r>
                      <a:r>
                        <a:rPr b="0" lang="zh-CN" sz="2800" spc="-1" strike="noStrike">
                          <a:solidFill>
                            <a:srgbClr val="402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对称轴</a:t>
                      </a:r>
                      <a:r>
                        <a:rPr b="0" lang="zh-CN" sz="2800" spc="-1" strike="noStrike">
                          <a:solidFill>
                            <a:srgbClr val="402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顶点坐标</a:t>
                      </a:r>
                      <a:r>
                        <a:rPr b="0" lang="zh-CN" sz="2800" spc="-1" strike="noStrike">
                          <a:solidFill>
                            <a:srgbClr val="402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402000"/>
                          </a:solidFill>
                          <a:latin typeface="Arial"/>
                        </a:rPr>
                        <a:t>y=ax</a:t>
                      </a:r>
                      <a:r>
                        <a:rPr b="1" i="1" lang="en-US" sz="2800" spc="-1" strike="noStrike" baseline="30000">
                          <a:solidFill>
                            <a:srgbClr val="402000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2800" spc="-1" strike="noStrike">
                          <a:solidFill>
                            <a:srgbClr val="402000"/>
                          </a:solidFill>
                          <a:latin typeface="Arial"/>
                        </a:rPr>
                        <a:t>(a&gt;0)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402000"/>
                          </a:solidFill>
                          <a:latin typeface="Arial"/>
                        </a:rPr>
                        <a:t>y=ax</a:t>
                      </a:r>
                      <a:r>
                        <a:rPr b="1" i="1" lang="en-US" sz="2800" spc="-1" strike="noStrike" baseline="30000">
                          <a:solidFill>
                            <a:srgbClr val="402000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2800" spc="-1" strike="noStrike">
                          <a:solidFill>
                            <a:srgbClr val="402000"/>
                          </a:solidFill>
                          <a:latin typeface="Arial"/>
                        </a:rPr>
                        <a:t>+k(a&gt;0)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402000"/>
                          </a:solidFill>
                          <a:latin typeface="Arial"/>
                        </a:rPr>
                        <a:t>y=a(x-h)</a:t>
                      </a:r>
                      <a:r>
                        <a:rPr b="1" i="1" lang="en-US" sz="2800" spc="-1" strike="noStrike" baseline="30000">
                          <a:solidFill>
                            <a:srgbClr val="402000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2800" spc="-1" strike="noStrike">
                          <a:solidFill>
                            <a:srgbClr val="402000"/>
                          </a:solidFill>
                          <a:latin typeface="Arial"/>
                        </a:rPr>
                        <a:t>(a&gt;0)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402000"/>
                          </a:solidFill>
                          <a:latin typeface="Arial"/>
                        </a:rPr>
                        <a:t>y=a(x-h)</a:t>
                      </a:r>
                      <a:r>
                        <a:rPr b="1" i="1" lang="en-US" sz="2400" spc="-1" strike="noStrike" baseline="30000">
                          <a:solidFill>
                            <a:srgbClr val="402000"/>
                          </a:solidFill>
                          <a:latin typeface="Arial"/>
                        </a:rPr>
                        <a:t>2 </a:t>
                      </a:r>
                      <a:r>
                        <a:rPr b="1" i="1" lang="en-US" sz="2400" spc="-1" strike="noStrike">
                          <a:solidFill>
                            <a:srgbClr val="402000"/>
                          </a:solidFill>
                          <a:latin typeface="Arial"/>
                        </a:rPr>
                        <a:t>+k(a&gt;0)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402000"/>
                          </a:solidFill>
                          <a:latin typeface="Arial"/>
                        </a:rPr>
                        <a:t>y= ax</a:t>
                      </a:r>
                      <a:r>
                        <a:rPr b="1" i="1" lang="en-US" sz="2400" spc="-1" strike="noStrike" baseline="30000">
                          <a:solidFill>
                            <a:srgbClr val="402000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2400" spc="-1" strike="noStrike">
                          <a:solidFill>
                            <a:srgbClr val="402000"/>
                          </a:solidFill>
                          <a:latin typeface="Arial"/>
                        </a:rPr>
                        <a:t> +bx+c(a&gt;0)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87" name="Text Box 40"/>
          <p:cNvSpPr/>
          <p:nvPr/>
        </p:nvSpPr>
        <p:spPr>
          <a:xfrm>
            <a:off x="539640" y="12556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  <a:ea typeface="华文仿宋"/>
              </a:rPr>
              <a:t>填写表格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Rectangle 2"/>
          <p:cNvSpPr/>
          <p:nvPr/>
        </p:nvSpPr>
        <p:spPr>
          <a:xfrm>
            <a:off x="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89" name="Rectangle 3"/>
          <p:cNvSpPr/>
          <p:nvPr/>
        </p:nvSpPr>
        <p:spPr>
          <a:xfrm>
            <a:off x="900000" y="2060640"/>
            <a:ext cx="792000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相同点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形状相同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图像都是抛物线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开口方向相同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都是轴对称图形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都有最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大或小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值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4)a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&gt;0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开口向上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在对称轴左侧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,y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都随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的增大而减小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在对称轴右侧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,y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都随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的增大而增大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&lt;0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开口向下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在对称轴左侧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,y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都随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的增大而增大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在对称轴右侧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,y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都随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的增大而减小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4290" name="Group 4"/>
          <p:cNvGrpSpPr/>
          <p:nvPr/>
        </p:nvGrpSpPr>
        <p:grpSpPr>
          <a:xfrm>
            <a:off x="6781680" y="0"/>
            <a:ext cx="2362320" cy="1835280"/>
            <a:chOff x="6781680" y="0"/>
            <a:chExt cx="2362320" cy="1835280"/>
          </a:xfrm>
        </p:grpSpPr>
        <p:pic>
          <p:nvPicPr>
            <p:cNvPr id="4291" name="Picture 5" descr="20"/>
            <p:cNvPicPr/>
            <p:nvPr/>
          </p:nvPicPr>
          <p:blipFill>
            <a:blip r:embed="rId1"/>
            <a:stretch/>
          </p:blipFill>
          <p:spPr>
            <a:xfrm>
              <a:off x="6781680" y="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2" name="Text Box 6"/>
            <p:cNvSpPr/>
            <p:nvPr/>
          </p:nvSpPr>
          <p:spPr>
            <a:xfrm>
              <a:off x="7238880" y="73044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4293" name="Group 7"/>
          <p:cNvGrpSpPr/>
          <p:nvPr/>
        </p:nvGrpSpPr>
        <p:grpSpPr>
          <a:xfrm>
            <a:off x="76320" y="60480"/>
            <a:ext cx="2819160" cy="1297440"/>
            <a:chOff x="76320" y="60480"/>
            <a:chExt cx="2819160" cy="1297440"/>
          </a:xfrm>
        </p:grpSpPr>
        <p:grpSp>
          <p:nvGrpSpPr>
            <p:cNvPr id="4294" name="Group 8"/>
            <p:cNvGrpSpPr/>
            <p:nvPr/>
          </p:nvGrpSpPr>
          <p:grpSpPr>
            <a:xfrm>
              <a:off x="76320" y="60480"/>
              <a:ext cx="2666520" cy="929880"/>
              <a:chOff x="76320" y="60480"/>
              <a:chExt cx="2666520" cy="929880"/>
            </a:xfrm>
          </p:grpSpPr>
          <p:sp>
            <p:nvSpPr>
              <p:cNvPr id="4295" name="AutoShape 9"/>
              <p:cNvSpPr/>
              <p:nvPr/>
            </p:nvSpPr>
            <p:spPr>
              <a:xfrm>
                <a:off x="76320" y="162360"/>
                <a:ext cx="260568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296" name="Text Box 10"/>
              <p:cNvSpPr/>
              <p:nvPr/>
            </p:nvSpPr>
            <p:spPr>
              <a:xfrm>
                <a:off x="106200" y="60480"/>
                <a:ext cx="263664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pic>
          <p:nvPicPr>
            <p:cNvPr id="4297" name="Picture 11" descr="打开书"/>
            <p:cNvPicPr/>
            <p:nvPr/>
          </p:nvPicPr>
          <p:blipFill>
            <a:blip r:embed="rId3"/>
            <a:stretch/>
          </p:blipFill>
          <p:spPr>
            <a:xfrm>
              <a:off x="1143000" y="289080"/>
              <a:ext cx="628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8" name="Text Box 12"/>
            <p:cNvSpPr/>
            <p:nvPr/>
          </p:nvSpPr>
          <p:spPr>
            <a:xfrm>
              <a:off x="152280" y="28908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拓展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299" name="Rectangle 13"/>
          <p:cNvSpPr/>
          <p:nvPr/>
        </p:nvSpPr>
        <p:spPr>
          <a:xfrm>
            <a:off x="3352680" y="236520"/>
            <a:ext cx="2887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2000"/>
                </a:solidFill>
                <a:latin typeface="Tahoma"/>
              </a:rPr>
              <a:t>回味无穷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次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函数</a:t>
            </a:r>
            <a:r>
              <a:rPr b="1" lang="en-US" sz="3600" spc="-1" strike="noStrike">
                <a:solidFill>
                  <a:srgbClr val="009999"/>
                </a:solidFill>
                <a:latin typeface="隶书"/>
                <a:ea typeface="隶书"/>
              </a:rPr>
              <a:t>y=ax</a:t>
            </a:r>
            <a:r>
              <a:rPr b="1" lang="en-US" sz="3600" spc="-1" strike="noStrike" baseline="30000">
                <a:solidFill>
                  <a:srgbClr val="009999"/>
                </a:solidFill>
                <a:latin typeface="隶书"/>
                <a:ea typeface="隶书"/>
              </a:rPr>
              <a:t>2</a:t>
            </a:r>
            <a:r>
              <a:rPr b="1" lang="en-US" sz="3600" spc="-1" strike="noStrike">
                <a:solidFill>
                  <a:srgbClr val="009999"/>
                </a:solidFill>
                <a:latin typeface="隶书"/>
                <a:ea typeface="隶书"/>
              </a:rPr>
              <a:t>+bx+c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a≠0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a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752" dur="indefinite" restart="never" nodeType="tmRoot">
          <p:childTnLst>
            <p:seq>
              <p:cTn id="1753" dur="indefinite" nodeType="mainSeq">
                <p:childTnLst>
                  <p:par>
                    <p:cTn id="1754" nodeType="clickEffect" fill="hold">
                      <p:stCondLst>
                        <p:cond delay="indefinite"/>
                      </p:stCondLst>
                      <p:childTnLst>
                        <p:par>
                          <p:cTn id="1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8" dur="500"/>
                                        <p:tgtEl>
                                          <p:spTgt spid="4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delay="indefinite"/>
                      </p:stCondLst>
                      <p:childTnLst>
                        <p:par>
                          <p:cTn id="1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nodeType="clickEffect" fill="hold">
                      <p:stCondLst>
                        <p:cond delay="indefinite"/>
                      </p:stCondLst>
                      <p:childTnLst>
                        <p:par>
                          <p:cTn id="1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9" dur="500"/>
                                        <p:tgtEl>
                                          <p:spTgt spid="4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2" dur="500"/>
                                        <p:tgtEl>
                                          <p:spTgt spid="4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5" dur="500"/>
                                        <p:tgtEl>
                                          <p:spTgt spid="4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0" dur="500"/>
                                        <p:tgtEl>
                                          <p:spTgt spid="4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3" dur="500"/>
                                        <p:tgtEl>
                                          <p:spTgt spid="4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6" dur="500"/>
                                        <p:tgtEl>
                                          <p:spTgt spid="4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1" name="Rectangle 2"/>
          <p:cNvSpPr/>
          <p:nvPr/>
        </p:nvSpPr>
        <p:spPr>
          <a:xfrm>
            <a:off x="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302" name="Rectangle 3"/>
          <p:cNvSpPr/>
          <p:nvPr/>
        </p:nvSpPr>
        <p:spPr>
          <a:xfrm>
            <a:off x="380880" y="2421000"/>
            <a:ext cx="85838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不同点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: (1)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位置不同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顶点不同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分别是        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0,0)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对称轴不同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分别是            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轴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最值不同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分别是    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0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联系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: y=a(x-h)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²+k(a≠0)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的图象可以看成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y=ax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²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的图象先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沿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轴整体左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右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平移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|        |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个单位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当       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&gt;0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向右平移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当       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&lt;0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向左平移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再沿对称轴整体上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下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平移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|         |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个单位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当         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&gt;0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时向上平移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当        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&lt;0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向下平移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得到的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4303" name="Group 4"/>
          <p:cNvGrpSpPr/>
          <p:nvPr/>
        </p:nvGrpSpPr>
        <p:grpSpPr>
          <a:xfrm>
            <a:off x="6781680" y="0"/>
            <a:ext cx="2362320" cy="1835280"/>
            <a:chOff x="6781680" y="0"/>
            <a:chExt cx="2362320" cy="1835280"/>
          </a:xfrm>
        </p:grpSpPr>
        <p:pic>
          <p:nvPicPr>
            <p:cNvPr id="4304" name="Picture 5" descr="20"/>
            <p:cNvPicPr/>
            <p:nvPr/>
          </p:nvPicPr>
          <p:blipFill>
            <a:blip r:embed="rId1"/>
            <a:stretch/>
          </p:blipFill>
          <p:spPr>
            <a:xfrm>
              <a:off x="6781680" y="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5" name="Text Box 6"/>
            <p:cNvSpPr/>
            <p:nvPr/>
          </p:nvSpPr>
          <p:spPr>
            <a:xfrm>
              <a:off x="7238880" y="73044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4306" name="Group 7"/>
          <p:cNvGrpSpPr/>
          <p:nvPr/>
        </p:nvGrpSpPr>
        <p:grpSpPr>
          <a:xfrm>
            <a:off x="76320" y="60480"/>
            <a:ext cx="2819160" cy="1297440"/>
            <a:chOff x="76320" y="60480"/>
            <a:chExt cx="2819160" cy="1297440"/>
          </a:xfrm>
        </p:grpSpPr>
        <p:grpSp>
          <p:nvGrpSpPr>
            <p:cNvPr id="4307" name="Group 8"/>
            <p:cNvGrpSpPr/>
            <p:nvPr/>
          </p:nvGrpSpPr>
          <p:grpSpPr>
            <a:xfrm>
              <a:off x="76320" y="60480"/>
              <a:ext cx="2666520" cy="929880"/>
              <a:chOff x="76320" y="60480"/>
              <a:chExt cx="2666520" cy="929880"/>
            </a:xfrm>
          </p:grpSpPr>
          <p:sp>
            <p:nvSpPr>
              <p:cNvPr id="4308" name="AutoShape 9"/>
              <p:cNvSpPr/>
              <p:nvPr/>
            </p:nvSpPr>
            <p:spPr>
              <a:xfrm>
                <a:off x="76320" y="162360"/>
                <a:ext cx="260568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4309" name="Text Box 10"/>
              <p:cNvSpPr/>
              <p:nvPr/>
            </p:nvSpPr>
            <p:spPr>
              <a:xfrm>
                <a:off x="106200" y="60480"/>
                <a:ext cx="263664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  <p:pic>
          <p:nvPicPr>
            <p:cNvPr id="4310" name="Picture 11" descr="打开书"/>
            <p:cNvPicPr/>
            <p:nvPr/>
          </p:nvPicPr>
          <p:blipFill>
            <a:blip r:embed="rId3"/>
            <a:stretch/>
          </p:blipFill>
          <p:spPr>
            <a:xfrm>
              <a:off x="1143000" y="289080"/>
              <a:ext cx="628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1" name="Text Box 12"/>
            <p:cNvSpPr/>
            <p:nvPr/>
          </p:nvSpPr>
          <p:spPr>
            <a:xfrm>
              <a:off x="152280" y="28908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拓展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312" name="Rectangle 13"/>
          <p:cNvSpPr/>
          <p:nvPr/>
        </p:nvSpPr>
        <p:spPr>
          <a:xfrm>
            <a:off x="3352680" y="236520"/>
            <a:ext cx="2887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2000"/>
                </a:solidFill>
                <a:latin typeface="Tahoma"/>
              </a:rPr>
              <a:t>回味无穷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次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函数</a:t>
            </a:r>
            <a:r>
              <a:rPr b="1" lang="en-US" sz="3600" spc="-1" strike="noStrike">
                <a:solidFill>
                  <a:srgbClr val="009999"/>
                </a:solidFill>
                <a:latin typeface="隶书"/>
                <a:ea typeface="隶书"/>
              </a:rPr>
              <a:t>y=ax</a:t>
            </a:r>
            <a:r>
              <a:rPr b="1" lang="en-US" sz="3600" spc="-1" strike="noStrike" baseline="30000">
                <a:solidFill>
                  <a:srgbClr val="009999"/>
                </a:solidFill>
                <a:latin typeface="隶书"/>
                <a:ea typeface="隶书"/>
              </a:rPr>
              <a:t>2</a:t>
            </a:r>
            <a:r>
              <a:rPr b="1" lang="en-US" sz="3600" spc="-1" strike="noStrike">
                <a:solidFill>
                  <a:srgbClr val="009999"/>
                </a:solidFill>
                <a:latin typeface="隶书"/>
                <a:ea typeface="隶书"/>
              </a:rPr>
              <a:t>+bx+c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a≠0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a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4" name="Object 15"/>
              <p:cNvSpPr txBox="1"/>
              <p:nvPr/>
            </p:nvSpPr>
            <p:spPr>
              <a:xfrm>
                <a:off x="6877080" y="2276640"/>
                <a:ext cx="13269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5" name="Object 16"/>
              <p:cNvSpPr txBox="1"/>
              <p:nvPr/>
            </p:nvSpPr>
            <p:spPr>
              <a:xfrm>
                <a:off x="5508720" y="3213000"/>
                <a:ext cx="12016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直线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6" name="Object 17"/>
              <p:cNvSpPr txBox="1"/>
              <p:nvPr/>
            </p:nvSpPr>
            <p:spPr>
              <a:xfrm>
                <a:off x="4716360" y="4508640"/>
                <a:ext cx="42732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7" name="Object 18"/>
              <p:cNvSpPr txBox="1"/>
              <p:nvPr/>
            </p:nvSpPr>
            <p:spPr>
              <a:xfrm>
                <a:off x="7093080" y="4581360"/>
                <a:ext cx="4269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8" name="Object 19"/>
              <p:cNvSpPr txBox="1"/>
              <p:nvPr/>
            </p:nvSpPr>
            <p:spPr>
              <a:xfrm>
                <a:off x="2195640" y="4941720"/>
                <a:ext cx="4269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9" name="Object 20"/>
              <p:cNvSpPr txBox="1"/>
              <p:nvPr/>
            </p:nvSpPr>
            <p:spPr>
              <a:xfrm>
                <a:off x="3924360" y="5445000"/>
                <a:ext cx="7110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0" name="Object 21"/>
              <p:cNvSpPr txBox="1"/>
              <p:nvPr/>
            </p:nvSpPr>
            <p:spPr>
              <a:xfrm>
                <a:off x="7380360" y="5445000"/>
                <a:ext cx="7110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1" name="Object 22"/>
              <p:cNvSpPr txBox="1"/>
              <p:nvPr/>
            </p:nvSpPr>
            <p:spPr>
              <a:xfrm>
                <a:off x="1332000" y="5373720"/>
                <a:ext cx="7110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2" name="Object 23"/>
              <p:cNvSpPr txBox="1"/>
              <p:nvPr/>
            </p:nvSpPr>
            <p:spPr>
              <a:xfrm>
                <a:off x="5076720" y="3716280"/>
                <a:ext cx="7113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over dir="l"/>
  </p:transition>
  <p:timing>
    <p:tnLst>
      <p:par>
        <p:cTn id="1797" dur="indefinite" restart="never" nodeType="tmRoot">
          <p:childTnLst>
            <p:seq>
              <p:cTn id="1798" dur="indefinite" nodeType="mainSeq">
                <p:childTnLst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3" dur="500"/>
                                        <p:tgtEl>
                                          <p:spTgt spid="4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nodeType="clickEffect" fill="hold">
                      <p:stCondLst>
                        <p:cond delay="indefinite"/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8" dur="500"/>
                                        <p:tgtEl>
                                          <p:spTgt spid="4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3" dur="500"/>
                                        <p:tgtEl>
                                          <p:spTgt spid="4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8" dur="500"/>
                                        <p:tgtEl>
                                          <p:spTgt spid="4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nodeType="clickEffect" fill="hold">
                      <p:stCondLst>
                        <p:cond delay="indefinite"/>
                      </p:stCondLst>
                      <p:childTnLst>
                        <p:par>
                          <p:cTn id="1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3" dur="500"/>
                                        <p:tgtEl>
                                          <p:spTgt spid="4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nodeType="clickEffect" fill="hold">
                      <p:stCondLst>
                        <p:cond delay="indefinite"/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8" dur="500"/>
                                        <p:tgtEl>
                                          <p:spTgt spid="4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3" dur="500"/>
                                        <p:tgtEl>
                                          <p:spTgt spid="4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nodeType="clickEffect" fill="hold">
                      <p:stCondLst>
                        <p:cond delay="indefinite"/>
                      </p:stCondLst>
                      <p:childTnLst>
                        <p:par>
                          <p:cTn id="1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8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3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8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nodeType="clickEffect" fill="hold">
                      <p:stCondLst>
                        <p:cond delay="indefinite"/>
                      </p:stCondLst>
                      <p:childTnLst>
                        <p:par>
                          <p:cTn id="1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3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5" name="Picture 11" descr="u=111629297,836824017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46" name="Group 3"/>
          <p:cNvGrpSpPr/>
          <p:nvPr/>
        </p:nvGrpSpPr>
        <p:grpSpPr>
          <a:xfrm>
            <a:off x="2308320" y="990720"/>
            <a:ext cx="4366800" cy="1181160"/>
            <a:chOff x="2308320" y="990720"/>
            <a:chExt cx="4366800" cy="1181160"/>
          </a:xfrm>
        </p:grpSpPr>
        <p:sp>
          <p:nvSpPr>
            <p:cNvPr id="3547" name="Text Box 4"/>
            <p:cNvSpPr/>
            <p:nvPr/>
          </p:nvSpPr>
          <p:spPr>
            <a:xfrm>
              <a:off x="2308320" y="1219320"/>
              <a:ext cx="436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02000"/>
                  </a:solidFill>
                  <a:latin typeface="黑体"/>
                  <a:ea typeface="黑体"/>
                </a:rPr>
                <a:t>如何画出              的图象呢</a:t>
              </a:r>
              <a:r>
                <a:rPr b="1" lang="en-US" sz="3600" spc="-1" strike="noStrike">
                  <a:solidFill>
                    <a:srgbClr val="402000"/>
                  </a:solidFill>
                  <a:latin typeface="黑体"/>
                  <a:ea typeface="黑体"/>
                </a:rPr>
                <a:t>?</a:t>
              </a:r>
              <a:endParaRPr b="0" lang="en-US" sz="3600" spc="-1" strike="noStrike">
                <a:solidFill>
                  <a:srgbClr val="402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8" name="Object 5"/>
                <p:cNvSpPr txBox="1"/>
                <p:nvPr/>
              </p:nvSpPr>
              <p:spPr>
                <a:xfrm>
                  <a:off x="2666880" y="990720"/>
                  <a:ext cx="335268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49" name="Group 6"/>
          <p:cNvGrpSpPr/>
          <p:nvPr/>
        </p:nvGrpSpPr>
        <p:grpSpPr>
          <a:xfrm>
            <a:off x="179280" y="2133720"/>
            <a:ext cx="8763120" cy="2781360"/>
            <a:chOff x="179280" y="2133720"/>
            <a:chExt cx="8763120" cy="2781360"/>
          </a:xfrm>
        </p:grpSpPr>
        <p:sp>
          <p:nvSpPr>
            <p:cNvPr id="3550" name="Text Box 7"/>
            <p:cNvSpPr/>
            <p:nvPr/>
          </p:nvSpPr>
          <p:spPr>
            <a:xfrm>
              <a:off x="179280" y="2133720"/>
              <a:ext cx="87631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02000"/>
                  </a:solidFill>
                  <a:latin typeface="Arial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402000"/>
                  </a:solidFill>
                  <a:latin typeface="Arial"/>
                  <a:ea typeface="黑体"/>
                </a:rPr>
                <a:t>我们知道</a:t>
              </a:r>
              <a:r>
                <a:rPr b="1" lang="zh-CN" sz="3600" spc="-1" strike="noStrike">
                  <a:solidFill>
                    <a:srgbClr val="402000"/>
                  </a:solidFill>
                  <a:latin typeface="Arial"/>
                  <a:ea typeface="黑体"/>
                </a:rPr>
                <a:t>,</a:t>
              </a:r>
              <a:r>
                <a:rPr b="1" lang="zh-CN" sz="3600" spc="-1" strike="noStrike">
                  <a:solidFill>
                    <a:srgbClr val="402000"/>
                  </a:solidFill>
                  <a:latin typeface="Arial"/>
                  <a:ea typeface="黑体"/>
                </a:rPr>
                <a:t>像</a:t>
              </a:r>
              <a:r>
                <a:rPr b="1" lang="zh-CN" sz="3600" spc="-1" strike="noStrike">
                  <a:solidFill>
                    <a:srgbClr val="402000"/>
                  </a:solidFill>
                  <a:latin typeface="Arial"/>
                  <a:ea typeface="黑体"/>
                </a:rPr>
                <a:t>y=a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(x-h)</a:t>
              </a:r>
              <a:r>
                <a:rPr b="1" lang="zh-CN" sz="3600" spc="-1" strike="noStrike" baseline="30000">
                  <a:solidFill>
                    <a:srgbClr val="402000"/>
                  </a:solidFill>
                  <a:latin typeface="Arial"/>
                  <a:ea typeface="黑体"/>
                </a:rPr>
                <a:t>2</a:t>
              </a:r>
              <a:r>
                <a:rPr b="1" lang="zh-CN" sz="3600" spc="-1" strike="noStrike">
                  <a:solidFill>
                    <a:srgbClr val="402000"/>
                  </a:solidFill>
                  <a:latin typeface="Arial"/>
                  <a:ea typeface="黑体"/>
                </a:rPr>
                <a:t>+k</a:t>
              </a:r>
              <a:r>
                <a:rPr b="1" lang="zh-CN" sz="3600" spc="-1" strike="noStrike">
                  <a:solidFill>
                    <a:srgbClr val="402000"/>
                  </a:solidFill>
                  <a:latin typeface="Arial"/>
                  <a:ea typeface="黑体"/>
                </a:rPr>
                <a:t>这样的函数</a:t>
              </a:r>
              <a:r>
                <a:rPr b="1" lang="zh-CN" sz="3600" spc="-1" strike="noStrike">
                  <a:solidFill>
                    <a:srgbClr val="402000"/>
                  </a:solidFill>
                  <a:latin typeface="Arial"/>
                  <a:ea typeface="黑体"/>
                </a:rPr>
                <a:t>,</a:t>
              </a:r>
              <a:r>
                <a:rPr b="1" lang="zh-CN" sz="3600" spc="-1" strike="noStrike">
                  <a:solidFill>
                    <a:srgbClr val="402000"/>
                  </a:solidFill>
                  <a:latin typeface="Arial"/>
                  <a:ea typeface="黑体"/>
                </a:rPr>
                <a:t>容易确定相应抛物线的顶点为</a:t>
              </a:r>
              <a:r>
                <a:rPr b="1" lang="zh-CN" sz="3600" spc="-1" strike="noStrike">
                  <a:solidFill>
                    <a:srgbClr val="402000"/>
                  </a:solidFill>
                  <a:latin typeface="Arial"/>
                  <a:ea typeface="黑体"/>
                </a:rPr>
                <a:t>(h,k), </a:t>
              </a:r>
              <a:r>
                <a:rPr b="1" lang="zh-CN" sz="3600" spc="-1" strike="noStrike">
                  <a:solidFill>
                    <a:srgbClr val="402000"/>
                  </a:solidFill>
                  <a:latin typeface="Arial"/>
                  <a:ea typeface="黑体"/>
                </a:rPr>
                <a:t>二次函数                          也能化成这样的形式吗</a:t>
              </a:r>
              <a:r>
                <a:rPr b="1" lang="en-US" sz="3600" spc="-1" strike="noStrike">
                  <a:solidFill>
                    <a:srgbClr val="402000"/>
                  </a:solidFill>
                  <a:latin typeface="Arial"/>
                  <a:ea typeface="黑体"/>
                </a:rPr>
                <a:t>？</a:t>
              </a:r>
              <a:endParaRPr b="0" lang="en-US" sz="3600" spc="-1" strike="noStrike">
                <a:solidFill>
                  <a:srgbClr val="402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51" name="Object 8"/>
                <p:cNvSpPr txBox="1"/>
                <p:nvPr/>
              </p:nvSpPr>
              <p:spPr>
                <a:xfrm>
                  <a:off x="712800" y="3733920"/>
                  <a:ext cx="335268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52" name="AutoShape 9"/>
          <p:cNvSpPr/>
          <p:nvPr/>
        </p:nvSpPr>
        <p:spPr>
          <a:xfrm>
            <a:off x="250920" y="189000"/>
            <a:ext cx="3313080" cy="576000"/>
          </a:xfrm>
          <a:prstGeom prst="flowChartAlternateProcess">
            <a:avLst/>
          </a:prstGeom>
          <a:gradFill rotWithShape="0">
            <a:gsLst>
              <a:gs pos="0">
                <a:srgbClr val="00cc00"/>
              </a:gs>
              <a:gs pos="50000">
                <a:srgbClr val="e7fae7"/>
              </a:gs>
              <a:gs pos="100000">
                <a:srgbClr val="00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53" name="WordArt 10"/>
          <p:cNvSpPr txBox="1"/>
          <p:nvPr/>
        </p:nvSpPr>
        <p:spPr>
          <a:xfrm>
            <a:off x="324000" y="333360"/>
            <a:ext cx="302400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创设情境，导入新课：</a:t>
            </a:r>
            <a:endParaRPr b="1" lang="en-US" sz="9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4" name="Picture 13" descr="u=111629297,836824017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5" name="Text Box 2"/>
          <p:cNvSpPr/>
          <p:nvPr/>
        </p:nvSpPr>
        <p:spPr>
          <a:xfrm>
            <a:off x="0" y="1916280"/>
            <a:ext cx="914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rebuchet MS"/>
                <a:ea typeface="新宋体"/>
              </a:rPr>
              <a:t>22.1.4</a:t>
            </a:r>
            <a:r>
              <a:rPr b="1" lang="zh-CN" sz="4400" spc="-1" strike="noStrike">
                <a:solidFill>
                  <a:srgbClr val="ff0066"/>
                </a:solidFill>
                <a:latin typeface="Trebuchet MS"/>
                <a:ea typeface="新宋体"/>
              </a:rPr>
              <a:t>二次函数</a:t>
            </a:r>
            <a:r>
              <a:rPr b="1" lang="en-US" sz="4400" spc="-1" strike="noStrike">
                <a:solidFill>
                  <a:srgbClr val="ff0066"/>
                </a:solidFill>
                <a:latin typeface="Trebuchet MS"/>
                <a:ea typeface="新宋体"/>
              </a:rPr>
              <a:t>y=ax</a:t>
            </a:r>
            <a:r>
              <a:rPr b="1" lang="en-US" sz="4400" spc="-1" strike="noStrike" baseline="30000">
                <a:solidFill>
                  <a:srgbClr val="ff0066"/>
                </a:solidFill>
                <a:latin typeface="Trebuchet MS"/>
                <a:ea typeface="新宋体"/>
              </a:rPr>
              <a:t>2</a:t>
            </a:r>
            <a:r>
              <a:rPr b="1" lang="en-US" sz="4400" spc="-1" strike="noStrike">
                <a:solidFill>
                  <a:srgbClr val="ff0066"/>
                </a:solidFill>
                <a:latin typeface="Trebuchet MS"/>
                <a:ea typeface="新宋体"/>
              </a:rPr>
              <a:t>+bx+c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rebuchet MS"/>
                <a:ea typeface="新宋体"/>
              </a:rPr>
              <a:t>图象和性质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3556" name="Group 3"/>
          <p:cNvGrpSpPr/>
          <p:nvPr/>
        </p:nvGrpSpPr>
        <p:grpSpPr>
          <a:xfrm>
            <a:off x="1116000" y="3500280"/>
            <a:ext cx="2664720" cy="2861640"/>
            <a:chOff x="1116000" y="3500280"/>
            <a:chExt cx="2664720" cy="2861640"/>
          </a:xfrm>
        </p:grpSpPr>
        <p:sp>
          <p:nvSpPr>
            <p:cNvPr id="3557" name="Line 4"/>
            <p:cNvSpPr/>
            <p:nvPr/>
          </p:nvSpPr>
          <p:spPr>
            <a:xfrm>
              <a:off x="1116000" y="5117760"/>
              <a:ext cx="26632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558" name="Line 5"/>
            <p:cNvSpPr/>
            <p:nvPr/>
          </p:nvSpPr>
          <p:spPr>
            <a:xfrm flipV="1">
              <a:off x="2446200" y="3622680"/>
              <a:ext cx="0" cy="27392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559" name="Text Box 6"/>
            <p:cNvSpPr/>
            <p:nvPr/>
          </p:nvSpPr>
          <p:spPr>
            <a:xfrm>
              <a:off x="3172680" y="4992840"/>
              <a:ext cx="60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560" name="Text Box 7"/>
            <p:cNvSpPr/>
            <p:nvPr/>
          </p:nvSpPr>
          <p:spPr>
            <a:xfrm>
              <a:off x="2448720" y="3500280"/>
              <a:ext cx="6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Arial"/>
                </a:rPr>
                <a:t>y</a:t>
              </a: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561" name="Text Box 8"/>
            <p:cNvSpPr/>
            <p:nvPr/>
          </p:nvSpPr>
          <p:spPr>
            <a:xfrm>
              <a:off x="1961640" y="4992840"/>
              <a:ext cx="96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3562" name="未知"/>
          <p:cNvSpPr/>
          <p:nvPr/>
        </p:nvSpPr>
        <p:spPr>
          <a:xfrm>
            <a:off x="2556000" y="3789360"/>
            <a:ext cx="1279440" cy="1081080"/>
          </a:xfrm>
          <a:custGeom>
            <a:avLst/>
            <a:gdLst/>
            <a:ahLst/>
            <a:rect l="l" t="t" r="r" b="b"/>
            <a:pathLst>
              <a:path w="1815" h="1361">
                <a:moveTo>
                  <a:pt x="0" y="0"/>
                </a:moveTo>
                <a:cubicBezTo>
                  <a:pt x="302" y="680"/>
                  <a:pt x="605" y="1361"/>
                  <a:pt x="907" y="1361"/>
                </a:cubicBezTo>
                <a:cubicBezTo>
                  <a:pt x="1209" y="1361"/>
                  <a:pt x="1512" y="680"/>
                  <a:pt x="1815" y="0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63" name="WordArt 10"/>
          <p:cNvSpPr txBox="1"/>
          <p:nvPr/>
        </p:nvSpPr>
        <p:spPr>
          <a:xfrm>
            <a:off x="324000" y="255600"/>
            <a:ext cx="4248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义务教育课程标准实验教科书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3564" name="WordArt 11"/>
          <p:cNvSpPr txBox="1"/>
          <p:nvPr/>
        </p:nvSpPr>
        <p:spPr>
          <a:xfrm>
            <a:off x="1528920" y="1069920"/>
            <a:ext cx="165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九年级 上册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p:transition>
    <p:cover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618 0.02889 C 0.043861 0.067039 0.051841 0.134789 0.022501 0.159989 C -0.020899 0.159299 -0.072289 0.191439 -0.107529 0.157909 C -0.132879 0.133629 -0.132529 0.034669 -0.101279 0.033289 C -0.054229 0.031209 -0.007009 0.031899 0.040041 0.031209 C 0.034311 0.023109 0.033091 0.022419 0.024241 0.018489 C 0.022681 0.017799 0.019381 0.016409 0.019381 0.016409 C -0.122629 0.018949 -0.095549 -0.026371 -0.093289 0.143109 C -0.054059 0.142419 -0.010309 0.165539 0.024241 0.141029 C 0.042471 0.128079 0.024931 0.085999 0.025801 0.058489 C 0.026151 0.046239 0.029101 0.039069 0.033618 0.02889 Z">
                                      <p:cBhvr>
                                        <p:cTn id="155" dur="5000" fill="hold"/>
                                        <p:tgtEl>
                                          <p:spTgt spid="3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5" name="Picture 2" descr="u=111629297,836824017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6" name="Text Box 3"/>
          <p:cNvSpPr/>
          <p:nvPr/>
        </p:nvSpPr>
        <p:spPr>
          <a:xfrm>
            <a:off x="900000" y="1341360"/>
            <a:ext cx="76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67" name="Text Box 4"/>
          <p:cNvSpPr/>
          <p:nvPr/>
        </p:nvSpPr>
        <p:spPr>
          <a:xfrm>
            <a:off x="179280" y="4797360"/>
            <a:ext cx="87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68" name="WordArt 5"/>
          <p:cNvSpPr txBox="1"/>
          <p:nvPr/>
        </p:nvSpPr>
        <p:spPr>
          <a:xfrm>
            <a:off x="1763640" y="333360"/>
            <a:ext cx="50292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latin typeface="宋体"/>
              </a:rPr>
              <a:t>学习目标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cc00"/>
              </a:solidFill>
              <a:latin typeface="宋体"/>
              <a:ea typeface="宋体"/>
            </a:endParaRPr>
          </a:p>
        </p:txBody>
      </p:sp>
      <p:sp>
        <p:nvSpPr>
          <p:cNvPr id="3569" name="Text Box 6"/>
          <p:cNvSpPr/>
          <p:nvPr/>
        </p:nvSpPr>
        <p:spPr>
          <a:xfrm>
            <a:off x="0" y="11970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会用公式法和配方法求二次函数一般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式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x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x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顶点坐标、对称轴；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70" name="Text Box 7"/>
          <p:cNvSpPr/>
          <p:nvPr/>
        </p:nvSpPr>
        <p:spPr>
          <a:xfrm>
            <a:off x="0" y="2924280"/>
            <a:ext cx="907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GulimChe"/>
                <a:ea typeface="GulimChe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熟记二次函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x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x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顶点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坐标公式；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71" name="Text Box 8"/>
          <p:cNvSpPr/>
          <p:nvPr/>
        </p:nvSpPr>
        <p:spPr>
          <a:xfrm>
            <a:off x="0" y="4797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GulimChe"/>
                <a:ea typeface="GulimChe"/>
              </a:rPr>
              <a:t>    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72" name="Text Box 9"/>
          <p:cNvSpPr/>
          <p:nvPr/>
        </p:nvSpPr>
        <p:spPr>
          <a:xfrm>
            <a:off x="179280" y="458136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GulimChe"/>
                <a:ea typeface="GulimChe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GulimChe"/>
                <a:ea typeface="GulimChe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会画二次函数一般式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x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x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图象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3" name="Picture 16" descr="u=111629297,836824017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74" name="Rectangle 2"/>
          <p:cNvSpPr/>
          <p:nvPr/>
        </p:nvSpPr>
        <p:spPr>
          <a:xfrm>
            <a:off x="468360" y="2060640"/>
            <a:ext cx="8280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怎样把函数                转化成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y=a(x-h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+k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的形式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</a:rPr>
              <a:t>?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75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黑体"/>
              </a:rPr>
              <a:t>函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黑体"/>
              </a:rPr>
              <a:t>y=ax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Tahoma"/>
              </a:rPr>
              <a:t>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ahoma"/>
              </a:rPr>
              <a:t>+bx+c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黑体"/>
              </a:rPr>
              <a:t>的图象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6" name="Picture 4" descr="Q_011"/>
          <p:cNvPicPr/>
          <p:nvPr/>
        </p:nvPicPr>
        <p:blipFill>
          <a:blip r:embed="rId2"/>
          <a:stretch/>
        </p:blipFill>
        <p:spPr>
          <a:xfrm>
            <a:off x="6411960" y="1219320"/>
            <a:ext cx="522360" cy="609480"/>
          </a:xfrm>
          <a:prstGeom prst="rect">
            <a:avLst/>
          </a:prstGeom>
          <a:ln w="0">
            <a:noFill/>
          </a:ln>
        </p:spPr>
      </p:pic>
      <p:sp>
        <p:nvSpPr>
          <p:cNvPr id="3577" name="Rectangle 5"/>
          <p:cNvSpPr/>
          <p:nvPr/>
        </p:nvSpPr>
        <p:spPr>
          <a:xfrm>
            <a:off x="1403280" y="4149720"/>
            <a:ext cx="23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隶书"/>
              </a:rPr>
              <a:t>用配方法。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78" name="AutoShape 17"/>
          <p:cNvSpPr/>
          <p:nvPr/>
        </p:nvSpPr>
        <p:spPr>
          <a:xfrm>
            <a:off x="250920" y="189000"/>
            <a:ext cx="2592360" cy="576000"/>
          </a:xfrm>
          <a:prstGeom prst="flowChartAlternateProcess">
            <a:avLst/>
          </a:prstGeom>
          <a:gradFill rotWithShape="0">
            <a:gsLst>
              <a:gs pos="0">
                <a:srgbClr val="00cc00"/>
              </a:gs>
              <a:gs pos="50000">
                <a:srgbClr val="e7fae7"/>
              </a:gs>
              <a:gs pos="100000">
                <a:srgbClr val="00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79" name="WordArt 18"/>
          <p:cNvSpPr txBox="1"/>
          <p:nvPr/>
        </p:nvSpPr>
        <p:spPr>
          <a:xfrm>
            <a:off x="324000" y="333360"/>
            <a:ext cx="237636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探究新知：</a:t>
            </a:r>
            <a:endParaRPr b="1" lang="en-US" sz="9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580" name="Group 19"/>
          <p:cNvGrpSpPr/>
          <p:nvPr/>
        </p:nvGrpSpPr>
        <p:grpSpPr>
          <a:xfrm>
            <a:off x="2700360" y="189000"/>
            <a:ext cx="8763120" cy="2769840"/>
            <a:chOff x="2700360" y="189000"/>
            <a:chExt cx="8763120" cy="2769840"/>
          </a:xfrm>
        </p:grpSpPr>
        <p:sp>
          <p:nvSpPr>
            <p:cNvPr id="3581" name="Text Box 20"/>
            <p:cNvSpPr/>
            <p:nvPr/>
          </p:nvSpPr>
          <p:spPr>
            <a:xfrm>
              <a:off x="2700360" y="189000"/>
              <a:ext cx="8763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02000"/>
                  </a:solidFill>
                  <a:latin typeface="Arial"/>
                  <a:ea typeface="黑体"/>
                </a:rPr>
                <a:t>                                </a:t>
              </a:r>
              <a:endParaRPr b="0" lang="en-US" sz="3600" spc="-1" strike="noStrike">
                <a:solidFill>
                  <a:srgbClr val="402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2" name="Object 21"/>
                <p:cNvSpPr txBox="1"/>
                <p:nvPr/>
              </p:nvSpPr>
              <p:spPr>
                <a:xfrm>
                  <a:off x="3233880" y="1782720"/>
                  <a:ext cx="3352680" cy="11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cover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3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3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3" name="Picture 20" descr="u=111629297,836824017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4" name="AutoShape 2"/>
          <p:cNvSpPr/>
          <p:nvPr/>
        </p:nvSpPr>
        <p:spPr>
          <a:xfrm>
            <a:off x="1908000" y="1484280"/>
            <a:ext cx="1368720" cy="273672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99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配方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3585" name="Group 3"/>
          <p:cNvGrpSpPr/>
          <p:nvPr/>
        </p:nvGrpSpPr>
        <p:grpSpPr>
          <a:xfrm>
            <a:off x="380880" y="-892080"/>
            <a:ext cx="8763120" cy="2769840"/>
            <a:chOff x="380880" y="-892080"/>
            <a:chExt cx="8763120" cy="2769840"/>
          </a:xfrm>
        </p:grpSpPr>
        <p:sp>
          <p:nvSpPr>
            <p:cNvPr id="3586" name="Text Box 4"/>
            <p:cNvSpPr/>
            <p:nvPr/>
          </p:nvSpPr>
          <p:spPr>
            <a:xfrm>
              <a:off x="380880" y="-892080"/>
              <a:ext cx="8763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02000"/>
                  </a:solidFill>
                  <a:latin typeface="Arial"/>
                  <a:ea typeface="黑体"/>
                </a:rPr>
                <a:t>                                </a:t>
              </a:r>
              <a:endParaRPr b="0" lang="en-US" sz="3600" spc="-1" strike="noStrike">
                <a:solidFill>
                  <a:srgbClr val="402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7" name="Object 5"/>
                <p:cNvSpPr txBox="1"/>
                <p:nvPr/>
              </p:nvSpPr>
              <p:spPr>
                <a:xfrm>
                  <a:off x="914400" y="701640"/>
                  <a:ext cx="3352680" cy="11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88" name="Text Box 6"/>
          <p:cNvSpPr/>
          <p:nvPr/>
        </p:nvSpPr>
        <p:spPr>
          <a:xfrm>
            <a:off x="755640" y="4292640"/>
            <a:ext cx="45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Arial"/>
                <a:ea typeface="黑体"/>
              </a:rPr>
              <a:t>y= — (x―6)  +3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89" name="Text Box 7"/>
          <p:cNvSpPr/>
          <p:nvPr/>
        </p:nvSpPr>
        <p:spPr>
          <a:xfrm>
            <a:off x="1547640" y="4724280"/>
            <a:ext cx="4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90" name="Text Box 8"/>
          <p:cNvSpPr/>
          <p:nvPr/>
        </p:nvSpPr>
        <p:spPr>
          <a:xfrm>
            <a:off x="1832040" y="6108840"/>
            <a:ext cx="309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91" name="Text Box 9"/>
          <p:cNvSpPr/>
          <p:nvPr/>
        </p:nvSpPr>
        <p:spPr>
          <a:xfrm>
            <a:off x="1549080" y="4076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92" name="Text Box 10"/>
          <p:cNvSpPr/>
          <p:nvPr/>
        </p:nvSpPr>
        <p:spPr>
          <a:xfrm>
            <a:off x="3565080" y="4221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93" name="Text Box 11"/>
          <p:cNvSpPr/>
          <p:nvPr/>
        </p:nvSpPr>
        <p:spPr>
          <a:xfrm>
            <a:off x="5869080" y="2565360"/>
            <a:ext cx="2736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94" name="Text Box 12"/>
          <p:cNvSpPr/>
          <p:nvPr/>
        </p:nvSpPr>
        <p:spPr>
          <a:xfrm>
            <a:off x="4788000" y="476280"/>
            <a:ext cx="439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你知道是怎样配方的吗？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95" name="Text Box 13"/>
          <p:cNvSpPr/>
          <p:nvPr/>
        </p:nvSpPr>
        <p:spPr>
          <a:xfrm>
            <a:off x="4572000" y="3500280"/>
            <a:ext cx="259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96" name="Text Box 14"/>
          <p:cNvSpPr/>
          <p:nvPr/>
        </p:nvSpPr>
        <p:spPr>
          <a:xfrm>
            <a:off x="4707720" y="1917720"/>
            <a:ext cx="35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Arial"/>
              </a:rPr>
              <a:t>(1)“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提”：提出二次项系数；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97" name="Text Box 15"/>
          <p:cNvSpPr/>
          <p:nvPr/>
        </p:nvSpPr>
        <p:spPr>
          <a:xfrm>
            <a:off x="4682520" y="2637000"/>
            <a:ext cx="37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</a:rPr>
              <a:t>( 2 )“</a:t>
            </a:r>
            <a:r>
              <a:rPr b="1" lang="zh-CN" sz="2800" spc="-1" strike="noStrike">
                <a:solidFill>
                  <a:srgbClr val="111111"/>
                </a:solidFill>
                <a:latin typeface="Arial"/>
              </a:rPr>
              <a:t>配”：括号内配成完全平方；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98" name="Text Box 16"/>
          <p:cNvSpPr/>
          <p:nvPr/>
        </p:nvSpPr>
        <p:spPr>
          <a:xfrm>
            <a:off x="4189320" y="3139920"/>
            <a:ext cx="33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）“化”：化成顶点式。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99" name="Text Box 17"/>
          <p:cNvSpPr/>
          <p:nvPr/>
        </p:nvSpPr>
        <p:spPr>
          <a:xfrm>
            <a:off x="6588000" y="4581360"/>
            <a:ext cx="2362320" cy="1474200"/>
          </a:xfrm>
          <a:prstGeom prst="rect">
            <a:avLst/>
          </a:prstGeom>
          <a:solidFill>
            <a:srgbClr val="d4f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Tahoma"/>
              </a:rPr>
              <a:t>老师提示</a:t>
            </a:r>
            <a:r>
              <a:rPr b="1" lang="en-US" sz="2000" spc="-1" strike="noStrike">
                <a:solidFill>
                  <a:srgbClr val="0099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ahoma"/>
              </a:rPr>
              <a:t>配方后的表达式通常称为</a:t>
            </a:r>
            <a:r>
              <a:rPr b="1" lang="zh-CN" sz="2800" spc="-1" strike="noStrike">
                <a:solidFill>
                  <a:srgbClr val="cc00cc"/>
                </a:solidFill>
                <a:latin typeface="Tahoma"/>
              </a:rPr>
              <a:t>配方式</a:t>
            </a:r>
            <a:r>
              <a:rPr b="1" lang="zh-CN" sz="2800" spc="-1" strike="noStrike">
                <a:solidFill>
                  <a:srgbClr val="402000"/>
                </a:solidFill>
                <a:latin typeface="Tahoma"/>
              </a:rPr>
              <a:t>或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Tahoma"/>
              </a:rPr>
              <a:t>顶点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00" name="AutoShape 18"/>
          <p:cNvSpPr/>
          <p:nvPr/>
        </p:nvSpPr>
        <p:spPr>
          <a:xfrm>
            <a:off x="250920" y="189000"/>
            <a:ext cx="2592360" cy="576000"/>
          </a:xfrm>
          <a:prstGeom prst="flowChartAlternateProcess">
            <a:avLst/>
          </a:prstGeom>
          <a:gradFill rotWithShape="0">
            <a:gsLst>
              <a:gs pos="0">
                <a:srgbClr val="00cc00"/>
              </a:gs>
              <a:gs pos="50000">
                <a:srgbClr val="e7fae7"/>
              </a:gs>
              <a:gs pos="100000">
                <a:srgbClr val="00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01" name="WordArt 19"/>
          <p:cNvSpPr txBox="1"/>
          <p:nvPr/>
        </p:nvSpPr>
        <p:spPr>
          <a:xfrm>
            <a:off x="324000" y="333360"/>
            <a:ext cx="237636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探究新知：</a:t>
            </a:r>
            <a:endParaRPr b="1" lang="en-US" sz="9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3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3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3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3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3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3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3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3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08:52:06Z</dcterms:created>
  <dc:creator>Administrator</dc:creator>
  <dc:description/>
  <cp:keywords/>
  <dc:language>en-US</dc:language>
  <cp:lastModifiedBy>lenovo</cp:lastModifiedBy>
  <cp:lastPrinted>1899-12-30T00:00:00Z</cp:lastPrinted>
  <dcterms:modified xsi:type="dcterms:W3CDTF">2014-09-16T08:23:50Z</dcterms:modified>
  <cp:revision>31</cp:revision>
  <dc:subject/>
  <dc:title>二次函数y=ax^2+bx+c的图象与性质.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